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d-Black and Other Dynamically Balanced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ota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search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tations can be eithe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eft-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ight-rotatio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0720" indent="-282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both trees: th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norder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raversal i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x B y 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rb_tree_rot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9528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934320" y="5029200"/>
            <a:ext cx="22860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5029200"/>
            <a:ext cx="22860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ota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search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tations can be eithe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eft-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ight-rotatio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te that in this rotation, it was necessary to move</a:t>
            </a:r>
            <a:br>
              <a:rPr sz="2000"/>
            </a:b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from the right child of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the left child of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72" name="rb_tree_rot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952880" cy="2095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895480" y="3657600"/>
            <a:ext cx="2590920" cy="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3429000"/>
            <a:ext cx="533160" cy="533520"/>
          </a:xfrm>
          <a:prstGeom prst="ellipse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3429000"/>
            <a:ext cx="533520" cy="533520"/>
          </a:xfrm>
          <a:prstGeom prst="ellipse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d-Black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lack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inary search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ach node is “coloured”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 ordinary binary search tree with node colourings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 make a red-black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b_tree1" descr=""/>
          <p:cNvPicPr/>
          <p:nvPr/>
        </p:nvPicPr>
        <p:blipFill>
          <a:blip r:embed="rId1"/>
          <a:stretch/>
        </p:blipFill>
        <p:spPr>
          <a:xfrm>
            <a:off x="2371680" y="2286000"/>
            <a:ext cx="3724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b_tree1a" descr=""/>
          <p:cNvPicPr/>
          <p:nvPr/>
        </p:nvPicPr>
        <p:blipFill>
          <a:blip r:embed="rId1"/>
          <a:stretch/>
        </p:blipFill>
        <p:spPr>
          <a:xfrm>
            <a:off x="4724280" y="1771560"/>
            <a:ext cx="4029120" cy="2343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d-Black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lack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node 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leaf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0240" y="2971800"/>
            <a:ext cx="341928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exam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b-tree code, you 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senti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des (black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d as the le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contain no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3505320"/>
            <a:ext cx="0" cy="129528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505320"/>
            <a:ext cx="0" cy="129528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4038480"/>
            <a:ext cx="0" cy="83844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038480"/>
            <a:ext cx="0" cy="83844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4038480"/>
            <a:ext cx="0" cy="83844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4038480"/>
            <a:ext cx="0" cy="83844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1520" y="2895480"/>
            <a:ext cx="0" cy="1828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01000" y="3505320"/>
            <a:ext cx="0" cy="12189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1880" y="3505320"/>
            <a:ext cx="0" cy="129528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724280"/>
            <a:ext cx="3886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enti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des (blac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b_tree1a" descr=""/>
          <p:cNvPicPr/>
          <p:nvPr/>
        </p:nvPicPr>
        <p:blipFill>
          <a:blip r:embed="rId1"/>
          <a:stretch/>
        </p:blipFill>
        <p:spPr>
          <a:xfrm>
            <a:off x="4724280" y="1771560"/>
            <a:ext cx="4029120" cy="23432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d-Black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lack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node 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leaf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a node 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 both children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85680" y="3505320"/>
            <a:ext cx="324864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mplies that no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have two adja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But any number of BL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des may be adjace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b_tree1a" descr=""/>
          <p:cNvPicPr/>
          <p:nvPr/>
        </p:nvPicPr>
        <p:blipFill>
          <a:blip r:embed="rId1"/>
          <a:stretch/>
        </p:blipFill>
        <p:spPr>
          <a:xfrm>
            <a:off x="4724280" y="1771560"/>
            <a:ext cx="4029120" cy="2343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d-Black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lack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node 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leaf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a node 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 both children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path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rom a node to a leaf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ntains the same number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nod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5080" y="4479840"/>
            <a:ext cx="33217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roo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3 BLACK no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every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333760" y="2209680"/>
            <a:ext cx="1143000" cy="7621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05160" y="2971800"/>
            <a:ext cx="22860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971800"/>
            <a:ext cx="22860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2209680"/>
            <a:ext cx="533520" cy="22860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238880" y="2438280"/>
            <a:ext cx="15264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2438280"/>
            <a:ext cx="380880" cy="5335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2971800"/>
            <a:ext cx="381240" cy="7621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b_tree1a" descr=""/>
          <p:cNvPicPr/>
          <p:nvPr/>
        </p:nvPicPr>
        <p:blipFill>
          <a:blip r:embed="rId1"/>
          <a:stretch/>
        </p:blipFill>
        <p:spPr>
          <a:xfrm>
            <a:off x="4724280" y="1771560"/>
            <a:ext cx="4029120" cy="2343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d-Black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lack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node 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leaf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a node 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 both children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ry path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rom a node to a leaf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ntains the same number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nod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13160" y="4479840"/>
            <a:ext cx="3643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e length of this path i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height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f th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333760" y="2209680"/>
            <a:ext cx="1143000" cy="7621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05160" y="2971800"/>
            <a:ext cx="22860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2971800"/>
            <a:ext cx="22860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2209680"/>
            <a:ext cx="533520" cy="22860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238880" y="2438280"/>
            <a:ext cx="15264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438280"/>
            <a:ext cx="380880" cy="5335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2971800"/>
            <a:ext cx="381240" cy="7621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b_tree1a" descr=""/>
          <p:cNvPicPr/>
          <p:nvPr/>
        </p:nvPicPr>
        <p:blipFill>
          <a:blip r:embed="rId1"/>
          <a:stretch/>
        </p:blipFill>
        <p:spPr>
          <a:xfrm>
            <a:off x="4724280" y="1771560"/>
            <a:ext cx="4029120" cy="234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d-Black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m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RB-Tree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nodes has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igh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+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Proof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.. See Corme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ssentially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igh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black he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earch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333760" y="2209680"/>
            <a:ext cx="1143000" cy="7621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105160" y="2971800"/>
            <a:ext cx="22860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2971800"/>
            <a:ext cx="22860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2209680"/>
            <a:ext cx="533520" cy="22860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38880" y="2438280"/>
            <a:ext cx="152640" cy="3049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2438280"/>
            <a:ext cx="380880" cy="5335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2971800"/>
            <a:ext cx="381240" cy="7621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71600" y="3124080"/>
            <a:ext cx="2109960" cy="179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a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343400"/>
            <a:ext cx="198108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895480"/>
            <a:ext cx="548640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d-Black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 we’ll see, nodes in red-black trees need to know their parents,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 we need this data structur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3600" y="2438280"/>
            <a:ext cx="639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uct t_red_black_nod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um { red, black } colou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it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uct t_red_black_node *le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ri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par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f a new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quires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-balanc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f the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676520"/>
            <a:ext cx="798336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b_insert( Tree T, node x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Insert in the tree in the usual wa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_insert( T,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Now restore the red-black proper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colour = 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rb_tree_ins1" descr=""/>
          <p:cNvPicPr/>
          <p:nvPr/>
        </p:nvPicPr>
        <p:blipFill>
          <a:blip r:embed="rId1"/>
          <a:stretch/>
        </p:blipFill>
        <p:spPr>
          <a:xfrm>
            <a:off x="3886200" y="297180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35200" y="4664160"/>
            <a:ext cx="28051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he current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4952880"/>
            <a:ext cx="533520" cy="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0360" y="3255840"/>
            <a:ext cx="1757520" cy="1320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648320"/>
            <a:ext cx="609480" cy="53316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earching - Re-visited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if it stays balan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imple binary tree good fo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ic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ollec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ow (preferably zero) frequency of insertions/dele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 collection keeps changing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t’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ynamic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eed to keep the tree balance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examine some basic tre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ful in several way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640" y="914400"/>
            <a:ext cx="926388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b_insert( Tree T, node x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nsert in the tree in the usual wa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ee_insert( T, x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Now restore the red-black proper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colour = 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rb_tree_ins1" descr=""/>
          <p:cNvPicPr/>
          <p:nvPr/>
        </p:nvPicPr>
        <p:blipFill>
          <a:blip r:embed="rId1"/>
          <a:stretch/>
        </p:blipFill>
        <p:spPr>
          <a:xfrm>
            <a:off x="4352760" y="2743200"/>
            <a:ext cx="3724560" cy="2247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00240" y="3048120"/>
            <a:ext cx="4030200" cy="76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we haven’t reached the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x’s parent is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5160" y="411480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4343400"/>
            <a:ext cx="144756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640" y="914400"/>
            <a:ext cx="926388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b_insert( Tree T, node x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nsert in the tree in the usual wa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ee_insert( T, x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Now restore the red-black propert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colour = 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rb_tree_ins1" descr=""/>
          <p:cNvPicPr/>
          <p:nvPr/>
        </p:nvPicPr>
        <p:blipFill>
          <a:blip r:embed="rId1"/>
          <a:stretch/>
        </p:blipFill>
        <p:spPr>
          <a:xfrm>
            <a:off x="4581360" y="2933640"/>
            <a:ext cx="3724560" cy="22478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6000" y="3048120"/>
            <a:ext cx="38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is to the left of it’s gran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3760" y="43275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4556160"/>
            <a:ext cx="144756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9360" y="3886200"/>
            <a:ext cx="2771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4114800"/>
            <a:ext cx="144792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5880" y="914400"/>
            <a:ext cx="95990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Now restore the red-black propert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colour = 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rb_tree_ins1" descr=""/>
          <p:cNvPicPr/>
          <p:nvPr/>
        </p:nvPicPr>
        <p:blipFill>
          <a:blip r:embed="rId1"/>
          <a:stretch/>
        </p:blipFill>
        <p:spPr>
          <a:xfrm>
            <a:off x="4581360" y="2933640"/>
            <a:ext cx="3724560" cy="22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46480" y="3048120"/>
            <a:ext cx="2190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x’s right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un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3760" y="43275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556160"/>
            <a:ext cx="144756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9360" y="3886200"/>
            <a:ext cx="2771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4114800"/>
            <a:ext cx="144792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42320" y="4724280"/>
            <a:ext cx="216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 “unc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b_tree_ins1" descr=""/>
          <p:cNvPicPr/>
          <p:nvPr/>
        </p:nvPicPr>
        <p:blipFill>
          <a:blip r:embed="rId1"/>
          <a:stretch/>
        </p:blipFill>
        <p:spPr>
          <a:xfrm>
            <a:off x="4886280" y="300996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38680" y="4419720"/>
            <a:ext cx="533520" cy="45720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5880" y="871560"/>
            <a:ext cx="9599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3760" y="440388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9360" y="3962520"/>
            <a:ext cx="2771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42320" y="4861080"/>
            <a:ext cx="216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 “unc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2480" y="3733920"/>
            <a:ext cx="4110120" cy="111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un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lours of y, the grand-par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4343400"/>
            <a:ext cx="533520" cy="45720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962520"/>
            <a:ext cx="533160" cy="45720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5880" y="871560"/>
            <a:ext cx="9599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rb_tree_ins1" descr=""/>
          <p:cNvPicPr/>
          <p:nvPr/>
        </p:nvPicPr>
        <p:blipFill>
          <a:blip r:embed="rId1"/>
          <a:stretch/>
        </p:blipFill>
        <p:spPr>
          <a:xfrm>
            <a:off x="304920" y="300996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57320" y="4419720"/>
            <a:ext cx="533520" cy="45720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19440" y="4343400"/>
            <a:ext cx="533160" cy="45720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38200" y="3962520"/>
            <a:ext cx="533520" cy="45720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rb_tree_ins2" descr=""/>
          <p:cNvPicPr/>
          <p:nvPr/>
        </p:nvPicPr>
        <p:blipFill>
          <a:blip r:embed="rId2"/>
          <a:stretch/>
        </p:blipFill>
        <p:spPr>
          <a:xfrm>
            <a:off x="5114880" y="300996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114800" y="4343400"/>
            <a:ext cx="68580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b_tree_ins3" descr=""/>
          <p:cNvPicPr/>
          <p:nvPr/>
        </p:nvPicPr>
        <p:blipFill>
          <a:blip r:embed="rId1"/>
          <a:stretch/>
        </p:blipFill>
        <p:spPr>
          <a:xfrm>
            <a:off x="5029200" y="247644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4080" y="871560"/>
            <a:ext cx="886752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520" y="3030480"/>
            <a:ext cx="3683520" cy="111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s parent is a left agai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x’s un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uncle is black thi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41960" y="4861080"/>
            <a:ext cx="94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553080" y="419076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b_tree_ins3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3720" y="914400"/>
            <a:ext cx="719136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6080" y="2362320"/>
            <a:ext cx="386064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but the uncle is black thi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x is to the right of it’s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3720" y="914400"/>
            <a:ext cx="719136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3360" y="2362320"/>
            <a:ext cx="294156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So move x up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 about x as roo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rb_tree_ins4" descr=""/>
          <p:cNvPicPr/>
          <p:nvPr/>
        </p:nvPicPr>
        <p:blipFill>
          <a:blip r:embed="rId1"/>
          <a:stretch/>
        </p:blipFill>
        <p:spPr>
          <a:xfrm>
            <a:off x="4886280" y="1371600"/>
            <a:ext cx="3724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3720" y="914400"/>
            <a:ext cx="719136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rb_tree_ins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724560" cy="2247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038480" y="2057400"/>
            <a:ext cx="45720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600200"/>
            <a:ext cx="2209680" cy="1752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rb_tree_ins5" descr=""/>
          <p:cNvPicPr/>
          <p:nvPr/>
        </p:nvPicPr>
        <p:blipFill>
          <a:blip r:embed="rId2"/>
          <a:stretch/>
        </p:blipFill>
        <p:spPr>
          <a:xfrm>
            <a:off x="4734000" y="1295280"/>
            <a:ext cx="4333680" cy="2295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48320" y="1752480"/>
            <a:ext cx="2209680" cy="1752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720" y="914400"/>
            <a:ext cx="719136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rb_tree_ins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724560" cy="22478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038480" y="2057400"/>
            <a:ext cx="45720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1600200"/>
            <a:ext cx="2209680" cy="1752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rb_tree_ins5" descr=""/>
          <p:cNvPicPr/>
          <p:nvPr/>
        </p:nvPicPr>
        <p:blipFill>
          <a:blip r:embed="rId2"/>
          <a:stretch/>
        </p:blipFill>
        <p:spPr>
          <a:xfrm>
            <a:off x="4734000" y="1295280"/>
            <a:ext cx="4333680" cy="22957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648320" y="1752480"/>
            <a:ext cx="2209680" cy="1752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13280" y="4359240"/>
            <a:ext cx="363852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x’s parent is still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 Traversal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rsal = visiting every node of a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basic altern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e-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f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igh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4" name="parse_tree" descr=""/>
          <p:cNvPicPr/>
          <p:nvPr/>
        </p:nvPicPr>
        <p:blipFill>
          <a:blip r:embed="rId1"/>
          <a:stretch/>
        </p:blipFill>
        <p:spPr>
          <a:xfrm>
            <a:off x="4452840" y="2330280"/>
            <a:ext cx="4081680" cy="277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8520" y="411480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A  + x + B C  x D E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65280" y="1905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4960" y="268128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4720" y="238932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962520"/>
            <a:ext cx="304920" cy="13716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9880" y="493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962520"/>
            <a:ext cx="2743200" cy="13716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61960" y="49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038480"/>
            <a:ext cx="2057400" cy="121932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4280" y="4876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4114800"/>
            <a:ext cx="83808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114800"/>
            <a:ext cx="761760" cy="106668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24280" y="4800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85840" y="4800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45080" y="321480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02320" y="38242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b_tree_ins5" descr=""/>
          <p:cNvPicPr/>
          <p:nvPr/>
        </p:nvPicPr>
        <p:blipFill>
          <a:blip r:embed="rId1"/>
          <a:stretch/>
        </p:blipFill>
        <p:spPr>
          <a:xfrm>
            <a:off x="4505400" y="1905120"/>
            <a:ext cx="433368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4080" y="871560"/>
            <a:ext cx="87152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8960" y="2590920"/>
            <a:ext cx="283392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cle is black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800" y="4572000"/>
            <a:ext cx="412344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x is to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its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16000" y="3505320"/>
            <a:ext cx="88776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924680" y="281916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b_tree_ins5" descr=""/>
          <p:cNvPicPr/>
          <p:nvPr/>
        </p:nvPicPr>
        <p:blipFill>
          <a:blip r:embed="rId1"/>
          <a:stretch/>
        </p:blipFill>
        <p:spPr>
          <a:xfrm>
            <a:off x="4505400" y="1905120"/>
            <a:ext cx="4333680" cy="22953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080" y="871560"/>
            <a:ext cx="871524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/* case 3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_rotate( T, x-&gt;parent-&gt;pare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0480" y="2590920"/>
            <a:ext cx="371160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we have the final case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b_tree_ins5" descr=""/>
          <p:cNvPicPr/>
          <p:nvPr/>
        </p:nvPicPr>
        <p:blipFill>
          <a:blip r:embed="rId1"/>
          <a:stretch/>
        </p:blipFill>
        <p:spPr>
          <a:xfrm>
            <a:off x="4505400" y="1905120"/>
            <a:ext cx="4333680" cy="22953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080" y="871560"/>
            <a:ext cx="871524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/* case 3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_rotate( T, x-&gt;parent-&gt;pare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03600" y="2575080"/>
            <a:ext cx="238968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col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otate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019560" y="2133720"/>
            <a:ext cx="609480" cy="2286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4080" y="871560"/>
            <a:ext cx="871524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/* case 3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_rotate( T, x-&gt;parent-&gt;pare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rb_tree_ins8" descr=""/>
          <p:cNvPicPr/>
          <p:nvPr/>
        </p:nvPicPr>
        <p:blipFill>
          <a:blip r:embed="rId1"/>
          <a:stretch/>
        </p:blipFill>
        <p:spPr>
          <a:xfrm>
            <a:off x="5372280" y="1828800"/>
            <a:ext cx="3314520" cy="1628640"/>
          </a:xfrm>
          <a:prstGeom prst="rect">
            <a:avLst/>
          </a:prstGeom>
          <a:ln w="0">
            <a:noFill/>
          </a:ln>
        </p:spPr>
      </p:pic>
      <p:pic>
        <p:nvPicPr>
          <p:cNvPr id="346" name="rb_tree_ins7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334040" cy="2295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648320" y="2362320"/>
            <a:ext cx="45720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080" y="871560"/>
            <a:ext cx="871524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/* case 3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_rotate( T, x-&gt;parent-&gt;pare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rb_tree_ins8" descr=""/>
          <p:cNvPicPr/>
          <p:nvPr/>
        </p:nvPicPr>
        <p:blipFill>
          <a:blip r:embed="rId1"/>
          <a:stretch/>
        </p:blipFill>
        <p:spPr>
          <a:xfrm>
            <a:off x="5372280" y="1828800"/>
            <a:ext cx="3314520" cy="1628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848880" y="2133720"/>
            <a:ext cx="380268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now a red-black tree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we’re finish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080" y="871560"/>
            <a:ext cx="871524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(x != T-&gt;root) &amp;&amp; (x-&gt;parent-&gt;colour == red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x-&gt;parent == x-&gt;parent-&gt;parent-&gt;left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If x's parent is a left, y is x's right 'uncle'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 = x-&gt;parent-&gt;parent-&gt;righ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y-&gt;colour == red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1 - change the colour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-&gt;colour = blac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Move x up the tre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y is a black nod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 x == x-&gt;parent-&gt;right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and x is to the right *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case 2 - move x up and rotat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 = x-&gt;par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ft_rotate( T, x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 { /* case 3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colour = bl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&gt;parent-&gt;parent-&gt;colour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ight_rotate( T, x-&gt;parent-&gt;pare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rb_tree_ins8" descr=""/>
          <p:cNvPicPr/>
          <p:nvPr/>
        </p:nvPicPr>
        <p:blipFill>
          <a:blip r:embed="rId1"/>
          <a:stretch/>
        </p:blipFill>
        <p:spPr>
          <a:xfrm>
            <a:off x="5372280" y="1828800"/>
            <a:ext cx="3314520" cy="1628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3600" y="2116080"/>
            <a:ext cx="3712320" cy="111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’s an equivalent se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s when the parent i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ight of the grandpar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523880"/>
            <a:ext cx="0" cy="3505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ed-black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sertio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mparisons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x-up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every stag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moves up the t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least one lev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verall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so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l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haviour in dynamic 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ed Black Tre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What you need to know?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is not a course for masochist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ou can find it in a text-bo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You need to kn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algorithm exis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at it’s calle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n to use 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problem does it sol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ts complexit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asically how it work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re to find an implement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ow to transform it to your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 Traversal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rsal = visiting every node of a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basic altern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-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f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igh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3" name="parse_tree" descr=""/>
          <p:cNvPicPr/>
          <p:nvPr/>
        </p:nvPicPr>
        <p:blipFill>
          <a:blip r:embed="rId1"/>
          <a:stretch/>
        </p:blipFill>
        <p:spPr>
          <a:xfrm>
            <a:off x="4452840" y="2406600"/>
            <a:ext cx="4081680" cy="277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7800" y="4114800"/>
            <a:ext cx="35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x   B + C  x D x E  +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03520" y="2590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06520" y="207180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24320" y="420516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962520"/>
            <a:ext cx="380880" cy="13716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8640" y="5013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962520"/>
            <a:ext cx="2895480" cy="13716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6720" y="501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4038480"/>
            <a:ext cx="2286000" cy="10670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3400" y="4784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4191120"/>
            <a:ext cx="228600" cy="6094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191120"/>
            <a:ext cx="304560" cy="60948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06640" y="367200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12160" y="44337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13840" y="32148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81840" y="42051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114800"/>
            <a:ext cx="990720" cy="76212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4114800"/>
            <a:ext cx="914400" cy="76212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4038480"/>
            <a:ext cx="228600" cy="106704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7160" y="36576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78200" y="426708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04640" y="25146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457760" y="3429000"/>
            <a:ext cx="578520" cy="520200"/>
            <a:chOff x="7457760" y="3429000"/>
            <a:chExt cx="578520" cy="520200"/>
          </a:xfrm>
        </p:grpSpPr>
        <p:sp>
          <p:nvSpPr>
            <p:cNvPr id="87" name=""/>
            <p:cNvSpPr/>
            <p:nvPr/>
          </p:nvSpPr>
          <p:spPr>
            <a:xfrm>
              <a:off x="7457760" y="3429000"/>
              <a:ext cx="578520" cy="520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3516120"/>
              <a:ext cx="304920" cy="30456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819520" y="4191120"/>
            <a:ext cx="228600" cy="6094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4191120"/>
            <a:ext cx="228600" cy="60948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 Traversal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rsal = visiting every node of a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basic altern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st-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f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igh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93" name="parse_tree" descr=""/>
          <p:cNvPicPr/>
          <p:nvPr/>
        </p:nvPicPr>
        <p:blipFill>
          <a:blip r:embed="rId1"/>
          <a:stretch/>
        </p:blipFill>
        <p:spPr>
          <a:xfrm>
            <a:off x="4452840" y="2406600"/>
            <a:ext cx="4081680" cy="277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95080" y="3809880"/>
            <a:ext cx="39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B  C +  D  E x x  F +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03520" y="2590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20720" y="426708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07120" y="441972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560" y="3657600"/>
            <a:ext cx="381240" cy="13716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4708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8760" y="3657600"/>
            <a:ext cx="3048120" cy="13716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4240" y="4708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5080" y="3733920"/>
            <a:ext cx="236232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447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7360" y="3886200"/>
            <a:ext cx="304920" cy="6094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68600" y="3886200"/>
            <a:ext cx="304560" cy="60948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1360" y="365760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73920" y="42814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0560" y="42670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36040" y="36576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1400" y="3809880"/>
            <a:ext cx="990360" cy="76212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78080" y="3809880"/>
            <a:ext cx="990720" cy="76212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9680" y="3733920"/>
            <a:ext cx="228600" cy="106668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94840" y="312408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06800" y="336708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04640" y="25146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756040" y="2133720"/>
            <a:ext cx="578520" cy="520200"/>
            <a:chOff x="5756040" y="2133720"/>
            <a:chExt cx="578520" cy="520200"/>
          </a:xfrm>
        </p:grpSpPr>
        <p:sp>
          <p:nvSpPr>
            <p:cNvPr id="117" name=""/>
            <p:cNvSpPr/>
            <p:nvPr/>
          </p:nvSpPr>
          <p:spPr>
            <a:xfrm>
              <a:off x="5756040" y="2133720"/>
              <a:ext cx="578520" cy="520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92840" y="2220840"/>
              <a:ext cx="304920" cy="30456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354400" y="3886200"/>
            <a:ext cx="304560" cy="6094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5280" y="3886200"/>
            <a:ext cx="304920" cy="60948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 Traversal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st-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f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igh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erse-Po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algebraic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ich traversal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23" name="parse_tree" descr=""/>
          <p:cNvPicPr/>
          <p:nvPr/>
        </p:nvPicPr>
        <p:blipFill>
          <a:blip r:embed="rId1"/>
          <a:stretch/>
        </p:blipFill>
        <p:spPr>
          <a:xfrm>
            <a:off x="4452840" y="1263600"/>
            <a:ext cx="4081680" cy="277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1360" y="297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(((BC+)(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 +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03520" y="1447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20720" y="312408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07120" y="327672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51360" y="251460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73920" y="31384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0560" y="31240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36040" y="25146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94840" y="198108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06800" y="222408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04640" y="13716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756040" y="990720"/>
            <a:ext cx="578520" cy="520200"/>
            <a:chOff x="5756040" y="990720"/>
            <a:chExt cx="578520" cy="520200"/>
          </a:xfrm>
        </p:grpSpPr>
        <p:sp>
          <p:nvSpPr>
            <p:cNvPr id="136" name=""/>
            <p:cNvSpPr/>
            <p:nvPr/>
          </p:nvSpPr>
          <p:spPr>
            <a:xfrm>
              <a:off x="5756040" y="990720"/>
              <a:ext cx="578520" cy="520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92840" y="1077840"/>
              <a:ext cx="304920" cy="30456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14760" y="4343400"/>
            <a:ext cx="33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x(((B+C)(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))+F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Search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search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roduces a sorted list by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n-order travers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:       A D E  G  H K L   M  N O P   T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in_search_tre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343400" cy="2281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4295880"/>
            <a:ext cx="304560" cy="50472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295880"/>
            <a:ext cx="304920" cy="50472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4267080"/>
            <a:ext cx="1066680" cy="609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295880"/>
            <a:ext cx="361800" cy="50472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4295880"/>
            <a:ext cx="304920" cy="50472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267080"/>
            <a:ext cx="1066680" cy="60984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191120"/>
            <a:ext cx="2590920" cy="76176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191120"/>
            <a:ext cx="2514600" cy="76176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295880"/>
            <a:ext cx="304920" cy="50472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4295880"/>
            <a:ext cx="362160" cy="50472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4267080"/>
            <a:ext cx="1143000" cy="609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4267080"/>
            <a:ext cx="914400" cy="60984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Search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search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reserving the ord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bserve that this transformation preserves the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arch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581280"/>
            <a:ext cx="53316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bs_tree1" descr=""/>
          <p:cNvPicPr/>
          <p:nvPr/>
        </p:nvPicPr>
        <p:blipFill>
          <a:blip r:embed="rId1"/>
          <a:stretch/>
        </p:blipFill>
        <p:spPr>
          <a:xfrm>
            <a:off x="952560" y="2638440"/>
            <a:ext cx="3009960" cy="1581120"/>
          </a:xfrm>
          <a:prstGeom prst="rect">
            <a:avLst/>
          </a:prstGeom>
          <a:ln w="0">
            <a:noFill/>
          </a:ln>
        </p:spPr>
      </p:pic>
      <p:pic>
        <p:nvPicPr>
          <p:cNvPr id="158" name="bs_tree2" descr=""/>
          <p:cNvPicPr/>
          <p:nvPr/>
        </p:nvPicPr>
        <p:blipFill>
          <a:blip r:embed="rId2"/>
          <a:stretch/>
        </p:blipFill>
        <p:spPr>
          <a:xfrm>
            <a:off x="5172120" y="2638440"/>
            <a:ext cx="32097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Search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search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reserving the ord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bserve that this transformation preserves the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arch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e’ve performed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otatio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f the sub-tree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bout the T and O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581280"/>
            <a:ext cx="53316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bs_tree1" descr=""/>
          <p:cNvPicPr/>
          <p:nvPr/>
        </p:nvPicPr>
        <p:blipFill>
          <a:blip r:embed="rId1"/>
          <a:stretch/>
        </p:blipFill>
        <p:spPr>
          <a:xfrm>
            <a:off x="952560" y="2638440"/>
            <a:ext cx="3009960" cy="1581120"/>
          </a:xfrm>
          <a:prstGeom prst="rect">
            <a:avLst/>
          </a:prstGeom>
          <a:ln w="0">
            <a:noFill/>
          </a:ln>
        </p:spPr>
      </p:pic>
      <p:pic>
        <p:nvPicPr>
          <p:cNvPr id="163" name="bs_tree2" descr=""/>
          <p:cNvPicPr/>
          <p:nvPr/>
        </p:nvPicPr>
        <p:blipFill>
          <a:blip r:embed="rId2"/>
          <a:stretch/>
        </p:blipFill>
        <p:spPr>
          <a:xfrm>
            <a:off x="5172120" y="2638440"/>
            <a:ext cx="3209760" cy="1581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3657600"/>
            <a:ext cx="762120" cy="380880"/>
          </a:xfrm>
          <a:custGeom>
            <a:avLst/>
            <a:gdLst>
              <a:gd name="textAreaLeft" fmla="*/ 133200 w 762120"/>
              <a:gd name="textAreaRight" fmla="*/ 552600 w 7621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0:58:10Z</dcterms:created>
  <dc:creator>jm</dc:creator>
  <dc:description/>
  <dc:language>en-US</dc:language>
  <cp:lastModifiedBy>jm</cp:lastModifiedBy>
  <cp:lastPrinted>1998-09-08T11:22:36Z</cp:lastPrinted>
  <dcterms:modified xsi:type="dcterms:W3CDTF">1998-09-08T11:23:03Z</dcterms:modified>
  <cp:revision>25</cp:revision>
  <dc:subject/>
  <dc:title>Data Structures and Algorithms</dc:title>
</cp:coreProperties>
</file>