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mplete" descr=""/>
          <p:cNvPicPr/>
          <p:nvPr/>
        </p:nvPicPr>
        <p:blipFill>
          <a:blip r:embed="rId1"/>
          <a:stretch/>
        </p:blipFill>
        <p:spPr>
          <a:xfrm>
            <a:off x="1333440" y="1981080"/>
            <a:ext cx="5829480" cy="2030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erformanc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lete Tre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ince we need at mo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comparisons,</a:t>
            </a:r>
            <a:br>
              <a:rPr sz="24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in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o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ame as binary search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743200"/>
            <a:ext cx="86868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2 &amp; 3 - Summary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2160" y="1604880"/>
            <a:ext cx="19011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,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c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lo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7440" y="1600200"/>
            <a:ext cx="10951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5920" y="1600200"/>
            <a:ext cx="2096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rt -&gt; no a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)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o bin se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15520" y="1600200"/>
            <a:ext cx="1826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876920"/>
            <a:ext cx="761760" cy="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038480" y="3352680"/>
            <a:ext cx="0" cy="152424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352680"/>
            <a:ext cx="228600" cy="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ree_s_add" descr=""/>
          <p:cNvPicPr/>
          <p:nvPr/>
        </p:nvPicPr>
        <p:blipFill>
          <a:blip r:embed="rId1"/>
          <a:stretch/>
        </p:blipFill>
        <p:spPr>
          <a:xfrm>
            <a:off x="3200400" y="1143000"/>
            <a:ext cx="476244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Addition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e need at mo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comparison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reate a new node (constant time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takes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or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o addition to a tree takes</a:t>
            </a:r>
            <a:br>
              <a:rPr sz="24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ime proportional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lso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920" y="4343400"/>
            <a:ext cx="304560" cy="457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191120" y="4343400"/>
            <a:ext cx="304560" cy="457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2040" y="4343400"/>
            <a:ext cx="1433880" cy="1117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gn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ddition - 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960" y="685800"/>
            <a:ext cx="827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void AddToTree( Node *t, Node new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de base = *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f it's a null tree, just add it her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base == NULL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t = new; return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 KeyLess(ItemKey(new-&gt;item),ItemKey(base-&gt;item)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ToTree( &amp;(base-&gt;left), new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ToTree( &amp;(base-&gt;right), new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ddToCollection( collection c, void *item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de new, node_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= (Node)malloc(sizeof(struct t_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ttach the item to the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-&gt;item = 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-&gt;left = new-&gt;right = (Node)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ToTree( &amp;(c-&gt;node), new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Addi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e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ently efficient in every respect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But there’s a catch ………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Addi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this list of characters and form a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 B  C  D  E  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Addi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this list of characters and form a tre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 B  C  D  E  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in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d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elet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07" name="unbal_tree" descr=""/>
          <p:cNvPicPr/>
          <p:nvPr/>
        </p:nvPicPr>
        <p:blipFill>
          <a:blip r:embed="rId1"/>
          <a:stretch/>
        </p:blipFill>
        <p:spPr>
          <a:xfrm>
            <a:off x="4870440" y="1905120"/>
            <a:ext cx="23684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earch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tial Sear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ime is proportional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e call th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ime complexity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nounce this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ig oh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oth arrays (unsorted) and linked lis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orted array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ime proportional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ime complexity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19920" y="3657600"/>
            <a:ext cx="7617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earching - Binary search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the sorted ar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ToCollectio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dds each item in correct 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ind pos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huffle dow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ver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 + 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63de8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ach add to the sorted array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we maintain a sorted arra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cheaper inser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1120" y="3922560"/>
            <a:ext cx="167508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419720" y="3581280"/>
            <a:ext cx="1143000" cy="60984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nsists of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nd Right sub-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sub-trees are binary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ree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5886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ree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588636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5120" y="2971800"/>
            <a:ext cx="47242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nsists of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nd Right sub-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sub-trees are binary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0720" y="2514600"/>
            <a:ext cx="1784880" cy="1320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99000" y="4721400"/>
            <a:ext cx="2324160" cy="1320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ub-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ina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ree_small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4162320" cy="1600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080" y="1905120"/>
            <a:ext cx="530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uct t_nod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item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struct t_node *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uct t_node *righ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def struct t_node *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uct t_collection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Node roo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486400" y="4191120"/>
            <a:ext cx="1371600" cy="4572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3581280"/>
            <a:ext cx="1371600" cy="4572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080" y="1752480"/>
            <a:ext cx="7953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int KeyCmp( void *a, void *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Returns -1, 0, 1 for a &lt; b, a == b, a &gt; b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FindInTree( Node t, void *key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t == (Node)0 ) 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( KeyCmp( key, ItemKey(t-&gt;item) 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-1 : return FindInTree( t-&gt;left, key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0:   return t-&gt;it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+1 : return FindInTree( t-&gt;right, key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FindInCollection( collection c, void *key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ndInTree( c-&gt;root, key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629040" y="3124080"/>
            <a:ext cx="121932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95080" y="2616120"/>
            <a:ext cx="1110240" cy="1116720"/>
          </a:xfrm>
          <a:custGeom>
            <a:avLst/>
            <a:gdLst>
              <a:gd name="textAreaLeft" fmla="*/ 54000 w 1110240"/>
              <a:gd name="textAreaRight" fmla="*/ 1056240 w 1110240"/>
              <a:gd name="textAreaTop" fmla="*/ 54000 h 1116720"/>
              <a:gd name="textAreaBottom" fmla="*/ 1062720 h 1116720"/>
            </a:gdLst>
            <a:ahLst/>
            <a:rect l="textAreaLeft" t="textAreaTop" r="textAreaRight" b="textAreaBottom"/>
            <a:pathLst>
              <a:path w="21600" h="21726">
                <a:moveTo>
                  <a:pt x="3600" y="0"/>
                </a:moveTo>
                <a:arcTo wR="3600" hR="3600" stAng="16200000" swAng="-5400000"/>
                <a:lnTo>
                  <a:pt x="0" y="18126"/>
                </a:lnTo>
                <a:arcTo wR="3600" hR="3600" stAng="10800000" swAng="-5400000"/>
                <a:lnTo>
                  <a:pt x="18000" y="217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3000" y="4648320"/>
            <a:ext cx="1713240" cy="779400"/>
          </a:xfrm>
          <a:prstGeom prst="roundRect">
            <a:avLst>
              <a:gd name="adj" fmla="val 16667"/>
            </a:avLst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172200" y="4572000"/>
            <a:ext cx="99072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key = 22;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if ( FindInCollection( c , &amp;key ) ) …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71" name="tree_s" descr=""/>
          <p:cNvPicPr/>
          <p:nvPr/>
        </p:nvPicPr>
        <p:blipFill>
          <a:blip r:embed="rId1"/>
          <a:stretch/>
        </p:blipFill>
        <p:spPr>
          <a:xfrm>
            <a:off x="152280" y="3409920"/>
            <a:ext cx="4762800" cy="1695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6200" y="2666880"/>
            <a:ext cx="35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c-&gt;roo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InTree( n, &amp;key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400" y="342900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InTree(n-&gt;right,&amp;key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9760" y="403848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InTree(n-&gt;left,&amp;key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560" y="50292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-&gt;it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mplete" descr=""/>
          <p:cNvPicPr/>
          <p:nvPr/>
        </p:nvPicPr>
        <p:blipFill>
          <a:blip r:embed="rId1"/>
          <a:stretch/>
        </p:blipFill>
        <p:spPr>
          <a:xfrm>
            <a:off x="1333440" y="1981080"/>
            <a:ext cx="5829480" cy="20304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erformanc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lete Tre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54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54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54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54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54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54200" indent="-28296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eight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2" marL="11692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 traversed in a path from the root to a lea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Number of node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2" marL="11692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 +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… +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= 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floor(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8-07-20T17:00:38Z</cp:lastPrinted>
  <dcterms:modified xsi:type="dcterms:W3CDTF">1999-07-20T03:51:44Z</dcterms:modified>
  <cp:revision>9</cp:revision>
  <dc:subject/>
  <dc:title>PLSD210(ii)</dc:title>
</cp:coreProperties>
</file>