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 Re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pth-Firs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2680" y="1752480"/>
            <a:ext cx="658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visit( graph g, int k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jListNode al_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-&gt;visited[k] = ++search_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_node = ListHead( g-&gt;adj_list[k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 n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 = ANodeIndex( ListItem( al_node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!g-&gt;visited[j] ) visit( g, j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_node = ListNext( al_nod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143000"/>
            <a:ext cx="4863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acency List version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3120" y="3124080"/>
            <a:ext cx="466128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T with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ode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 - Breadth-first Traversal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acency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ime complexity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ted set for each 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dge visited tw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nce in each adjacency lis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|V| + |E|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ns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|E| ~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b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|V|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pars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|E| ~ |V|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acency Lists perform better for sparse graph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 - Breadth-first Traversal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dth-first requires a FIFO 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7080" y="1828800"/>
            <a:ext cx="578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queue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arch( graph g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q = ConsQueue( g-&gt;n_nodes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k=0;k&lt;g-&gt;n_nodes;k++) g-&gt;visited[k]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_index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k=0;k&lt;g-&gt;n_nodes;k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!g-&gt;visited[k] ) visit( g, k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isit( graph g, int k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_node al_n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IntToQueue( q, k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 !Empty( q 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 = QueueHead( q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-&gt;visited[k] = ++search_ind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514600"/>
            <a:ext cx="38862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 - Breadth-first Traversal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dth-first requires a FIFO 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7280" y="1752480"/>
            <a:ext cx="6520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isit( graph g, int k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_node al_n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IntToQueue( q, k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 !Empty( q 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 = QueueHead( q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-&gt;visited[k] = ++search_ind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_node = ListHead( g-&gt;adj_list[k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 al_node != NULL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 = ANodeIndex(al_no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!g-&gt;visited[j]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IntToQueue( g, j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-&gt;visited[j] = -1; /* C hack, 0 = false!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_node = ListNext( al_nod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0760" y="2438280"/>
            <a:ext cx="34452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this node o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ata Structur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ap to consecutive integer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ore vertices in an array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djacency Matrix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s 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- edge exis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E - no ed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|V|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adj_mat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905120" cy="1952640"/>
          </a:xfrm>
          <a:prstGeom prst="rect">
            <a:avLst/>
          </a:prstGeom>
          <a:ln w="0">
            <a:noFill/>
          </a:ln>
        </p:spPr>
      </p:pic>
      <p:pic>
        <p:nvPicPr>
          <p:cNvPr id="43" name="graph_sm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ata Structur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djacency Matrix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|V|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ompa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1 bit/entr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directe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p half onl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dj_mat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90512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graph_sm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ata Structur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djacency Lis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vert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List of vertices “attached” to it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ed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2 entri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ne in the list for each en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|E|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Symbol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etter for sparse graph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ph_sm" descr=""/>
          <p:cNvPicPr/>
          <p:nvPr/>
        </p:nvPicPr>
        <p:blipFill>
          <a:blip r:embed="rId1"/>
          <a:stretch/>
        </p:blipFill>
        <p:spPr>
          <a:xfrm>
            <a:off x="6019920" y="10382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adj_list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9440" y="4648320"/>
            <a:ext cx="30243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rected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ravers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epth-First / Breadth-firs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pth Fir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e an array of flags to mark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“visited” nod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4419720"/>
            <a:ext cx="5257800" cy="761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886200"/>
            <a:ext cx="624852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066680"/>
            <a:ext cx="6400800" cy="1676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pth-Firs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6880" y="1066680"/>
            <a:ext cx="649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t_graph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_nod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aph_node *nod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visit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jMatrix a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int search_index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earch( graph g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k=0;k&lt;g-&gt;n_nodes;k++) g-&gt;visited[k]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arch_index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k=0;k&lt;g-&gt;n_nodes;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!g-&gt;visited[k] ) visit( g, k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0800" y="121932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91080" y="2133720"/>
            <a:ext cx="4049640" cy="398880"/>
          </a:xfrm>
          <a:prstGeom prst="leftArrowCallout">
            <a:avLst>
              <a:gd name="adj1" fmla="val 21169"/>
              <a:gd name="adj2" fmla="val 28833"/>
              <a:gd name="adj3" fmla="val 88412"/>
              <a:gd name="adj4" fmla="val 66673"/>
            </a:avLst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cy Matrix 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0520" y="3413160"/>
            <a:ext cx="3545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all nodes “not visit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9360" y="4267080"/>
            <a:ext cx="2500200" cy="10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t all th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ed to node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905120"/>
            <a:ext cx="48765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209680"/>
            <a:ext cx="6248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pth-Firs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37960" y="1676520"/>
            <a:ext cx="3351960" cy="703800"/>
          </a:xfrm>
          <a:prstGeom prst="leftArrowCallout">
            <a:avLst>
              <a:gd name="adj1" fmla="val 11594"/>
              <a:gd name="adj2" fmla="val 21676"/>
              <a:gd name="adj3" fmla="val 38366"/>
              <a:gd name="adj4" fmla="val 84355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order in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node was 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40480" y="3276720"/>
            <a:ext cx="351540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t all the nodes adjac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960" y="1263600"/>
            <a:ext cx="658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visit( graph g, int k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-&gt;visited[k] = ++search_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g-&gt;n_nodes;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adjacent( g-&gt;am, k, j 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!g-&gt;visited[j] ) visit( g, j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905120"/>
            <a:ext cx="48765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209680"/>
            <a:ext cx="6248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pth-Firs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7960" y="1676520"/>
            <a:ext cx="3351960" cy="703800"/>
          </a:xfrm>
          <a:prstGeom prst="leftArrowCallout">
            <a:avLst>
              <a:gd name="adj1" fmla="val 11594"/>
              <a:gd name="adj2" fmla="val 21676"/>
              <a:gd name="adj3" fmla="val 38366"/>
              <a:gd name="adj4" fmla="val 84355"/>
            </a:avLst>
          </a:prstGeom>
          <a:solidFill>
            <a:srgbClr val="99cc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order in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node was 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0480" y="3276720"/>
            <a:ext cx="351540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t all the nodes adjac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960" y="1263600"/>
            <a:ext cx="658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visit( graph g, int k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-&gt;visited[k] = ++search_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g-&gt;n_nodes;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adjacent( g-&gt;am, k, j )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!g-&gt;visited[j] ) visit( g, j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819520"/>
            <a:ext cx="2286000" cy="457200"/>
          </a:xfrm>
          <a:prstGeom prst="rect">
            <a:avLst/>
          </a:prstGeom>
          <a:noFill/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5320" y="4114800"/>
            <a:ext cx="4292640" cy="703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hack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be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-&gt;visited[j] !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00400" y="3276720"/>
            <a:ext cx="0" cy="8380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0640" y="4876920"/>
            <a:ext cx="5585040" cy="3988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arch_index == 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means not visited ye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pth-Firs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143000"/>
            <a:ext cx="4863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acency List version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2680" y="1752480"/>
            <a:ext cx="658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visit( graph g, int k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jListNode al_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-&gt;visited[k] = ++search_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_node = ListHead( g-&gt;adj_list[k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 n != NULL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 = ANodeIndex( ListItem( al_node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!g-&gt;visited[j] ) visit( g, j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_node = ListNext( al_nod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9-13T15:52:06Z</cp:lastPrinted>
  <dcterms:modified xsi:type="dcterms:W3CDTF">1998-09-13T15:54:04Z</dcterms:modified>
  <cp:revision>12</cp:revision>
  <dc:subject/>
  <dc:title>PLSD210(ii)</dc:title>
</cp:coreProperties>
</file>