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4BAE-C330-466A-A1B3-096DEB84C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399A-5CA3-4BE4-80C1-F5BBF570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86EE-BEC0-48F3-ACBD-ADB88C49E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BC13-9186-48A7-96D9-EFDDF232D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6046-A1E6-4F1A-B970-FA18CB07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B1E6-2A67-40B5-9357-2AE362C8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F8EE-2D40-44EE-8490-5946DB35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1EF7-4A11-4FC1-9BCE-F5AE2DB8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E265-3207-4104-A089-BC8F089E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E8C1-90F5-40CF-A8CB-B48AEE48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D36C-0F0C-4233-A84C-06D4EBD2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6183-6928-4B7E-9B3D-2C85DFB9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C26D-5E25-494A-A836-A33F88AEC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1523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gures from Chapter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loring the Online Booksh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3809520"/>
            <a:ext cx="8610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k Draheim, Gerald We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-Oriented Analys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inger, October 200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-2289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Data model of the online boo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40" y="650628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9880" y="1295280"/>
            <a:ext cx="1600200" cy="106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 u="sng">
                <a:solidFill>
                  <a:srgbClr val="000000"/>
                </a:solidFill>
                <a:uFillTx/>
                <a:latin typeface="Times New Roman"/>
              </a:rPr>
              <a:t>Book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title:St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abstract:St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rice: Am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3640" y="1371600"/>
            <a:ext cx="154008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 u="sng">
                <a:solidFill>
                  <a:srgbClr val="000000"/>
                </a:solidFill>
                <a:uFillTx/>
                <a:latin typeface="Times New Roman"/>
              </a:rPr>
              <a:t>Categ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name:St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486400"/>
            <a:ext cx="1600200" cy="106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 u="sng">
                <a:solidFill>
                  <a:srgbClr val="000000"/>
                </a:solidFill>
                <a:uFillTx/>
                <a:latin typeface="Times New Roman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email:St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fullName:St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assword:St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89880" y="1539720"/>
            <a:ext cx="138744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 u="sng">
                <a:solidFill>
                  <a:srgbClr val="000000"/>
                </a:solidFill>
                <a:uFillTx/>
                <a:latin typeface="Times New Roman"/>
              </a:rPr>
              <a:t>Author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name:St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91120" y="4495680"/>
            <a:ext cx="83808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 u="sng">
                <a:solidFill>
                  <a:srgbClr val="000000"/>
                </a:solidFill>
                <a:uFillTx/>
                <a:latin typeface="Times New Roman"/>
              </a:rPr>
              <a:t>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45760" y="1905120"/>
            <a:ext cx="77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auth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92200" y="2438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9880" y="3216240"/>
            <a:ext cx="160020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 u="sng">
                <a:solidFill>
                  <a:srgbClr val="000000"/>
                </a:solidFill>
                <a:uFillTx/>
                <a:latin typeface="Times New Roman"/>
              </a:rPr>
              <a:t>OrderI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quantity: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16240" y="388620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1..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2200" y="5105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17680" y="106668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0..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01840" y="144792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0..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40800" y="1828800"/>
            <a:ext cx="13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featuredBoo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73640" y="152388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1..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79" idx="3"/>
            <a:endCxn id="164" idx="1"/>
          </p:cNvCxnSpPr>
          <p:nvPr/>
        </p:nvCxnSpPr>
        <p:spPr>
          <a:xfrm>
            <a:off x="2133720" y="1836360"/>
            <a:ext cx="1676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" name=""/>
          <p:cNvCxnSpPr>
            <a:stCxn id="181" idx="3"/>
            <a:endCxn id="165" idx="0"/>
          </p:cNvCxnSpPr>
          <p:nvPr/>
        </p:nvCxnSpPr>
        <p:spPr>
          <a:xfrm flipH="1" flipV="1">
            <a:off x="1362960" y="1371240"/>
            <a:ext cx="770760" cy="115200"/>
          </a:xfrm>
          <a:prstGeom prst="bentConnector4">
            <a:avLst>
              <a:gd name="adj1" fmla="val -29672"/>
              <a:gd name="adj2" fmla="val 64858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" name=""/>
          <p:cNvCxnSpPr>
            <a:stCxn id="164" idx="3"/>
            <a:endCxn id="167" idx="1"/>
          </p:cNvCxnSpPr>
          <p:nvPr/>
        </p:nvCxnSpPr>
        <p:spPr>
          <a:xfrm>
            <a:off x="5409720" y="1836360"/>
            <a:ext cx="1280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" name=""/>
          <p:cNvCxnSpPr>
            <a:stCxn id="168" idx="0"/>
            <a:endCxn id="171" idx="2"/>
          </p:cNvCxnSpPr>
          <p:nvPr/>
        </p:nvCxnSpPr>
        <p:spPr>
          <a:xfrm flipV="1">
            <a:off x="4609800" y="38091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" name=""/>
          <p:cNvCxnSpPr>
            <a:stCxn id="171" idx="0"/>
            <a:endCxn id="164" idx="2"/>
          </p:cNvCxnSpPr>
          <p:nvPr/>
        </p:nvCxnSpPr>
        <p:spPr>
          <a:xfrm flipV="1">
            <a:off x="4609800" y="237780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" name=""/>
          <p:cNvCxnSpPr>
            <a:stCxn id="168" idx="2"/>
            <a:endCxn id="166" idx="0"/>
          </p:cNvCxnSpPr>
          <p:nvPr/>
        </p:nvCxnSpPr>
        <p:spPr>
          <a:xfrm>
            <a:off x="4609800" y="4844880"/>
            <a:ext cx="1080" cy="64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6" name=""/>
          <p:cNvSpPr/>
          <p:nvPr/>
        </p:nvSpPr>
        <p:spPr>
          <a:xfrm>
            <a:off x="990720" y="3962520"/>
            <a:ext cx="1981080" cy="1554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 u="sng">
                <a:solidFill>
                  <a:srgbClr val="000000"/>
                </a:solidFill>
                <a:uFillTx/>
                <a:latin typeface="Times New Roman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streetAddress:St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ity:St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state:St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zip: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untry:St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4267080"/>
            <a:ext cx="2209680" cy="131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 u="sng">
                <a:solidFill>
                  <a:srgbClr val="000000"/>
                </a:solidFill>
                <a:uFillTx/>
                <a:latin typeface="Times New Roman"/>
              </a:rPr>
              <a:t>Card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ardType:Card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ardNumber:St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expiration: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ardholder:Str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"/>
          <p:cNvCxnSpPr>
            <a:stCxn id="166" idx="1"/>
            <a:endCxn id="186" idx="2"/>
          </p:cNvCxnSpPr>
          <p:nvPr/>
        </p:nvCxnSpPr>
        <p:spPr>
          <a:xfrm rot="10800000">
            <a:off x="1980360" y="5533200"/>
            <a:ext cx="1829520" cy="494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" name=""/>
          <p:cNvCxnSpPr>
            <a:stCxn id="166" idx="3"/>
            <a:endCxn id="187" idx="2"/>
          </p:cNvCxnSpPr>
          <p:nvPr/>
        </p:nvCxnSpPr>
        <p:spPr>
          <a:xfrm flipV="1">
            <a:off x="5409720" y="5594040"/>
            <a:ext cx="2172600" cy="4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0" name=""/>
          <p:cNvSpPr/>
          <p:nvPr/>
        </p:nvSpPr>
        <p:spPr>
          <a:xfrm>
            <a:off x="2001600" y="5530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35720" y="5683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27880" y="243828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i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05640" y="38862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orderI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78720" y="514980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bu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9560" y="1066680"/>
            <a:ext cx="128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subcateg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05120" y="172260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5120" y="137160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5160" y="5683320"/>
            <a:ext cx="149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ard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45520" y="55306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-766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.1. Welcome screen of the online boo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40" y="650628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219320"/>
            <a:ext cx="8229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Welcome to Our Online Bookstor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You can choo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 u="sng">
                <a:solidFill>
                  <a:srgbClr val="000000"/>
                </a:solidFill>
                <a:uFillTx/>
                <a:latin typeface="Times New Roman"/>
              </a:rPr>
              <a:t>Browse the book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 u="sng">
                <a:solidFill>
                  <a:srgbClr val="000000"/>
                </a:solidFill>
                <a:uFillTx/>
                <a:latin typeface="Times New Roman"/>
              </a:rPr>
              <a:t>View C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 u="sng">
                <a:solidFill>
                  <a:srgbClr val="000000"/>
                </a:solidFill>
                <a:uFillTx/>
                <a:latin typeface="Times New Roman"/>
              </a:rPr>
              <a:t>Lo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gister as a new 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Our recommend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sz="1800" spc="-1" strike="noStrike">
                <a:solidFill>
                  <a:srgbClr val="000000"/>
                </a:solidFill>
                <a:latin typeface="Times New Roman"/>
              </a:rPr>
              <a:t>Richard Adams. Watership Down. </a:t>
            </a:r>
            <a:r>
              <a:rPr b="0" sz="1800" spc="-1" strike="noStrike" u="sng">
                <a:solidFill>
                  <a:srgbClr val="000000"/>
                </a:solidFill>
                <a:uFillTx/>
                <a:latin typeface="Times New Roman"/>
              </a:rPr>
              <a:t>view detai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sz="1800" spc="-1" strike="noStrike">
                <a:solidFill>
                  <a:srgbClr val="000000"/>
                </a:solidFill>
                <a:latin typeface="Times New Roman"/>
              </a:rPr>
              <a:t>Niccolo Machiavelli. Discourses.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800" spc="-1" strike="noStrike" u="sng">
                <a:solidFill>
                  <a:srgbClr val="000000"/>
                </a:solidFill>
                <a:uFillTx/>
                <a:latin typeface="Times New Roman"/>
              </a:rPr>
              <a:t>view detai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sz="1800" spc="-1" strike="noStrike">
                <a:solidFill>
                  <a:srgbClr val="000000"/>
                </a:solidFill>
                <a:latin typeface="Times New Roman"/>
              </a:rPr>
              <a:t>Willard Quine. Word and Object. </a:t>
            </a:r>
            <a:r>
              <a:rPr b="0" sz="1800" spc="-1" strike="noStrike" u="sng">
                <a:solidFill>
                  <a:srgbClr val="000000"/>
                </a:solidFill>
                <a:uFillTx/>
                <a:latin typeface="Times New Roman"/>
              </a:rPr>
              <a:t>view detai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earch for a book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99880" y="5310360"/>
            <a:ext cx="803880" cy="368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9800" y="5313240"/>
            <a:ext cx="29718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05920" cy="4724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-766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 screen of the online boo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40" y="650628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1295280"/>
            <a:ext cx="42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4890960"/>
            <a:ext cx="268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gister as a new 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1760" y="3351240"/>
            <a:ext cx="210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Your e-mail addres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Your passwor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35440" y="3579840"/>
            <a:ext cx="727920" cy="368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8120" y="3351240"/>
            <a:ext cx="2971800" cy="34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8120" y="3884760"/>
            <a:ext cx="2971800" cy="34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190512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Times New Roman"/>
              </a:rPr>
              <a:t>An error occurr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Times New Roman"/>
              </a:rPr>
              <a:t>The password that you provided did not match your e-mail address. Please try to log in again or register as a new custo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360" y="129528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 u="sng">
                <a:solidFill>
                  <a:srgbClr val="000000"/>
                </a:solidFill>
                <a:uFillTx/>
                <a:latin typeface="Times New Roman"/>
              </a:rPr>
              <a:t>Welcome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143000"/>
            <a:ext cx="8381880" cy="441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-1526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Registration screen of the online boo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40" y="650628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990720"/>
            <a:ext cx="42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Customer Reg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86240" y="106668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 u="sng">
                <a:solidFill>
                  <a:srgbClr val="000000"/>
                </a:solidFill>
                <a:uFillTx/>
                <a:latin typeface="Times New Roman"/>
              </a:rPr>
              <a:t>Welcome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9520" y="1900080"/>
            <a:ext cx="1675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3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E-mail Addres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ull Nam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44760" y="1981080"/>
            <a:ext cx="24321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344280" y="3657600"/>
            <a:ext cx="944280" cy="368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44760" y="2362320"/>
            <a:ext cx="24321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44760" y="3048120"/>
            <a:ext cx="24321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44760" y="3429000"/>
            <a:ext cx="24321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44760" y="4191120"/>
            <a:ext cx="24321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44760" y="3809880"/>
            <a:ext cx="24321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44760" y="4572000"/>
            <a:ext cx="24321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10280" y="2349360"/>
            <a:ext cx="17528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82200" y="2273400"/>
            <a:ext cx="18144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3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asswor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Repeat Passwor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010280" y="2730600"/>
            <a:ext cx="17528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14600" y="5638680"/>
            <a:ext cx="30492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5638680"/>
            <a:ext cx="1524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52880" y="5638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5638680"/>
            <a:ext cx="1523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WhateverC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590920" y="5790600"/>
            <a:ext cx="152280" cy="759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257800" y="5638680"/>
            <a:ext cx="30492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334120" y="5790600"/>
            <a:ext cx="152280" cy="759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52880" y="5638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38680" y="5638680"/>
            <a:ext cx="6098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48520" y="5638680"/>
            <a:ext cx="30456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324480" y="5790600"/>
            <a:ext cx="152640" cy="759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0" y="5638680"/>
            <a:ext cx="1523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98560" y="5319720"/>
            <a:ext cx="748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Card Type                        Credit Card No.        Expiration Date          Cardhol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838080"/>
            <a:ext cx="8534520" cy="5639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800" y="2963880"/>
            <a:ext cx="158580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3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treet Addres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ta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ZI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untr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-1526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Category screen of the online boo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40" y="650628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676520"/>
            <a:ext cx="3048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Browse subcategori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o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800" spc="-1" strike="noStrike" u="sng">
                <a:solidFill>
                  <a:srgbClr val="000000"/>
                </a:solidFill>
                <a:uFillTx/>
                <a:latin typeface="Times New Roman"/>
              </a:rPr>
              <a:t>Philosop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800" spc="-1" strike="noStrike" u="sng">
                <a:solidFill>
                  <a:srgbClr val="000000"/>
                </a:solidFill>
                <a:uFillTx/>
                <a:latin typeface="Times New Roman"/>
              </a:rPr>
              <a:t>Lit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800" spc="-1" strike="noStrike" u="sng">
                <a:solidFill>
                  <a:srgbClr val="000000"/>
                </a:solidFill>
                <a:uFillTx/>
                <a:latin typeface="Times New Roman"/>
              </a:rPr>
              <a:t>Science Fi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800" spc="-1" strike="noStrike" u="sng">
                <a:solidFill>
                  <a:srgbClr val="000000"/>
                </a:solidFill>
                <a:uFillTx/>
                <a:latin typeface="Times New Roman"/>
              </a:rPr>
              <a:t>S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82680" y="5843520"/>
            <a:ext cx="803880" cy="368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22240" y="5884920"/>
            <a:ext cx="2971800" cy="34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9960" y="955800"/>
            <a:ext cx="45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Category: All Boo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394344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Our recommend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sz="1800" spc="-1" strike="noStrike">
                <a:solidFill>
                  <a:srgbClr val="000000"/>
                </a:solidFill>
                <a:latin typeface="Times New Roman"/>
              </a:rPr>
              <a:t>Richard Adams. Watership Down. </a:t>
            </a:r>
            <a:r>
              <a:rPr b="0" sz="1800" spc="-1" strike="noStrike" u="sng">
                <a:solidFill>
                  <a:srgbClr val="000000"/>
                </a:solidFill>
                <a:uFillTx/>
                <a:latin typeface="Times New Roman"/>
              </a:rPr>
              <a:t>view detai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sz="1800" spc="-1" strike="noStrike">
                <a:solidFill>
                  <a:srgbClr val="000000"/>
                </a:solidFill>
                <a:latin typeface="Times New Roman"/>
              </a:rPr>
              <a:t>Niccolo Machiavelli. Discourses.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800" spc="-1" strike="noStrike" u="sng">
                <a:solidFill>
                  <a:srgbClr val="000000"/>
                </a:solidFill>
                <a:uFillTx/>
                <a:latin typeface="Times New Roman"/>
              </a:rPr>
              <a:t>view detai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sz="1800" spc="-1" strike="noStrike">
                <a:solidFill>
                  <a:srgbClr val="000000"/>
                </a:solidFill>
                <a:latin typeface="Times New Roman"/>
              </a:rPr>
              <a:t>Willard Quine. Word and Object. </a:t>
            </a:r>
            <a:r>
              <a:rPr b="0" sz="1800" spc="-1" strike="noStrike" u="sng">
                <a:solidFill>
                  <a:srgbClr val="000000"/>
                </a:solidFill>
                <a:uFillTx/>
                <a:latin typeface="Times New Roman"/>
              </a:rPr>
              <a:t>view detai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1760" y="550080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earch for a book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16120" y="914400"/>
            <a:ext cx="346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 u="sng">
                <a:solidFill>
                  <a:srgbClr val="000000"/>
                </a:solidFill>
                <a:uFillTx/>
                <a:latin typeface="Times New Roman"/>
              </a:rPr>
              <a:t>Welcome Page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 u="sng">
                <a:solidFill>
                  <a:srgbClr val="000000"/>
                </a:solidFill>
                <a:uFillTx/>
                <a:latin typeface="Times New Roman"/>
              </a:rPr>
              <a:t>View C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 u="sng">
                <a:solidFill>
                  <a:srgbClr val="000000"/>
                </a:solidFill>
                <a:uFillTx/>
                <a:latin typeface="Times New Roman"/>
              </a:rPr>
              <a:t>Login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gister as a new 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60960" y="42670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60960" y="45720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60960" y="48769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60200" y="4349880"/>
            <a:ext cx="1925640" cy="64260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Add selected 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to c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762120"/>
            <a:ext cx="8610480" cy="5715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5880" y="4305240"/>
            <a:ext cx="152640" cy="152640"/>
          </a:xfrm>
          <a:custGeom>
            <a:avLst/>
            <a:gdLst/>
            <a:ahLst/>
            <a:rect l="l" t="t" r="r" b="b"/>
            <a:pathLst>
              <a:path w="96" h="96">
                <a:moveTo>
                  <a:pt x="0" y="48"/>
                </a:moveTo>
                <a:lnTo>
                  <a:pt x="48" y="96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4915080"/>
            <a:ext cx="152640" cy="152280"/>
          </a:xfrm>
          <a:custGeom>
            <a:avLst/>
            <a:gdLst/>
            <a:ahLst/>
            <a:rect l="l" t="t" r="r" b="b"/>
            <a:pathLst>
              <a:path w="96" h="96">
                <a:moveTo>
                  <a:pt x="0" y="48"/>
                </a:moveTo>
                <a:lnTo>
                  <a:pt x="48" y="96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-766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Book page of the online boo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40" y="650628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69960" y="1219320"/>
            <a:ext cx="42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Form-Oriented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89000" y="1111320"/>
            <a:ext cx="346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 u="sng">
                <a:solidFill>
                  <a:srgbClr val="000000"/>
                </a:solidFill>
                <a:uFillTx/>
                <a:latin typeface="Times New Roman"/>
              </a:rPr>
              <a:t>Welcome Page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 u="sng">
                <a:solidFill>
                  <a:srgbClr val="000000"/>
                </a:solidFill>
                <a:uFillTx/>
                <a:latin typeface="Times New Roman"/>
              </a:rPr>
              <a:t>View C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 u="sng">
                <a:solidFill>
                  <a:srgbClr val="000000"/>
                </a:solidFill>
                <a:uFillTx/>
                <a:latin typeface="Times New Roman"/>
              </a:rPr>
              <a:t>Login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gister as a new 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06360" y="5905440"/>
            <a:ext cx="803880" cy="368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46280" y="5946840"/>
            <a:ext cx="2971800" cy="34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440" y="556272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earch for a book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2286000"/>
            <a:ext cx="6933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Authors: Dirk Draheim, Gerald We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Abstract: What is the business logic of an enterprise system? How do I specify it in such a way that I know how to transform it into a running system, by skill and by automated tool support? This book gives a self-contained introduction to the modeling and development of business logic for enterprise system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rice: $ 79,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77600" y="4419720"/>
            <a:ext cx="1477800" cy="64260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Add this b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to c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838080"/>
            <a:ext cx="8534520" cy="5639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-1526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Shopping cart of the online boo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40" y="650628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914400"/>
            <a:ext cx="42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My Shopping C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3200" y="2144880"/>
            <a:ext cx="4810680" cy="24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Book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Quine: Word and Object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1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12.46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Wittgenstein: Tractatus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1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23.06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Varela: The Embodied Mind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2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44.6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Adams: Watership Down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7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62.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00720" y="852480"/>
            <a:ext cx="15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 u="sng">
                <a:solidFill>
                  <a:srgbClr val="000000"/>
                </a:solidFill>
                <a:uFillTx/>
                <a:latin typeface="Times New Roman"/>
              </a:rPr>
              <a:t>Welcome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 u="sng">
                <a:solidFill>
                  <a:srgbClr val="000000"/>
                </a:solidFill>
                <a:uFillTx/>
                <a:latin typeface="Times New Roman"/>
              </a:rPr>
              <a:t>Log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87280" y="5919840"/>
            <a:ext cx="803880" cy="368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6280" y="5961240"/>
            <a:ext cx="2971800" cy="34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440" y="557676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earch for a book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26780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57600" y="321156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2651040"/>
            <a:ext cx="1295640" cy="3070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Times New Roman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680" y="3184560"/>
            <a:ext cx="1295640" cy="3070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Times New Roman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3718080"/>
            <a:ext cx="1295640" cy="3070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Times New Roman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251240"/>
            <a:ext cx="1295640" cy="3070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Times New Roman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57600" y="371808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57600" y="4251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01480" y="5410080"/>
            <a:ext cx="1116360" cy="64260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Buy 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in c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762120"/>
            <a:ext cx="8458200" cy="5715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01000" y="4762440"/>
            <a:ext cx="735480" cy="3070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-766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Order information page of the online boo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40" y="650628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1219320"/>
            <a:ext cx="42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Order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2362320"/>
            <a:ext cx="762012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Shipping Details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Payment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John Q. Public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WhateverCard, ***- 867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49 Nowhere Lane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Expiration: 01/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New Haven, Connecticut 06511, U.S.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Book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  Pr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Quine: Word and Object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1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12.46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Wittgenstein: Tractatus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1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23.06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Varela: The Embodied Mind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2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44.6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Adams: Watership Down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7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62.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142.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62640" y="4648320"/>
            <a:ext cx="1695600" cy="368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lace your 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66040" y="1187280"/>
            <a:ext cx="274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 u="sng">
                <a:solidFill>
                  <a:srgbClr val="000000"/>
                </a:solidFill>
                <a:uFillTx/>
                <a:latin typeface="Times New Roman"/>
              </a:rPr>
              <a:t>Welcome Page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 u="sng">
                <a:solidFill>
                  <a:srgbClr val="000000"/>
                </a:solidFill>
                <a:uFillTx/>
                <a:latin typeface="Times New Roman"/>
              </a:rPr>
              <a:t>View C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 u="sng">
                <a:solidFill>
                  <a:srgbClr val="000000"/>
                </a:solidFill>
                <a:uFillTx/>
                <a:latin typeface="Times New Roman"/>
              </a:rPr>
              <a:t>Logout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sz="1800" spc="-1" strike="noStrike" u="sng">
                <a:solidFill>
                  <a:srgbClr val="000000"/>
                </a:solidFill>
                <a:uFillTx/>
                <a:latin typeface="Times New Roman"/>
              </a:rPr>
              <a:t>Edit 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066680"/>
            <a:ext cx="8001000" cy="5105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-2289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Search result page of the online boo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40" y="650628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9960" y="879480"/>
            <a:ext cx="42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Search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16120" y="806400"/>
            <a:ext cx="346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 u="sng">
                <a:solidFill>
                  <a:srgbClr val="000000"/>
                </a:solidFill>
                <a:uFillTx/>
                <a:latin typeface="Times New Roman"/>
              </a:rPr>
              <a:t>Welcome Page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 u="sng">
                <a:solidFill>
                  <a:srgbClr val="000000"/>
                </a:solidFill>
                <a:uFillTx/>
                <a:latin typeface="Times New Roman"/>
              </a:rPr>
              <a:t>View C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 u="sng">
                <a:solidFill>
                  <a:srgbClr val="000000"/>
                </a:solidFill>
                <a:uFillTx/>
                <a:latin typeface="Times New Roman"/>
              </a:rPr>
              <a:t>Login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gister as a new 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87280" y="5691240"/>
            <a:ext cx="803880" cy="368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6280" y="5732640"/>
            <a:ext cx="2971800" cy="34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440" y="534816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earch for a book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752480"/>
            <a:ext cx="7010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Search items: Immanuel K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sz="1800" spc="-1" strike="noStrike">
                <a:solidFill>
                  <a:srgbClr val="000000"/>
                </a:solidFill>
                <a:latin typeface="Times New Roman"/>
              </a:rPr>
              <a:t>Immanuel Kant. Critique of Judgement. </a:t>
            </a:r>
            <a:r>
              <a:rPr b="0" sz="1800" spc="-1" strike="noStrike" u="sng">
                <a:solidFill>
                  <a:srgbClr val="000000"/>
                </a:solidFill>
                <a:uFillTx/>
                <a:latin typeface="Times New Roman"/>
              </a:rPr>
              <a:t>view detai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sz="1800" spc="-1" strike="noStrike">
                <a:solidFill>
                  <a:srgbClr val="000000"/>
                </a:solidFill>
                <a:latin typeface="Times New Roman"/>
              </a:rPr>
              <a:t>Immanuel Kant. Critique of Pure Reason. </a:t>
            </a:r>
            <a:r>
              <a:rPr b="0" sz="1800" spc="-1" strike="noStrike" u="sng">
                <a:solidFill>
                  <a:srgbClr val="000000"/>
                </a:solidFill>
                <a:uFillTx/>
                <a:latin typeface="Times New Roman"/>
              </a:rPr>
              <a:t>view detai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sz="1800" spc="-1" strike="noStrike">
                <a:solidFill>
                  <a:srgbClr val="000000"/>
                </a:solidFill>
                <a:latin typeface="Times New Roman"/>
              </a:rPr>
              <a:t>Immanuel Kant. Critique of Practical Reason. </a:t>
            </a:r>
            <a:r>
              <a:rPr b="0" sz="1800" spc="-1" strike="noStrike" u="sng">
                <a:solidFill>
                  <a:srgbClr val="000000"/>
                </a:solidFill>
                <a:uFillTx/>
                <a:latin typeface="Times New Roman"/>
              </a:rPr>
              <a:t>view detai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sz="1800" spc="-1" strike="noStrike">
                <a:solidFill>
                  <a:srgbClr val="000000"/>
                </a:solidFill>
                <a:latin typeface="Times New Roman"/>
              </a:rPr>
              <a:t>Immanuel Kant. Critique of the Power of Judgment. </a:t>
            </a:r>
            <a:r>
              <a:rPr b="0" sz="1800" spc="-1" strike="noStrike" u="sng">
                <a:solidFill>
                  <a:srgbClr val="000000"/>
                </a:solidFill>
                <a:uFillTx/>
                <a:latin typeface="Times New Roman"/>
              </a:rPr>
              <a:t>view detai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sz="1800" spc="-1" strike="noStrike">
                <a:solidFill>
                  <a:srgbClr val="000000"/>
                </a:solidFill>
                <a:latin typeface="Times New Roman"/>
              </a:rPr>
              <a:t>Immanuel Kant. Groundwork of the Metaphysics of Morals. </a:t>
            </a:r>
            <a:r>
              <a:rPr b="0" sz="1800" spc="-1" strike="noStrike" u="sng">
                <a:solidFill>
                  <a:srgbClr val="000000"/>
                </a:solidFill>
                <a:uFillTx/>
                <a:latin typeface="Times New Roman"/>
              </a:rPr>
              <a:t>view detai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sz="1800" spc="-1" strike="noStrike">
                <a:solidFill>
                  <a:srgbClr val="000000"/>
                </a:solidFill>
                <a:latin typeface="Times New Roman"/>
              </a:rPr>
              <a:t>Immanuel Kant. Theoretical Philosophy. </a:t>
            </a:r>
            <a:r>
              <a:rPr b="0" sz="1800" spc="-1" strike="noStrike" u="sng">
                <a:solidFill>
                  <a:srgbClr val="000000"/>
                </a:solidFill>
                <a:uFillTx/>
                <a:latin typeface="Times New Roman"/>
              </a:rPr>
              <a:t>view detai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sz="1800" spc="-1" strike="noStrike">
                <a:solidFill>
                  <a:srgbClr val="000000"/>
                </a:solidFill>
                <a:latin typeface="Times New Roman"/>
              </a:rPr>
              <a:t>Immanuel Kant. Practical Philosophy. </a:t>
            </a:r>
            <a:r>
              <a:rPr b="0" sz="1800" spc="-1" strike="noStrike" u="sng">
                <a:solidFill>
                  <a:srgbClr val="000000"/>
                </a:solidFill>
                <a:uFillTx/>
                <a:latin typeface="Times New Roman"/>
              </a:rPr>
              <a:t>view detai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848720" y="4038480"/>
            <a:ext cx="158760" cy="15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76000" y="4578480"/>
            <a:ext cx="1925640" cy="64260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Add selected 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to c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685800"/>
            <a:ext cx="8762760" cy="5715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848720" y="3765600"/>
            <a:ext cx="158760" cy="15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848720" y="3494160"/>
            <a:ext cx="158760" cy="15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848720" y="3222720"/>
            <a:ext cx="158760" cy="15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848720" y="2951280"/>
            <a:ext cx="158760" cy="15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48720" y="2408400"/>
            <a:ext cx="158760" cy="15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2673360"/>
            <a:ext cx="158760" cy="15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864560" y="2689200"/>
            <a:ext cx="125280" cy="125280"/>
          </a:xfrm>
          <a:custGeom>
            <a:avLst/>
            <a:gdLst/>
            <a:ahLst/>
            <a:rect l="l" t="t" r="r" b="b"/>
            <a:pathLst>
              <a:path w="96" h="96">
                <a:moveTo>
                  <a:pt x="0" y="48"/>
                </a:moveTo>
                <a:lnTo>
                  <a:pt x="48" y="96"/>
                </a:lnTo>
                <a:lnTo>
                  <a:pt x="9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864560" y="3238560"/>
            <a:ext cx="125280" cy="125280"/>
          </a:xfrm>
          <a:custGeom>
            <a:avLst/>
            <a:gdLst/>
            <a:ahLst/>
            <a:rect l="l" t="t" r="r" b="b"/>
            <a:pathLst>
              <a:path w="96" h="96">
                <a:moveTo>
                  <a:pt x="0" y="48"/>
                </a:moveTo>
                <a:lnTo>
                  <a:pt x="48" y="96"/>
                </a:lnTo>
                <a:lnTo>
                  <a:pt x="9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4:41:27Z</dcterms:created>
  <dc:creator>draheim</dc:creator>
  <dc:description/>
  <dc:language>en-US</dc:language>
  <cp:lastModifiedBy>draheim</cp:lastModifiedBy>
  <dcterms:modified xsi:type="dcterms:W3CDTF">2004-10-12T16:20:57Z</dcterms:modified>
  <cp:revision>7</cp:revision>
  <dc:subject/>
  <dc:title>PowerPoint-Präsentation</dc:title>
</cp:coreProperties>
</file>