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6E0-160B-4C03-82D9-7CCA9316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ED0-F2CF-4A76-A8A9-F7EA7171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B21-8A0C-439D-9AFE-70977E7C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5D4-EC8E-42BD-88C4-711EC78C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25A-3665-4C57-85C5-63DADFBF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CDA-5223-46EB-A22D-E131DA9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00A-4D5D-4AFB-AD03-2607B09B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498-0D64-4DF7-8403-B53767A2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C21-0D5E-475A-81E1-A11B68B4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D3B-A725-46D4-A89A-2FEF4F5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13A-A229-48FA-964F-26D8287D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1A8-C2DE-455C-8A0B-85377BB3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8D48-2933-40CE-8D8D-838BF2CD8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igures from Chapter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Typed Server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1.1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PDS and C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6600" y="4343400"/>
            <a:ext cx="143208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de un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t produ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descri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.g. server p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46160" y="4343400"/>
            <a:ext cx="143208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de un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t produ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descri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.g. server p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46360" y="4343400"/>
            <a:ext cx="143208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de un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t produ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descri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.g. server p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76720" y="1218600"/>
            <a:ext cx="1143000" cy="1447560"/>
          </a:xfrm>
          <a:prstGeom prst="foldedCorner">
            <a:avLst>
              <a:gd name="adj" fmla="val 17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523880"/>
            <a:ext cx="57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4382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2"/>
            <a:endCxn id="47" idx="0"/>
          </p:cNvCxnSpPr>
          <p:nvPr/>
        </p:nvCxnSpPr>
        <p:spPr>
          <a:xfrm>
            <a:off x="4305240" y="2666520"/>
            <a:ext cx="175824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3962520" y="24382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>
            <a:off x="4076640" y="2666520"/>
            <a:ext cx="38664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276720" y="24382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5" idx="0"/>
            <a:endCxn id="54" idx="2"/>
          </p:cNvCxnSpPr>
          <p:nvPr/>
        </p:nvCxnSpPr>
        <p:spPr>
          <a:xfrm flipV="1">
            <a:off x="2852280" y="2666160"/>
            <a:ext cx="5389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066680" y="3733920"/>
            <a:ext cx="586764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2286000"/>
            <a:ext cx="761760" cy="304920"/>
          </a:xfrm>
          <a:prstGeom prst="wedgeRectCallout">
            <a:avLst>
              <a:gd name="adj1" fmla="val 67500"/>
              <a:gd name="adj2" fmla="val 1401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P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05120"/>
            <a:ext cx="762120" cy="304560"/>
          </a:xfrm>
          <a:prstGeom prst="wedgeRectCallout">
            <a:avLst>
              <a:gd name="adj1" fmla="val -112291"/>
              <a:gd name="adj2" fmla="val 175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2240" y="2895480"/>
            <a:ext cx="136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interpr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7040" y="37083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1440" y="34034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20000" y="2911320"/>
            <a:ext cx="13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 sid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05080" y="1219320"/>
            <a:ext cx="170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ms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itable method c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1.2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odel 2 architecture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2600" y="3308400"/>
            <a:ext cx="860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60600" y="441972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Server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60600" y="182880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flipH="1" flipV="1" rot="5400000">
            <a:off x="1146600" y="1994400"/>
            <a:ext cx="1061280" cy="156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7" idx="2"/>
            <a:endCxn id="66" idx="2"/>
          </p:cNvCxnSpPr>
          <p:nvPr/>
        </p:nvCxnSpPr>
        <p:spPr>
          <a:xfrm rot="10800000">
            <a:off x="893160" y="3777480"/>
            <a:ext cx="1567440" cy="106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4"/>
            <a:endCxn id="67" idx="0"/>
          </p:cNvCxnSpPr>
          <p:nvPr/>
        </p:nvCxnSpPr>
        <p:spPr>
          <a:xfrm flipV="1" rot="10800000">
            <a:off x="3793320" y="2666520"/>
            <a:ext cx="1080" cy="1753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936720" y="1828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7440" y="4800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68120" y="3139920"/>
            <a:ext cx="158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61320" y="14479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16720" y="52578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35480" y="4191120"/>
            <a:ext cx="152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85400" y="4419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01640" y="22096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/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80120" y="198108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80120" y="4800600"/>
            <a:ext cx="1600200" cy="304920"/>
          </a:xfrm>
          <a:prstGeom prst="leftArrow">
            <a:avLst>
              <a:gd name="adj1" fmla="val 50000"/>
              <a:gd name="adj2" fmla="val 1311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61200" y="2438280"/>
            <a:ext cx="137160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4880" y="2514600"/>
            <a:ext cx="137160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08920" y="2590920"/>
            <a:ext cx="137160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32600" y="2666880"/>
            <a:ext cx="137160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56280" y="2743200"/>
            <a:ext cx="137160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67560" y="171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7120" y="144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57120" y="5159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1.5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Higher-order server pages desig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4" idx="2"/>
          </p:cNvCxnSpPr>
          <p:nvPr/>
        </p:nvCxnSpPr>
        <p:spPr>
          <a:xfrm flipH="1" rot="16200000">
            <a:off x="5612040" y="2831760"/>
            <a:ext cx="1791720" cy="283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3993480" y="3060720"/>
            <a:ext cx="1218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ew 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44792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724120"/>
            <a:ext cx="9907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7" idx="6"/>
            <a:endCxn id="95" idx="1"/>
          </p:cNvCxnSpPr>
          <p:nvPr/>
        </p:nvCxnSpPr>
        <p:spPr>
          <a:xfrm>
            <a:off x="1600200" y="3219120"/>
            <a:ext cx="2388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7924680" y="464832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somew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78440" y="30481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5" idx="0"/>
            <a:endCxn id="96" idx="6"/>
          </p:cNvCxnSpPr>
          <p:nvPr/>
        </p:nvCxnSpPr>
        <p:spPr>
          <a:xfrm flipV="1" rot="16200000">
            <a:off x="2542680" y="1000080"/>
            <a:ext cx="1117800" cy="30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231640" y="1676520"/>
            <a:ext cx="23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error and registrationA</a:t>
            </a:r>
            <a:r>
              <a:rPr b="0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a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5" idx="2"/>
            <a:endCxn id="98" idx="6"/>
          </p:cNvCxnSpPr>
          <p:nvPr/>
        </p:nvCxnSpPr>
        <p:spPr>
          <a:xfrm rot="5400000">
            <a:off x="2561400" y="2415960"/>
            <a:ext cx="1080360" cy="30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2218680" y="4419720"/>
            <a:ext cx="23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error and registrationC</a:t>
            </a:r>
            <a:r>
              <a:rPr b="0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a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66800" y="2971800"/>
            <a:ext cx="23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error and registrationB</a:t>
            </a:r>
            <a:r>
              <a:rPr b="0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a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2724120"/>
            <a:ext cx="9907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3"/>
            <a:endCxn id="105" idx="2"/>
          </p:cNvCxnSpPr>
          <p:nvPr/>
        </p:nvCxnSpPr>
        <p:spPr>
          <a:xfrm>
            <a:off x="5218200" y="3219120"/>
            <a:ext cx="2706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409000" y="487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3T12:10:01Z</dcterms:modified>
  <cp:revision>27</cp:revision>
  <dc:subject/>
  <dc:title>PowerPoint-Präsentation</dc:title>
</cp:coreProperties>
</file>