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2A0-1CC4-4F99-87C9-B66795CF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263-2245-4162-AA5D-6B10BCC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78D-9D10-43C8-A518-5357BB7D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878-042A-4D9E-A1D1-7CB58118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938-71A3-4F33-A6B1-ABBFAF1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92F-4708-4484-87DC-10262CA3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ACC-EBEC-43B3-930E-0DEC3DEA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21B-25ED-49E9-9349-B62CB9E0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2A4-22B3-4380-A12F-ACBF6969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020-FA4D-48EC-9EED-96288FD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F96-67DB-478D-930C-3697672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5BF-3C50-4828-9123-2B73C80C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FFC-CC25-4EDF-97E4-B3A9BBA1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orward Engineering 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and Reverse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.1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he Angie language related tool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4800600"/>
            <a:ext cx="7238880" cy="175248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590920"/>
            <a:ext cx="114300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143000"/>
            <a:ext cx="1981080" cy="9907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286000" y="44190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590920"/>
            <a:ext cx="1295280" cy="6094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oad An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1440" y="5638680"/>
            <a:ext cx="14475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rver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352680"/>
            <a:ext cx="1981080" cy="9907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JSP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Model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352680"/>
            <a:ext cx="1981440" cy="9907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van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Model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352680"/>
            <a:ext cx="1905120" cy="9907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g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oa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86000" y="319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86000" y="22089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5909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01" stAng="10800000" swAng="5400000"/>
                <a:lnTo>
                  <a:pt x="12427" y="4459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699"/>
                </a:lnTo>
                <a:lnTo>
                  <a:pt x="12427" y="7699"/>
                </a:lnTo>
                <a:arcTo wR="9187" hR="4461" stAng="16200000" swAng="-5400000"/>
                <a:lnTo>
                  <a:pt x="324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48120" y="25909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01" stAng="10800000" swAng="5400000"/>
                <a:lnTo>
                  <a:pt x="12427" y="4459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699"/>
                </a:lnTo>
                <a:lnTo>
                  <a:pt x="12427" y="7699"/>
                </a:lnTo>
                <a:arcTo wR="9187" hR="4461" stAng="16200000" swAng="-5400000"/>
                <a:lnTo>
                  <a:pt x="324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330200"/>
            <a:ext cx="14479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ck-Dum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7560" y="57135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eb Presenta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2590920"/>
            <a:ext cx="106668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oa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4419000"/>
            <a:ext cx="304920" cy="609480"/>
          </a:xfrm>
          <a:prstGeom prst="downArrow">
            <a:avLst>
              <a:gd name="adj1" fmla="val 51046"/>
              <a:gd name="adj2" fmla="val 968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44197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276720"/>
            <a:ext cx="304560" cy="2286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352680"/>
            <a:ext cx="1066680" cy="9907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g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858000" y="3809520"/>
            <a:ext cx="304920" cy="304920"/>
          </a:xfrm>
          <a:prstGeom prst="downArrow">
            <a:avLst>
              <a:gd name="adj1" fmla="val 55213"/>
              <a:gd name="adj2" fmla="val 548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391520" y="32760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2514600" cy="3812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Java Server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86000" y="9907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276360" y="1523520"/>
            <a:ext cx="304920" cy="304560"/>
          </a:xfrm>
          <a:prstGeom prst="downArrow">
            <a:avLst>
              <a:gd name="adj1" fmla="val 55213"/>
              <a:gd name="adj2" fmla="val 548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.2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 login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06800" y="297180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27760" y="305604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297180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71000" y="3056040"/>
            <a:ext cx="11059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03000" y="2895480"/>
            <a:ext cx="62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9560" y="2895480"/>
            <a:ext cx="62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4" idx="6"/>
            <a:endCxn id="75" idx="1"/>
          </p:cNvCxnSpPr>
          <p:nvPr/>
        </p:nvCxnSpPr>
        <p:spPr>
          <a:xfrm>
            <a:off x="1942920" y="3238200"/>
            <a:ext cx="92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3"/>
            <a:endCxn id="72" idx="2"/>
          </p:cNvCxnSpPr>
          <p:nvPr/>
        </p:nvCxnSpPr>
        <p:spPr>
          <a:xfrm>
            <a:off x="3984480" y="3238200"/>
            <a:ext cx="92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2" idx="6"/>
            <a:endCxn id="73" idx="1"/>
          </p:cNvCxnSpPr>
          <p:nvPr/>
        </p:nvCxnSpPr>
        <p:spPr>
          <a:xfrm>
            <a:off x="5897520" y="3238200"/>
            <a:ext cx="923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3" idx="2"/>
            <a:endCxn id="72" idx="4"/>
          </p:cNvCxnSpPr>
          <p:nvPr/>
        </p:nvCxnSpPr>
        <p:spPr>
          <a:xfrm rot="5400000">
            <a:off x="6362640" y="2458080"/>
            <a:ext cx="86400" cy="2009160"/>
          </a:xfrm>
          <a:prstGeom prst="curvedConnector5">
            <a:avLst>
              <a:gd name="adj1" fmla="val 974058"/>
              <a:gd name="adj2" fmla="val 50000"/>
              <a:gd name="adj3" fmla="val 974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3" idx="3"/>
            <a:endCxn id="74" idx="2"/>
          </p:cNvCxnSpPr>
          <p:nvPr/>
        </p:nvCxnSpPr>
        <p:spPr>
          <a:xfrm flipH="1">
            <a:off x="951840" y="3238560"/>
            <a:ext cx="7049160" cy="2160"/>
          </a:xfrm>
          <a:prstGeom prst="curvedConnector5">
            <a:avLst>
              <a:gd name="adj1" fmla="val -3243"/>
              <a:gd name="adj2" fmla="val -37200000"/>
              <a:gd name="adj3" fmla="val -32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2" idx="3"/>
            <a:endCxn id="84" idx="3"/>
          </p:cNvCxnSpPr>
          <p:nvPr/>
        </p:nvCxnSpPr>
        <p:spPr>
          <a:xfrm rot="5400000">
            <a:off x="3757680" y="3004200"/>
            <a:ext cx="870480" cy="1716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911960" y="411480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1"/>
            <a:endCxn id="74" idx="4"/>
          </p:cNvCxnSpPr>
          <p:nvPr/>
        </p:nvCxnSpPr>
        <p:spPr>
          <a:xfrm rot="10800000">
            <a:off x="1447200" y="3504600"/>
            <a:ext cx="457920" cy="79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10600" y="4191120"/>
            <a:ext cx="960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.3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Revangie: example screen classifications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778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ME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69712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ME barg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32552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ME Spe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620800"/>
            <a:ext cx="1905120" cy="609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ME Spe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087640"/>
            <a:ext cx="99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1325520"/>
            <a:ext cx="1904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ME 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620800"/>
            <a:ext cx="1904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ME 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368784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830840"/>
            <a:ext cx="114300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4830840"/>
            <a:ext cx="9907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4830840"/>
            <a:ext cx="9907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4" idx="6"/>
            <a:endCxn id="96" idx="3"/>
          </p:cNvCxnSpPr>
          <p:nvPr/>
        </p:nvCxnSpPr>
        <p:spPr>
          <a:xfrm>
            <a:off x="7238880" y="1630440"/>
            <a:ext cx="153360" cy="2247120"/>
          </a:xfrm>
          <a:prstGeom prst="curvedConnector5">
            <a:avLst>
              <a:gd name="adj1" fmla="val 516470"/>
              <a:gd name="adj2" fmla="val 49991"/>
              <a:gd name="adj3" fmla="val 5164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6" idx="3"/>
          </p:cNvCxnSpPr>
          <p:nvPr/>
        </p:nvCxnSpPr>
        <p:spPr>
          <a:xfrm>
            <a:off x="7238880" y="2925720"/>
            <a:ext cx="153360" cy="951840"/>
          </a:xfrm>
          <a:prstGeom prst="curvedConnector5">
            <a:avLst>
              <a:gd name="adj1" fmla="val 249882"/>
              <a:gd name="adj2" fmla="val 49981"/>
              <a:gd name="adj3" fmla="val 2498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6" idx="2"/>
            <a:endCxn id="97" idx="0"/>
          </p:cNvCxnSpPr>
          <p:nvPr/>
        </p:nvCxnSpPr>
        <p:spPr>
          <a:xfrm rot="5400000">
            <a:off x="5445000" y="3685320"/>
            <a:ext cx="767520" cy="152460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2"/>
            <a:endCxn id="98" idx="0"/>
          </p:cNvCxnSpPr>
          <p:nvPr/>
        </p:nvCxnSpPr>
        <p:spPr>
          <a:xfrm rot="5400000">
            <a:off x="6016680" y="4257000"/>
            <a:ext cx="767520" cy="381600"/>
          </a:xfrm>
          <a:prstGeom prst="curvedConnector5">
            <a:avLst>
              <a:gd name="adj1" fmla="val 49882"/>
              <a:gd name="adj2" fmla="val 49952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6" idx="2"/>
            <a:endCxn id="99" idx="0"/>
          </p:cNvCxnSpPr>
          <p:nvPr/>
        </p:nvCxnSpPr>
        <p:spPr>
          <a:xfrm flipH="1" rot="16200000">
            <a:off x="6549840" y="4104360"/>
            <a:ext cx="767520" cy="68652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4" idx="4"/>
          </p:cNvCxnSpPr>
          <p:nvPr/>
        </p:nvCxnSpPr>
        <p:spPr>
          <a:xfrm flipV="1">
            <a:off x="5866920" y="1934640"/>
            <a:ext cx="420120" cy="326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3" idx="3"/>
            <a:endCxn id="95" idx="0"/>
          </p:cNvCxnSpPr>
          <p:nvPr/>
        </p:nvCxnSpPr>
        <p:spPr>
          <a:xfrm>
            <a:off x="5866920" y="2260080"/>
            <a:ext cx="420120" cy="36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4"/>
            <a:endCxn id="93" idx="1"/>
          </p:cNvCxnSpPr>
          <p:nvPr/>
        </p:nvCxnSpPr>
        <p:spPr>
          <a:xfrm flipH="1" rot="16200000">
            <a:off x="4199760" y="1582920"/>
            <a:ext cx="326160" cy="1029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2" idx="0"/>
            <a:endCxn id="93" idx="1"/>
          </p:cNvCxnSpPr>
          <p:nvPr/>
        </p:nvCxnSpPr>
        <p:spPr>
          <a:xfrm flipH="1" flipV="1" rot="5400000">
            <a:off x="4220280" y="1963800"/>
            <a:ext cx="361080" cy="953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4" idx="1"/>
            <a:endCxn id="89" idx="0"/>
          </p:cNvCxnSpPr>
          <p:nvPr/>
        </p:nvCxnSpPr>
        <p:spPr>
          <a:xfrm rot="5400000">
            <a:off x="3555360" y="-579600"/>
            <a:ext cx="64080" cy="4052160"/>
          </a:xfrm>
          <a:prstGeom prst="curvedConnector5">
            <a:avLst>
              <a:gd name="adj1" fmla="val -500000"/>
              <a:gd name="adj2" fmla="val 49995"/>
              <a:gd name="adj3" fmla="val -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3"/>
            <a:endCxn id="90" idx="2"/>
          </p:cNvCxnSpPr>
          <p:nvPr/>
        </p:nvCxnSpPr>
        <p:spPr>
          <a:xfrm flipV="1" rot="16200000">
            <a:off x="3572280" y="1100160"/>
            <a:ext cx="69120" cy="4014000"/>
          </a:xfrm>
          <a:prstGeom prst="curvedConnector5">
            <a:avLst>
              <a:gd name="adj1" fmla="val -464921"/>
              <a:gd name="adj2" fmla="val 49995"/>
              <a:gd name="adj3" fmla="val -464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4" idx="0"/>
            <a:endCxn id="90" idx="1"/>
          </p:cNvCxnSpPr>
          <p:nvPr/>
        </p:nvCxnSpPr>
        <p:spPr>
          <a:xfrm rot="5400000">
            <a:off x="2705400" y="-695520"/>
            <a:ext cx="1561320" cy="5601600"/>
          </a:xfrm>
          <a:prstGeom prst="curvedConnector5">
            <a:avLst>
              <a:gd name="adj1" fmla="val -41489"/>
              <a:gd name="adj2" fmla="val 55549"/>
              <a:gd name="adj3" fmla="val -414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4"/>
            <a:endCxn id="89" idx="1"/>
          </p:cNvCxnSpPr>
          <p:nvPr/>
        </p:nvCxnSpPr>
        <p:spPr>
          <a:xfrm flipV="1" rot="16200000">
            <a:off x="2703960" y="-352440"/>
            <a:ext cx="1564560" cy="5601600"/>
          </a:xfrm>
          <a:prstGeom prst="curvedConnector5">
            <a:avLst>
              <a:gd name="adj1" fmla="val -37445"/>
              <a:gd name="adj2" fmla="val 55774"/>
              <a:gd name="adj3" fmla="val -374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89" idx="3"/>
            <a:endCxn id="91" idx="2"/>
          </p:cNvCxnSpPr>
          <p:nvPr/>
        </p:nvCxnSpPr>
        <p:spPr>
          <a:xfrm flipV="1">
            <a:off x="2438280" y="1629720"/>
            <a:ext cx="45792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0" idx="3"/>
            <a:endCxn id="92" idx="2"/>
          </p:cNvCxnSpPr>
          <p:nvPr/>
        </p:nvCxnSpPr>
        <p:spPr>
          <a:xfrm>
            <a:off x="2514600" y="2886120"/>
            <a:ext cx="457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52280" y="3790800"/>
            <a:ext cx="472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nt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creen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2 3-4 5 6 7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 3-4 5-6-7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2 3-4 5-6 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2 3-4 5-6-7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s 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2 3-4 5-6 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rge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2 3-4 5-6-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 3-4 5 6 7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s 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2 3-4 5 6 7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rge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 3-4 5-6 7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58975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897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97" idx="4"/>
            <a:endCxn id="116" idx="0"/>
          </p:cNvCxnSpPr>
          <p:nvPr/>
        </p:nvCxnSpPr>
        <p:spPr>
          <a:xfrm flipH="1" rot="16200000">
            <a:off x="5142600" y="5364000"/>
            <a:ext cx="457920" cy="6102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8" idx="4"/>
            <a:endCxn id="116" idx="0"/>
          </p:cNvCxnSpPr>
          <p:nvPr/>
        </p:nvCxnSpPr>
        <p:spPr>
          <a:xfrm rot="5400000">
            <a:off x="5714280" y="5402160"/>
            <a:ext cx="457920" cy="534240"/>
          </a:xfrm>
          <a:prstGeom prst="curvedConnector5">
            <a:avLst>
              <a:gd name="adj1" fmla="val 49960"/>
              <a:gd name="adj2" fmla="val 49966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7848720" y="4830840"/>
            <a:ext cx="106668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4"/>
            <a:endCxn id="117" idx="0"/>
          </p:cNvCxnSpPr>
          <p:nvPr/>
        </p:nvCxnSpPr>
        <p:spPr>
          <a:xfrm rot="5400000">
            <a:off x="7828560" y="5344920"/>
            <a:ext cx="457920" cy="6483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99" idx="4"/>
            <a:endCxn id="117" idx="0"/>
          </p:cNvCxnSpPr>
          <p:nvPr/>
        </p:nvCxnSpPr>
        <p:spPr>
          <a:xfrm flipH="1" rot="16200000">
            <a:off x="7277040" y="543996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7696080" y="94464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 go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2"/>
            <a:endCxn id="120" idx="0"/>
          </p:cNvCxnSpPr>
          <p:nvPr/>
        </p:nvCxnSpPr>
        <p:spPr>
          <a:xfrm>
            <a:off x="8381520" y="1595160"/>
            <a:ext cx="1080" cy="323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4" idx="7"/>
            <a:endCxn id="123" idx="1"/>
          </p:cNvCxnSpPr>
          <p:nvPr/>
        </p:nvCxnSpPr>
        <p:spPr>
          <a:xfrm flipH="1" flipV="1" rot="5400000">
            <a:off x="7255440" y="973440"/>
            <a:ext cx="144720" cy="737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2:00:55Z</dcterms:modified>
  <cp:revision>26</cp:revision>
  <dc:subject/>
  <dc:title>PowerPoint-Präsentation</dc:title>
</cp:coreProperties>
</file>