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6EB-9875-4776-A6A1-A65942E8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E17-F14E-47A2-B847-6F0AE362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443-11E3-4F58-AEC0-926A308E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A95-E30F-445D-A1C7-C99960E2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054-2ACF-4821-A89E-BA309FCD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729-3481-4CA6-B8FB-F77725C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E0C-7ACC-471D-9D3B-866FBA0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2A7-B57C-43B4-A745-EBF4782A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694-3676-47F2-AADD-BF829F72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041-AF44-4C31-B4A6-1C30DC1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72-C09E-4355-8FD0-0120C22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EE5-F943-4599-95A4-79D4A603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A67-29CB-4ABA-A9D3-37D515EE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The Integrated Source Code Paradig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2.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core syntax model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of the PD model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0400" y="26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5582160" y="392760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0404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566160" y="399924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6" idx="6"/>
          </p:cNvCxnSpPr>
          <p:nvPr/>
        </p:nvCxnSpPr>
        <p:spPr>
          <a:xfrm flipV="1">
            <a:off x="3691080" y="3934800"/>
            <a:ext cx="1962720" cy="192600"/>
          </a:xfrm>
          <a:prstGeom prst="curvedConnector5">
            <a:avLst>
              <a:gd name="adj1" fmla="val 48614"/>
              <a:gd name="adj2" fmla="val -34269"/>
              <a:gd name="adj3" fmla="val 486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1976400" y="3645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ntity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4285440" y="284544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3"/>
            <a:endCxn id="46" idx="5"/>
          </p:cNvCxnSpPr>
          <p:nvPr/>
        </p:nvCxnSpPr>
        <p:spPr>
          <a:xfrm>
            <a:off x="4409640" y="2973240"/>
            <a:ext cx="1297800" cy="983520"/>
          </a:xfrm>
          <a:prstGeom prst="curvedConnector5">
            <a:avLst>
              <a:gd name="adj1" fmla="val 51137"/>
              <a:gd name="adj2" fmla="val 49981"/>
              <a:gd name="adj3" fmla="val 5113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2408400" y="2637000"/>
            <a:ext cx="201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lation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3680" y="4149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2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ultiplicity syntax model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nd union with PD syntax model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0040" y="272088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pper multi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0" y="1855800"/>
            <a:ext cx="4538520" cy="30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080" y="1855800"/>
            <a:ext cx="388944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4440" y="2936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220360" y="37227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32440" y="35845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788360" y="444348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6"/>
            <a:endCxn id="61" idx="6"/>
          </p:cNvCxnSpPr>
          <p:nvPr/>
        </p:nvCxnSpPr>
        <p:spPr>
          <a:xfrm flipH="1" flipV="1" rot="5400000">
            <a:off x="4714560" y="3874680"/>
            <a:ext cx="721440" cy="432720"/>
          </a:xfrm>
          <a:prstGeom prst="curvedConnector5">
            <a:avLst>
              <a:gd name="adj1" fmla="val 41387"/>
              <a:gd name="adj2" fmla="val 49958"/>
              <a:gd name="adj3" fmla="val 413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927680" y="43052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ntity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715640" y="300240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3"/>
            <a:endCxn id="61" idx="5"/>
          </p:cNvCxnSpPr>
          <p:nvPr/>
        </p:nvCxnSpPr>
        <p:spPr>
          <a:xfrm>
            <a:off x="4839840" y="3130560"/>
            <a:ext cx="505800" cy="621000"/>
          </a:xfrm>
          <a:prstGeom prst="curvedConnector5">
            <a:avLst>
              <a:gd name="adj1" fmla="val 60968"/>
              <a:gd name="adj2" fmla="val 50000"/>
              <a:gd name="adj3" fmla="val 609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4421160" y="2649600"/>
            <a:ext cx="201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lation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089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625440" y="285804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0"/>
          </p:cNvCxnSpPr>
          <p:nvPr/>
        </p:nvCxnSpPr>
        <p:spPr>
          <a:xfrm flipV="1" rot="10800000">
            <a:off x="5285520" y="2936520"/>
            <a:ext cx="1332720" cy="792720"/>
          </a:xfrm>
          <a:prstGeom prst="curvedConnector5">
            <a:avLst>
              <a:gd name="adj1" fmla="val 32396"/>
              <a:gd name="adj2" fmla="val 49977"/>
              <a:gd name="adj3" fmla="val 3239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5504040" y="329724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6768000" y="35769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6"/>
            <a:endCxn id="61" idx="5"/>
          </p:cNvCxnSpPr>
          <p:nvPr/>
        </p:nvCxnSpPr>
        <p:spPr>
          <a:xfrm rot="5400000">
            <a:off x="6008040" y="2919600"/>
            <a:ext cx="167040" cy="1494360"/>
          </a:xfrm>
          <a:prstGeom prst="curvedConnector5">
            <a:avLst>
              <a:gd name="adj1" fmla="val 166954"/>
              <a:gd name="adj2" fmla="val 25855"/>
              <a:gd name="adj3" fmla="val 166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6762600" y="32972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ower multi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0960" y="3728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7416000" y="415656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12040" y="38718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0"/>
            <a:endCxn id="73" idx="1"/>
          </p:cNvCxnSpPr>
          <p:nvPr/>
        </p:nvCxnSpPr>
        <p:spPr>
          <a:xfrm rot="10800000">
            <a:off x="6784920" y="3704400"/>
            <a:ext cx="626040" cy="531000"/>
          </a:xfrm>
          <a:prstGeom prst="curvedConnector5">
            <a:avLst>
              <a:gd name="adj1" fmla="val 51035"/>
              <a:gd name="adj2" fmla="val 50000"/>
              <a:gd name="adj3" fmla="val 510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7051680" y="4305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416000" y="206748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2040" y="1928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0"/>
            <a:endCxn id="70" idx="6"/>
          </p:cNvCxnSpPr>
          <p:nvPr/>
        </p:nvCxnSpPr>
        <p:spPr>
          <a:xfrm flipV="1" rot="10800000">
            <a:off x="6695280" y="2145960"/>
            <a:ext cx="715320" cy="7200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978600" y="21448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132440" y="2863800"/>
            <a:ext cx="287280" cy="1276560"/>
          </a:xfrm>
          <a:prstGeom prst="leftArrow">
            <a:avLst>
              <a:gd name="adj1" fmla="val 47019"/>
              <a:gd name="adj2" fmla="val 82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357840" y="422604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1546920" y="300060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6"/>
            <a:endCxn id="86" idx="2"/>
          </p:cNvCxnSpPr>
          <p:nvPr/>
        </p:nvCxnSpPr>
        <p:spPr>
          <a:xfrm rot="5400000">
            <a:off x="338040" y="3097800"/>
            <a:ext cx="1369440" cy="1189800"/>
          </a:xfrm>
          <a:prstGeom prst="curvedConnector5">
            <a:avLst>
              <a:gd name="adj1" fmla="val 8335"/>
              <a:gd name="adj2" fmla="val 31355"/>
              <a:gd name="adj3" fmla="val 83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1541520" y="28638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pper multi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3720" y="36561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689840" y="3720240"/>
            <a:ext cx="14256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6"/>
            <a:endCxn id="86" idx="5"/>
          </p:cNvCxnSpPr>
          <p:nvPr/>
        </p:nvCxnSpPr>
        <p:spPr>
          <a:xfrm rot="5400000">
            <a:off x="857160" y="3351960"/>
            <a:ext cx="527760" cy="1278360"/>
          </a:xfrm>
          <a:prstGeom prst="curvedConnector5">
            <a:avLst>
              <a:gd name="adj1" fmla="val -43617"/>
              <a:gd name="adj2" fmla="val 26000"/>
              <a:gd name="adj3" fmla="val -4361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684440" y="34401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Lower multi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1360" y="40878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337480" y="429912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3520" y="4014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0"/>
            <a:endCxn id="91" idx="1"/>
          </p:cNvCxnSpPr>
          <p:nvPr/>
        </p:nvCxnSpPr>
        <p:spPr>
          <a:xfrm rot="10800000">
            <a:off x="1706400" y="3847320"/>
            <a:ext cx="626040" cy="531000"/>
          </a:xfrm>
          <a:prstGeom prst="curvedConnector5">
            <a:avLst>
              <a:gd name="adj1" fmla="val 51035"/>
              <a:gd name="adj2" fmla="val 50000"/>
              <a:gd name="adj3" fmla="val 510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1973160" y="44481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337480" y="221004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520" y="20718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9" idx="0"/>
            <a:endCxn id="87" idx="6"/>
          </p:cNvCxnSpPr>
          <p:nvPr/>
        </p:nvCxnSpPr>
        <p:spPr>
          <a:xfrm flipV="1" rot="10800000">
            <a:off x="1617120" y="2288160"/>
            <a:ext cx="714960" cy="719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1900080" y="2287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2.3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cutout message storyboard of the bookshop example with custom transiti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3240" y="236232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0"/>
            <a:endCxn id="105" idx="1"/>
          </p:cNvCxnSpPr>
          <p:nvPr/>
        </p:nvCxnSpPr>
        <p:spPr>
          <a:xfrm flipH="1" flipV="1" rot="5400000">
            <a:off x="2899800" y="1663200"/>
            <a:ext cx="714960" cy="2477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80880" y="3259080"/>
            <a:ext cx="3276720" cy="121932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335400"/>
            <a:ext cx="24386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oggedIn:Boole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ustomerName:St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8480" y="4021200"/>
            <a:ext cx="10220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Times New Roman"/>
              </a:rPr>
              <a:t>View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9" idx="1"/>
          </p:cNvCxnSpPr>
          <p:nvPr/>
        </p:nvCxnSpPr>
        <p:spPr>
          <a:xfrm>
            <a:off x="3657600" y="3868200"/>
            <a:ext cx="915120" cy="335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553080" y="3792600"/>
            <a:ext cx="2057400" cy="4572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3"/>
            <a:endCxn id="111" idx="1"/>
          </p:cNvCxnSpPr>
          <p:nvPr/>
        </p:nvCxnSpPr>
        <p:spPr>
          <a:xfrm flipV="1">
            <a:off x="5607000" y="4020480"/>
            <a:ext cx="946800" cy="1832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576160" y="2386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4320" y="3487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5400" y="363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55:58Z</dcterms:modified>
  <cp:revision>29</cp:revision>
  <dc:subject/>
  <dc:title>PowerPoint-Präsentation</dc:title>
</cp:coreProperties>
</file>