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EE9D-C185-45F1-99DA-23BBF88F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6850-53B3-44FC-8AFD-01A7F6DF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D9AC-B9F3-4C5A-AA16-A6FED65A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76D5-5C15-40AF-A0CE-15B425E1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5DB3-0FAD-4E41-BCE2-F95E6C06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111D-5E9D-4AA9-BBF3-9A2F2943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C789-3756-4399-86DA-097DDEE2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8598-00A8-4981-9012-998692AB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0886-3650-4265-B6D7-F936C406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E5CC-F789-4580-943A-6CE50C69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A61-19B1-4D23-9994-2CF230CA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6811-40C2-4765-A2BD-8E763CB1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B129-770C-4639-913E-501836A77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Figures from Chapter 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br>
              <a:rPr sz="4400"/>
            </a:b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Message-Based Modeling of </a:t>
            </a:r>
            <a:br>
              <a:rPr sz="4400"/>
            </a:b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Data Inter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38095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Dirk Draheim, Gerald We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Form-Oriented Analy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Springer, October 200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8.1.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An example data type interchange diagram showing all the notational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99160" y="2944800"/>
            <a:ext cx="1152360" cy="2089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03520" y="1720800"/>
            <a:ext cx="1511280" cy="1081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86440" y="30160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9" idx="2"/>
            <a:endCxn id="50" idx="2"/>
          </p:cNvCxnSpPr>
          <p:nvPr/>
        </p:nvCxnSpPr>
        <p:spPr>
          <a:xfrm flipV="1">
            <a:off x="1487160" y="4960440"/>
            <a:ext cx="432360" cy="1008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0" name=""/>
          <p:cNvSpPr/>
          <p:nvPr/>
        </p:nvSpPr>
        <p:spPr>
          <a:xfrm>
            <a:off x="695160" y="2441520"/>
            <a:ext cx="2448000" cy="2519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06800" y="3233880"/>
            <a:ext cx="1425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8440" y="3089160"/>
            <a:ext cx="109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or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03880" y="5392800"/>
            <a:ext cx="14292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75160" y="3521160"/>
            <a:ext cx="14292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99160" y="2225520"/>
            <a:ext cx="14256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75160" y="4745160"/>
            <a:ext cx="142920" cy="153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6440" y="1433520"/>
            <a:ext cx="2879640" cy="720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representing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7" idx="2"/>
            <a:endCxn id="51" idx="1"/>
          </p:cNvCxnSpPr>
          <p:nvPr/>
        </p:nvCxnSpPr>
        <p:spPr>
          <a:xfrm>
            <a:off x="1846440" y="2154240"/>
            <a:ext cx="381600" cy="11008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59" name=""/>
          <p:cNvCxnSpPr>
            <a:endCxn id="60" idx="2"/>
          </p:cNvCxnSpPr>
          <p:nvPr/>
        </p:nvCxnSpPr>
        <p:spPr>
          <a:xfrm flipV="1">
            <a:off x="3718080" y="1792080"/>
            <a:ext cx="1010160" cy="21628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49" name=""/>
          <p:cNvSpPr/>
          <p:nvPr/>
        </p:nvSpPr>
        <p:spPr>
          <a:xfrm>
            <a:off x="695160" y="5465880"/>
            <a:ext cx="1584360" cy="503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unit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1" idx="5"/>
            <a:endCxn id="56" idx="1"/>
          </p:cNvCxnSpPr>
          <p:nvPr/>
        </p:nvCxnSpPr>
        <p:spPr>
          <a:xfrm>
            <a:off x="2328840" y="3357360"/>
            <a:ext cx="3067920" cy="141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1" idx="6"/>
          </p:cNvCxnSpPr>
          <p:nvPr/>
        </p:nvCxnSpPr>
        <p:spPr>
          <a:xfrm>
            <a:off x="2349000" y="3306600"/>
            <a:ext cx="3026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7"/>
            <a:endCxn id="55" idx="3"/>
          </p:cNvCxnSpPr>
          <p:nvPr/>
        </p:nvCxnSpPr>
        <p:spPr>
          <a:xfrm flipV="1">
            <a:off x="2328480" y="2356920"/>
            <a:ext cx="2491560" cy="89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206800" y="4025880"/>
            <a:ext cx="142560" cy="14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82800" y="3881520"/>
            <a:ext cx="109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inqui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64" idx="6"/>
            <a:endCxn id="56" idx="2"/>
          </p:cNvCxnSpPr>
          <p:nvPr/>
        </p:nvCxnSpPr>
        <p:spPr>
          <a:xfrm>
            <a:off x="2368440" y="4098600"/>
            <a:ext cx="300744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endCxn id="60" idx="2"/>
          </p:cNvCxnSpPr>
          <p:nvPr/>
        </p:nvCxnSpPr>
        <p:spPr>
          <a:xfrm flipV="1">
            <a:off x="4006800" y="1791720"/>
            <a:ext cx="721440" cy="8658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68" name=""/>
          <p:cNvCxnSpPr>
            <a:endCxn id="60" idx="2"/>
          </p:cNvCxnSpPr>
          <p:nvPr/>
        </p:nvCxnSpPr>
        <p:spPr>
          <a:xfrm flipV="1">
            <a:off x="4150800" y="1791720"/>
            <a:ext cx="577080" cy="16578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0" name=""/>
          <p:cNvSpPr/>
          <p:nvPr/>
        </p:nvSpPr>
        <p:spPr>
          <a:xfrm>
            <a:off x="4511520" y="1504800"/>
            <a:ext cx="432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46440" y="1433520"/>
            <a:ext cx="4321080" cy="720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messages of bidirectional 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transactional signature of “orde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54800" y="2368440"/>
            <a:ext cx="14292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62800" y="2944800"/>
            <a:ext cx="14292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03880" y="44578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CRM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56" idx="4"/>
            <a:endCxn id="53" idx="1"/>
          </p:cNvCxnSpPr>
          <p:nvPr/>
        </p:nvCxnSpPr>
        <p:spPr>
          <a:xfrm flipH="1">
            <a:off x="5324040" y="4898880"/>
            <a:ext cx="123120" cy="51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3503520" y="546588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welcome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76" idx="0"/>
            <a:endCxn id="53" idx="7"/>
          </p:cNvCxnSpPr>
          <p:nvPr/>
        </p:nvCxnSpPr>
        <p:spPr>
          <a:xfrm flipH="1" flipV="1">
            <a:off x="5425560" y="5414760"/>
            <a:ext cx="1534320" cy="4831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6" name=""/>
          <p:cNvSpPr/>
          <p:nvPr/>
        </p:nvSpPr>
        <p:spPr>
          <a:xfrm>
            <a:off x="6167520" y="5897520"/>
            <a:ext cx="1584360" cy="503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outpu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/>
          <p:nvPr/>
        </p:nvCxnSpPr>
        <p:spPr>
          <a:xfrm flipV="1">
            <a:off x="5519520" y="3015360"/>
            <a:ext cx="194364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54" idx="7"/>
          </p:cNvCxnSpPr>
          <p:nvPr/>
        </p:nvCxnSpPr>
        <p:spPr>
          <a:xfrm flipV="1">
            <a:off x="5497200" y="2512800"/>
            <a:ext cx="957960" cy="103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5086440" y="35924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del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99160" y="22255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getinsu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0440" y="222552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advert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55" idx="5"/>
            <a:endCxn id="54" idx="1"/>
          </p:cNvCxnSpPr>
          <p:nvPr/>
        </p:nvCxnSpPr>
        <p:spPr>
          <a:xfrm>
            <a:off x="4920840" y="2356920"/>
            <a:ext cx="475560" cy="118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4" idx="2"/>
            <a:endCxn id="64" idx="4"/>
          </p:cNvCxnSpPr>
          <p:nvPr/>
        </p:nvCxnSpPr>
        <p:spPr>
          <a:xfrm flipH="1" flipV="1">
            <a:off x="2277720" y="4188960"/>
            <a:ext cx="650160" cy="20692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84" name=""/>
          <p:cNvSpPr/>
          <p:nvPr/>
        </p:nvSpPr>
        <p:spPr>
          <a:xfrm>
            <a:off x="2351160" y="5465880"/>
            <a:ext cx="1152360" cy="792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8.2.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Similar to functional decomposition, 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a model subsystem in one DTIM 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can be defined by a whole sub-DT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2400120" y="3147480"/>
            <a:ext cx="1514520" cy="790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4679280" y="2172960"/>
            <a:ext cx="3672000" cy="374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6489360" y="2246400"/>
            <a:ext cx="934920" cy="1439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5013000" y="4225680"/>
            <a:ext cx="1514520" cy="790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6665040" y="4158360"/>
            <a:ext cx="935280" cy="781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6885360" y="299808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4782240" y="4509000"/>
            <a:ext cx="14292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5799600" y="5085360"/>
            <a:ext cx="14292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7167960" y="4725360"/>
            <a:ext cx="142920" cy="153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5584320" y="4653720"/>
            <a:ext cx="14256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4"/>
            <a:endCxn id="96" idx="2"/>
          </p:cNvCxnSpPr>
          <p:nvPr/>
        </p:nvCxnSpPr>
        <p:spPr>
          <a:xfrm flipH="1">
            <a:off x="5655600" y="3071880"/>
            <a:ext cx="1230840" cy="158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2" idx="0"/>
            <a:endCxn id="99" idx="3"/>
          </p:cNvCxnSpPr>
          <p:nvPr/>
        </p:nvCxnSpPr>
        <p:spPr>
          <a:xfrm>
            <a:off x="7031160" y="3071880"/>
            <a:ext cx="660600" cy="67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2" idx="6"/>
            <a:endCxn id="95" idx="2"/>
          </p:cNvCxnSpPr>
          <p:nvPr/>
        </p:nvCxnSpPr>
        <p:spPr>
          <a:xfrm>
            <a:off x="6957720" y="3142800"/>
            <a:ext cx="283320" cy="157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 rot="5400000">
            <a:off x="6439320" y="5517360"/>
            <a:ext cx="142920" cy="15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96" idx="4"/>
            <a:endCxn id="93" idx="7"/>
          </p:cNvCxnSpPr>
          <p:nvPr/>
        </p:nvCxnSpPr>
        <p:spPr>
          <a:xfrm flipH="1" flipV="1">
            <a:off x="4907880" y="4636800"/>
            <a:ext cx="672120" cy="9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4" idx="7"/>
            <a:endCxn id="101" idx="3"/>
          </p:cNvCxnSpPr>
          <p:nvPr/>
        </p:nvCxnSpPr>
        <p:spPr>
          <a:xfrm>
            <a:off x="5925960" y="5213160"/>
            <a:ext cx="532800" cy="3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4" idx="2"/>
            <a:endCxn id="92" idx="5"/>
          </p:cNvCxnSpPr>
          <p:nvPr/>
        </p:nvCxnSpPr>
        <p:spPr>
          <a:xfrm flipV="1">
            <a:off x="5871960" y="3120840"/>
            <a:ext cx="1035720" cy="19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5" idx="5"/>
            <a:endCxn id="94" idx="1"/>
          </p:cNvCxnSpPr>
          <p:nvPr/>
        </p:nvCxnSpPr>
        <p:spPr>
          <a:xfrm flipH="1">
            <a:off x="5925600" y="4852800"/>
            <a:ext cx="124200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 rot="5400000">
            <a:off x="6598080" y="2710800"/>
            <a:ext cx="142920" cy="14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6880680" y="4436280"/>
            <a:ext cx="142920" cy="153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656680" y="4077720"/>
            <a:ext cx="142920" cy="153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6" idx="5"/>
            <a:endCxn id="108" idx="1"/>
          </p:cNvCxnSpPr>
          <p:nvPr/>
        </p:nvCxnSpPr>
        <p:spPr>
          <a:xfrm flipH="1">
            <a:off x="5782680" y="2833200"/>
            <a:ext cx="818280" cy="127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6" idx="7"/>
            <a:endCxn id="107" idx="2"/>
          </p:cNvCxnSpPr>
          <p:nvPr/>
        </p:nvCxnSpPr>
        <p:spPr>
          <a:xfrm>
            <a:off x="6740280" y="2833560"/>
            <a:ext cx="213480" cy="161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 rot="5400000">
            <a:off x="7673040" y="3717000"/>
            <a:ext cx="14292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6377400" y="4581000"/>
            <a:ext cx="142920" cy="15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7" idx="5"/>
            <a:endCxn id="111" idx="1"/>
          </p:cNvCxnSpPr>
          <p:nvPr/>
        </p:nvCxnSpPr>
        <p:spPr>
          <a:xfrm flipH="1">
            <a:off x="6503760" y="4563720"/>
            <a:ext cx="39600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 rot="5400000">
            <a:off x="7312680" y="2777040"/>
            <a:ext cx="142920" cy="154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7961760" y="2563200"/>
            <a:ext cx="142920" cy="15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3" idx="5"/>
            <a:endCxn id="92" idx="1"/>
          </p:cNvCxnSpPr>
          <p:nvPr/>
        </p:nvCxnSpPr>
        <p:spPr>
          <a:xfrm flipH="1">
            <a:off x="7008480" y="2905200"/>
            <a:ext cx="303840" cy="116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1"/>
            <a:endCxn id="114" idx="4"/>
          </p:cNvCxnSpPr>
          <p:nvPr/>
        </p:nvCxnSpPr>
        <p:spPr>
          <a:xfrm flipV="1">
            <a:off x="7457760" y="2641320"/>
            <a:ext cx="500760" cy="16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 rot="16200000">
            <a:off x="429120" y="2389680"/>
            <a:ext cx="3600720" cy="324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1141560" y="3038040"/>
            <a:ext cx="934920" cy="1150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598760" y="4174920"/>
            <a:ext cx="903240" cy="1871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1897920" y="5021640"/>
            <a:ext cx="142920" cy="14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3494880" y="4725000"/>
            <a:ext cx="142920" cy="15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3134520" y="2997720"/>
            <a:ext cx="142920" cy="153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254600" y="3573720"/>
            <a:ext cx="142920" cy="154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207240" y="3429360"/>
            <a:ext cx="14292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0" idx="4"/>
            <a:endCxn id="124" idx="1"/>
          </p:cNvCxnSpPr>
          <p:nvPr/>
        </p:nvCxnSpPr>
        <p:spPr>
          <a:xfrm flipV="1">
            <a:off x="2060640" y="3556800"/>
            <a:ext cx="116424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0" idx="6"/>
            <a:endCxn id="127" idx="2"/>
          </p:cNvCxnSpPr>
          <p:nvPr/>
        </p:nvCxnSpPr>
        <p:spPr>
          <a:xfrm flipH="1" flipV="1">
            <a:off x="1828440" y="4444200"/>
            <a:ext cx="140400" cy="56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3" idx="2"/>
            <a:endCxn id="120" idx="0"/>
          </p:cNvCxnSpPr>
          <p:nvPr/>
        </p:nvCxnSpPr>
        <p:spPr>
          <a:xfrm>
            <a:off x="1325160" y="3742920"/>
            <a:ext cx="553320" cy="135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 rot="16200000">
            <a:off x="2343960" y="2493000"/>
            <a:ext cx="142920" cy="15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4" idx="2"/>
            <a:endCxn id="121" idx="6"/>
          </p:cNvCxnSpPr>
          <p:nvPr/>
        </p:nvCxnSpPr>
        <p:spPr>
          <a:xfrm>
            <a:off x="3278160" y="3579480"/>
            <a:ext cx="288000" cy="115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2" idx="7"/>
            <a:endCxn id="129" idx="3"/>
          </p:cNvCxnSpPr>
          <p:nvPr/>
        </p:nvCxnSpPr>
        <p:spPr>
          <a:xfrm flipH="1" flipV="1">
            <a:off x="2467800" y="2620080"/>
            <a:ext cx="664200" cy="40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/>
          <p:nvPr/>
        </p:nvCxnSpPr>
        <p:spPr>
          <a:xfrm flipH="1">
            <a:off x="2050560" y="3146040"/>
            <a:ext cx="1154880" cy="187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3" idx="5"/>
            <a:endCxn id="122" idx="0"/>
          </p:cNvCxnSpPr>
          <p:nvPr/>
        </p:nvCxnSpPr>
        <p:spPr>
          <a:xfrm flipV="1">
            <a:off x="1398600" y="3076200"/>
            <a:ext cx="1712160" cy="526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rot="16200000">
            <a:off x="2554920" y="5162760"/>
            <a:ext cx="142920" cy="144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767600" y="3573720"/>
            <a:ext cx="14292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3126600" y="3933000"/>
            <a:ext cx="142560" cy="153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4" idx="5"/>
            <a:endCxn id="136" idx="2"/>
          </p:cNvCxnSpPr>
          <p:nvPr/>
        </p:nvCxnSpPr>
        <p:spPr>
          <a:xfrm flipV="1">
            <a:off x="2695320" y="4082400"/>
            <a:ext cx="501840" cy="110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4" idx="7"/>
            <a:endCxn id="135" idx="3"/>
          </p:cNvCxnSpPr>
          <p:nvPr/>
        </p:nvCxnSpPr>
        <p:spPr>
          <a:xfrm flipH="1" flipV="1">
            <a:off x="1891800" y="3701520"/>
            <a:ext cx="664560" cy="148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 rot="16200000">
            <a:off x="1757880" y="4294440"/>
            <a:ext cx="14292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1470600" y="5232600"/>
            <a:ext cx="142920" cy="154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6200000">
            <a:off x="821520" y="4728240"/>
            <a:ext cx="142920" cy="15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9" idx="7"/>
            <a:endCxn id="140" idx="3"/>
          </p:cNvCxnSpPr>
          <p:nvPr/>
        </p:nvCxnSpPr>
        <p:spPr>
          <a:xfrm flipH="1" flipV="1">
            <a:off x="945360" y="4855320"/>
            <a:ext cx="523080" cy="40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23" idx="1"/>
            <a:endCxn id="140" idx="6"/>
          </p:cNvCxnSpPr>
          <p:nvPr/>
        </p:nvCxnSpPr>
        <p:spPr>
          <a:xfrm flipH="1">
            <a:off x="891360" y="3701520"/>
            <a:ext cx="361080" cy="103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 flipV="1">
            <a:off x="3851280" y="5378400"/>
            <a:ext cx="2303280" cy="432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51280" y="2209680"/>
            <a:ext cx="2303280" cy="16574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851280" y="5378400"/>
            <a:ext cx="1511280" cy="216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851280" y="3362400"/>
            <a:ext cx="1511280" cy="504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35640" y="3794040"/>
            <a:ext cx="2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98920" y="5162400"/>
            <a:ext cx="2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5162400"/>
            <a:ext cx="2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06920" y="5018040"/>
            <a:ext cx="2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22920" y="4441680"/>
            <a:ext cx="2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4920" y="2786040"/>
            <a:ext cx="2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8.3.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Edges between actions within the same model subsystem can and should be replaced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610920" y="2054160"/>
            <a:ext cx="3600720" cy="345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2158920" y="2304720"/>
            <a:ext cx="934920" cy="1150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1887480" y="3946320"/>
            <a:ext cx="903240" cy="1871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2556720" y="5004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2784960" y="2767320"/>
            <a:ext cx="142920" cy="154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58" idx="0"/>
            <a:endCxn id="161" idx="4"/>
          </p:cNvCxnSpPr>
          <p:nvPr/>
        </p:nvCxnSpPr>
        <p:spPr>
          <a:xfrm rot="10800000">
            <a:off x="1936080" y="4861800"/>
            <a:ext cx="619920" cy="216720"/>
          </a:xfrm>
          <a:prstGeom prst="curvedConnector5">
            <a:avLst>
              <a:gd name="adj1" fmla="val 51481"/>
              <a:gd name="adj2" fmla="val 49916"/>
              <a:gd name="adj3" fmla="val 514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9" idx="2"/>
            <a:endCxn id="158" idx="6"/>
          </p:cNvCxnSpPr>
          <p:nvPr/>
        </p:nvCxnSpPr>
        <p:spPr>
          <a:xfrm rot="5400000">
            <a:off x="1705680" y="3857400"/>
            <a:ext cx="2070720" cy="229320"/>
          </a:xfrm>
          <a:prstGeom prst="curvedConnector5">
            <a:avLst>
              <a:gd name="adj1" fmla="val 49452"/>
              <a:gd name="adj2" fmla="val 50000"/>
              <a:gd name="adj3" fmla="val 494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 rot="16200000">
            <a:off x="1769040" y="4783320"/>
            <a:ext cx="142920" cy="154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977040" y="3559680"/>
            <a:ext cx="142920" cy="15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1" idx="7"/>
            <a:endCxn id="163" idx="3"/>
          </p:cNvCxnSpPr>
          <p:nvPr/>
        </p:nvCxnSpPr>
        <p:spPr>
          <a:xfrm flipH="1" flipV="1">
            <a:off x="1101600" y="3687480"/>
            <a:ext cx="665640" cy="112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9" idx="1"/>
            <a:endCxn id="163" idx="5"/>
          </p:cNvCxnSpPr>
          <p:nvPr/>
        </p:nvCxnSpPr>
        <p:spPr>
          <a:xfrm flipH="1">
            <a:off x="1101240" y="2895120"/>
            <a:ext cx="1681920" cy="69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1116000" y="5005440"/>
            <a:ext cx="2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92360" y="2270160"/>
            <a:ext cx="2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3638520"/>
            <a:ext cx="2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79560" y="2413080"/>
            <a:ext cx="2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71640" y="4862520"/>
            <a:ext cx="2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4930560" y="2054160"/>
            <a:ext cx="3600720" cy="345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6478560" y="2304720"/>
            <a:ext cx="934920" cy="1150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6207120" y="3946320"/>
            <a:ext cx="903240" cy="1871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6876360" y="5004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6200000">
            <a:off x="7104600" y="2767320"/>
            <a:ext cx="142920" cy="154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4" idx="0"/>
            <a:endCxn id="177" idx="4"/>
          </p:cNvCxnSpPr>
          <p:nvPr/>
        </p:nvCxnSpPr>
        <p:spPr>
          <a:xfrm rot="10800000">
            <a:off x="5444280" y="3638520"/>
            <a:ext cx="1431360" cy="1440360"/>
          </a:xfrm>
          <a:prstGeom prst="curvedConnector5">
            <a:avLst>
              <a:gd name="adj1" fmla="val 26515"/>
              <a:gd name="adj2" fmla="val 50000"/>
              <a:gd name="adj3" fmla="val 265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5" idx="2"/>
            <a:endCxn id="174" idx="6"/>
          </p:cNvCxnSpPr>
          <p:nvPr/>
        </p:nvCxnSpPr>
        <p:spPr>
          <a:xfrm rot="5400000">
            <a:off x="6025320" y="3857400"/>
            <a:ext cx="2070720" cy="229320"/>
          </a:xfrm>
          <a:prstGeom prst="curvedConnector5">
            <a:avLst>
              <a:gd name="adj1" fmla="val 49452"/>
              <a:gd name="adj2" fmla="val 50000"/>
              <a:gd name="adj3" fmla="val 494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 rot="16200000">
            <a:off x="6088680" y="4783320"/>
            <a:ext cx="142920" cy="154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5296680" y="3559680"/>
            <a:ext cx="142920" cy="15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9" idx="7"/>
            <a:endCxn id="177" idx="3"/>
          </p:cNvCxnSpPr>
          <p:nvPr/>
        </p:nvCxnSpPr>
        <p:spPr>
          <a:xfrm flipH="1" flipV="1">
            <a:off x="5421240" y="3687480"/>
            <a:ext cx="665640" cy="112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5" idx="1"/>
            <a:endCxn id="177" idx="5"/>
          </p:cNvCxnSpPr>
          <p:nvPr/>
        </p:nvCxnSpPr>
        <p:spPr>
          <a:xfrm flipH="1">
            <a:off x="5420880" y="2895120"/>
            <a:ext cx="1681920" cy="69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5435640" y="5005440"/>
            <a:ext cx="2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12000" y="2270160"/>
            <a:ext cx="2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46560" y="3638520"/>
            <a:ext cx="2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99200" y="2413080"/>
            <a:ext cx="2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91280" y="4862520"/>
            <a:ext cx="2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rot="16200000">
            <a:off x="-726120" y="58374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8.4.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Example DTIMs describing how the login dialogue accesses a remote authentication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1292760" y="2166120"/>
            <a:ext cx="1440000" cy="2447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26701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4317840" y="2454120"/>
            <a:ext cx="1440000" cy="1871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6200000">
            <a:off x="6910200" y="2454120"/>
            <a:ext cx="1440000" cy="1871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2412000" y="2811600"/>
            <a:ext cx="142920" cy="144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3" idx="6"/>
            <a:endCxn id="195" idx="4"/>
          </p:cNvCxnSpPr>
          <p:nvPr/>
        </p:nvCxnSpPr>
        <p:spPr>
          <a:xfrm flipH="1" rot="16200000">
            <a:off x="3583800" y="1713600"/>
            <a:ext cx="356400" cy="2557800"/>
          </a:xfrm>
          <a:prstGeom prst="curvedConnector5">
            <a:avLst>
              <a:gd name="adj1" fmla="val -15975"/>
              <a:gd name="adj2" fmla="val 25689"/>
              <a:gd name="adj3" fmla="val -15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826920" y="2300400"/>
            <a:ext cx="234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Form-Oriented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95640" y="2300400"/>
            <a:ext cx="19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Bookshop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08720" y="230040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Customer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7414200" y="3457800"/>
            <a:ext cx="142920" cy="144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9" idx="1"/>
            <a:endCxn id="201" idx="0"/>
          </p:cNvCxnSpPr>
          <p:nvPr/>
        </p:nvCxnSpPr>
        <p:spPr>
          <a:xfrm flipV="1" rot="10800000">
            <a:off x="4968000" y="3579840"/>
            <a:ext cx="2466360" cy="167040"/>
          </a:xfrm>
          <a:prstGeom prst="curvedConnector5">
            <a:avLst>
              <a:gd name="adj1" fmla="val 50408"/>
              <a:gd name="adj2" fmla="val 49892"/>
              <a:gd name="adj3" fmla="val 5040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6622920" y="280980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Authentication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rot="5400000">
            <a:off x="5039280" y="3097440"/>
            <a:ext cx="142920" cy="144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195" idx="0"/>
            <a:endCxn id="199" idx="7"/>
          </p:cNvCxnSpPr>
          <p:nvPr/>
        </p:nvCxnSpPr>
        <p:spPr>
          <a:xfrm>
            <a:off x="5184360" y="3171960"/>
            <a:ext cx="2250360" cy="310320"/>
          </a:xfrm>
          <a:prstGeom prst="curvedConnector5">
            <a:avLst>
              <a:gd name="adj1" fmla="val 49472"/>
              <a:gd name="adj2" fmla="val 49941"/>
              <a:gd name="adj3" fmla="val 494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4102200" y="37465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rot="5400000">
            <a:off x="4822920" y="3674160"/>
            <a:ext cx="1425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1" idx="5"/>
            <a:endCxn id="193" idx="2"/>
          </p:cNvCxnSpPr>
          <p:nvPr/>
        </p:nvCxnSpPr>
        <p:spPr>
          <a:xfrm rot="10800000">
            <a:off x="2482200" y="2955240"/>
            <a:ext cx="2362680" cy="741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 rot="16200000">
            <a:off x="2124720" y="367704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1" idx="3"/>
            <a:endCxn id="206" idx="4"/>
          </p:cNvCxnSpPr>
          <p:nvPr/>
        </p:nvCxnSpPr>
        <p:spPr>
          <a:xfrm rot="10800000">
            <a:off x="2266200" y="3749040"/>
            <a:ext cx="2578680" cy="48240"/>
          </a:xfrm>
          <a:prstGeom prst="curvedConnector5">
            <a:avLst>
              <a:gd name="adj1" fmla="val 50363"/>
              <a:gd name="adj2" fmla="val 49624"/>
              <a:gd name="adj3" fmla="val 503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755640" y="360684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62560" y="26668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Login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86280" y="1523880"/>
            <a:ext cx="105120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09920" y="1447920"/>
            <a:ext cx="9903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5040" y="1587600"/>
            <a:ext cx="1223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Login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2" idx="3"/>
            <a:endCxn id="210" idx="2"/>
          </p:cNvCxnSpPr>
          <p:nvPr/>
        </p:nvCxnSpPr>
        <p:spPr>
          <a:xfrm>
            <a:off x="5195880" y="1777680"/>
            <a:ext cx="59112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11" idx="6"/>
            <a:endCxn id="212" idx="1"/>
          </p:cNvCxnSpPr>
          <p:nvPr/>
        </p:nvCxnSpPr>
        <p:spPr>
          <a:xfrm>
            <a:off x="3500280" y="1714680"/>
            <a:ext cx="457920" cy="6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12" idx="0"/>
            <a:endCxn id="211" idx="0"/>
          </p:cNvCxnSpPr>
          <p:nvPr/>
        </p:nvCxnSpPr>
        <p:spPr>
          <a:xfrm flipV="1" rot="16200000">
            <a:off x="3720600" y="731520"/>
            <a:ext cx="140400" cy="1572120"/>
          </a:xfrm>
          <a:prstGeom prst="bentConnector3">
            <a:avLst>
              <a:gd name="adj1" fmla="val 2634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304920" y="22096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1222920" y="4514040"/>
            <a:ext cx="1656000" cy="2448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1958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4211640" y="4838400"/>
            <a:ext cx="1728720" cy="1871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6804000" y="4838400"/>
            <a:ext cx="1728720" cy="1871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2412000" y="5337360"/>
            <a:ext cx="142920" cy="144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21" idx="6"/>
            <a:endCxn id="223" idx="4"/>
          </p:cNvCxnSpPr>
          <p:nvPr/>
        </p:nvCxnSpPr>
        <p:spPr>
          <a:xfrm flipH="1" rot="16200000">
            <a:off x="3709080" y="4112640"/>
            <a:ext cx="143640" cy="2596320"/>
          </a:xfrm>
          <a:prstGeom prst="curvedConnector5">
            <a:avLst>
              <a:gd name="adj1" fmla="val -79899"/>
              <a:gd name="adj2" fmla="val 25682"/>
              <a:gd name="adj3" fmla="val -7989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 rot="16200000">
            <a:off x="7452360" y="5770800"/>
            <a:ext cx="142920" cy="144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4" idx="1"/>
            <a:endCxn id="226" idx="0"/>
          </p:cNvCxnSpPr>
          <p:nvPr/>
        </p:nvCxnSpPr>
        <p:spPr>
          <a:xfrm flipV="1" rot="10800000">
            <a:off x="5006160" y="5892840"/>
            <a:ext cx="2466360" cy="167040"/>
          </a:xfrm>
          <a:prstGeom prst="curvedConnector5">
            <a:avLst>
              <a:gd name="adj1" fmla="val 50408"/>
              <a:gd name="adj2" fmla="val 49892"/>
              <a:gd name="adj3" fmla="val 5040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6661080" y="512280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Authentication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rot="5400000">
            <a:off x="5077440" y="5410440"/>
            <a:ext cx="142920" cy="144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3" idx="0"/>
            <a:endCxn id="224" idx="7"/>
          </p:cNvCxnSpPr>
          <p:nvPr/>
        </p:nvCxnSpPr>
        <p:spPr>
          <a:xfrm>
            <a:off x="5222520" y="5484600"/>
            <a:ext cx="2250360" cy="309960"/>
          </a:xfrm>
          <a:prstGeom prst="curvedConnector5">
            <a:avLst>
              <a:gd name="adj1" fmla="val 49472"/>
              <a:gd name="adj2" fmla="val 50000"/>
              <a:gd name="adj3" fmla="val 494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4094280" y="56768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Fail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rot="5400000">
            <a:off x="4861080" y="598680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6" idx="4"/>
            <a:endCxn id="221" idx="2"/>
          </p:cNvCxnSpPr>
          <p:nvPr/>
        </p:nvCxnSpPr>
        <p:spPr>
          <a:xfrm rot="10800000">
            <a:off x="2482920" y="5481000"/>
            <a:ext cx="2379960" cy="578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 rot="16200000">
            <a:off x="2223360" y="61329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31840" y="6059520"/>
            <a:ext cx="12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00720" y="49798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Login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4" idx="2"/>
            <a:endCxn id="235" idx="7"/>
          </p:cNvCxnSpPr>
          <p:nvPr/>
        </p:nvCxnSpPr>
        <p:spPr>
          <a:xfrm rot="5400000">
            <a:off x="6206400" y="4910040"/>
            <a:ext cx="310320" cy="2323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4021200" y="62784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OK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rot="5400000">
            <a:off x="5077440" y="6202440"/>
            <a:ext cx="142920" cy="144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5" idx="4"/>
            <a:endCxn id="231" idx="4"/>
          </p:cNvCxnSpPr>
          <p:nvPr/>
        </p:nvCxnSpPr>
        <p:spPr>
          <a:xfrm rot="10800000">
            <a:off x="2364480" y="6205680"/>
            <a:ext cx="2714040" cy="7020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39" idx="1"/>
          </p:cNvCxnSpPr>
          <p:nvPr/>
        </p:nvCxnSpPr>
        <p:spPr>
          <a:xfrm flipH="1">
            <a:off x="4586040" y="1238040"/>
            <a:ext cx="707040" cy="9900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sp>
        <p:nvSpPr>
          <p:cNvPr id="239" name=""/>
          <p:cNvSpPr/>
          <p:nvPr/>
        </p:nvSpPr>
        <p:spPr>
          <a:xfrm>
            <a:off x="5292720" y="1047600"/>
            <a:ext cx="3240000" cy="368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ow: incorrect pass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41" idx="1"/>
          </p:cNvCxnSpPr>
          <p:nvPr/>
        </p:nvCxnSpPr>
        <p:spPr>
          <a:xfrm flipH="1" flipV="1">
            <a:off x="3351960" y="3504960"/>
            <a:ext cx="428040" cy="94824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cxnSp>
        <p:nvCxnSpPr>
          <p:cNvPr id="242" name=""/>
          <p:cNvCxnSpPr>
            <a:stCxn id="241" idx="3"/>
          </p:cNvCxnSpPr>
          <p:nvPr/>
        </p:nvCxnSpPr>
        <p:spPr>
          <a:xfrm>
            <a:off x="6306840" y="4452480"/>
            <a:ext cx="246600" cy="143892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sp>
        <p:nvSpPr>
          <p:cNvPr id="243" name=""/>
          <p:cNvSpPr/>
          <p:nvPr/>
        </p:nvSpPr>
        <p:spPr>
          <a:xfrm>
            <a:off x="494640" y="406872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olution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4280" y="450216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olution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4000" y="4549680"/>
            <a:ext cx="856908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2590920"/>
            <a:ext cx="8569080" cy="18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85760" y="4262400"/>
            <a:ext cx="25153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ow: incorrect passwor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8.5.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A DTIM and an equivalent DFD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6200000">
            <a:off x="2473200" y="2809440"/>
            <a:ext cx="1514520" cy="790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4752360" y="1834920"/>
            <a:ext cx="3672000" cy="374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7020720" y="2952000"/>
            <a:ext cx="50328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5400000">
            <a:off x="6804000" y="446400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51" idx="0"/>
            <a:endCxn id="254" idx="2"/>
          </p:cNvCxnSpPr>
          <p:nvPr/>
        </p:nvCxnSpPr>
        <p:spPr>
          <a:xfrm flipV="1">
            <a:off x="7526160" y="2736000"/>
            <a:ext cx="394560" cy="46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51" idx="6"/>
            <a:endCxn id="252" idx="1"/>
          </p:cNvCxnSpPr>
          <p:nvPr/>
        </p:nvCxnSpPr>
        <p:spPr>
          <a:xfrm rot="5400000">
            <a:off x="6712920" y="3976560"/>
            <a:ext cx="1081800" cy="40320"/>
          </a:xfrm>
          <a:prstGeom prst="curvedConnector5">
            <a:avLst>
              <a:gd name="adj1" fmla="val 46537"/>
              <a:gd name="adj2" fmla="val -331531"/>
              <a:gd name="adj3" fmla="val 465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52" idx="4"/>
            <a:endCxn id="257" idx="3"/>
          </p:cNvCxnSpPr>
          <p:nvPr/>
        </p:nvCxnSpPr>
        <p:spPr>
          <a:xfrm flipV="1" rot="10800000">
            <a:off x="5939640" y="4715280"/>
            <a:ext cx="864360" cy="36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259" idx="7"/>
            <a:endCxn id="252" idx="3"/>
          </p:cNvCxnSpPr>
          <p:nvPr/>
        </p:nvCxnSpPr>
        <p:spPr>
          <a:xfrm>
            <a:off x="6144840" y="3732120"/>
            <a:ext cx="732600" cy="805680"/>
          </a:xfrm>
          <a:prstGeom prst="curvedConnector5">
            <a:avLst>
              <a:gd name="adj1" fmla="val 50540"/>
              <a:gd name="adj2" fmla="val 49977"/>
              <a:gd name="adj3" fmla="val 505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 rot="5400000">
            <a:off x="5651280" y="3240000"/>
            <a:ext cx="57636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9" idx="1"/>
            <a:endCxn id="251" idx="4"/>
          </p:cNvCxnSpPr>
          <p:nvPr/>
        </p:nvCxnSpPr>
        <p:spPr>
          <a:xfrm flipV="1">
            <a:off x="6145200" y="3203280"/>
            <a:ext cx="876960" cy="122400"/>
          </a:xfrm>
          <a:prstGeom prst="curvedConnector5">
            <a:avLst>
              <a:gd name="adj1" fmla="val 54496"/>
              <a:gd name="adj2" fmla="val 49852"/>
              <a:gd name="adj3" fmla="val 544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59" idx="4"/>
            <a:endCxn id="262" idx="0"/>
          </p:cNvCxnSpPr>
          <p:nvPr/>
        </p:nvCxnSpPr>
        <p:spPr>
          <a:xfrm flipH="1">
            <a:off x="5400000" y="3529080"/>
            <a:ext cx="25452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51" idx="2"/>
            <a:endCxn id="264" idx="2"/>
          </p:cNvCxnSpPr>
          <p:nvPr/>
        </p:nvCxnSpPr>
        <p:spPr>
          <a:xfrm flipH="1" flipV="1">
            <a:off x="6624000" y="2447640"/>
            <a:ext cx="64980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 rot="16200000">
            <a:off x="395280" y="1944360"/>
            <a:ext cx="3600360" cy="345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1214640" y="2700000"/>
            <a:ext cx="934920" cy="1150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6200000">
            <a:off x="1671480" y="3836160"/>
            <a:ext cx="903240" cy="1872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051640" y="4678560"/>
            <a:ext cx="142920" cy="144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16200000">
            <a:off x="3567600" y="4386600"/>
            <a:ext cx="14292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16200000">
            <a:off x="3207240" y="2659320"/>
            <a:ext cx="14292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6200000">
            <a:off x="1840680" y="3162960"/>
            <a:ext cx="142920" cy="153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6200000">
            <a:off x="3280320" y="3090960"/>
            <a:ext cx="14292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68" idx="4"/>
            <a:endCxn id="272" idx="2"/>
          </p:cNvCxnSpPr>
          <p:nvPr/>
        </p:nvCxnSpPr>
        <p:spPr>
          <a:xfrm flipV="1">
            <a:off x="2195640" y="3241440"/>
            <a:ext cx="1156320" cy="1512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71" idx="2"/>
            <a:endCxn id="268" idx="0"/>
          </p:cNvCxnSpPr>
          <p:nvPr/>
        </p:nvCxnSpPr>
        <p:spPr>
          <a:xfrm flipH="1" rot="16200000">
            <a:off x="1270440" y="3972240"/>
            <a:ext cx="1421640" cy="140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 rot="16200000">
            <a:off x="2416680" y="2154600"/>
            <a:ext cx="14292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72" idx="3"/>
            <a:endCxn id="269" idx="7"/>
          </p:cNvCxnSpPr>
          <p:nvPr/>
        </p:nvCxnSpPr>
        <p:spPr>
          <a:xfrm>
            <a:off x="3405240" y="3219480"/>
            <a:ext cx="180000" cy="119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0" idx="7"/>
            <a:endCxn id="275" idx="3"/>
          </p:cNvCxnSpPr>
          <p:nvPr/>
        </p:nvCxnSpPr>
        <p:spPr>
          <a:xfrm flipH="1" flipV="1">
            <a:off x="2541600" y="2282040"/>
            <a:ext cx="682920" cy="40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0" idx="1"/>
            <a:endCxn id="268" idx="6"/>
          </p:cNvCxnSpPr>
          <p:nvPr/>
        </p:nvCxnSpPr>
        <p:spPr>
          <a:xfrm flipH="1">
            <a:off x="2122200" y="2787120"/>
            <a:ext cx="1102320" cy="18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1" idx="5"/>
            <a:endCxn id="270" idx="0"/>
          </p:cNvCxnSpPr>
          <p:nvPr/>
        </p:nvCxnSpPr>
        <p:spPr>
          <a:xfrm flipV="1">
            <a:off x="1984320" y="2737800"/>
            <a:ext cx="121824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 rot="16200000">
            <a:off x="1624680" y="4746960"/>
            <a:ext cx="142920" cy="154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761040" y="3449880"/>
            <a:ext cx="14292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80" idx="7"/>
            <a:endCxn id="281" idx="3"/>
          </p:cNvCxnSpPr>
          <p:nvPr/>
        </p:nvCxnSpPr>
        <p:spPr>
          <a:xfrm flipH="1" flipV="1">
            <a:off x="885600" y="3578040"/>
            <a:ext cx="737280" cy="11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1" idx="1"/>
            <a:endCxn id="281" idx="5"/>
          </p:cNvCxnSpPr>
          <p:nvPr/>
        </p:nvCxnSpPr>
        <p:spPr>
          <a:xfrm flipH="1">
            <a:off x="885240" y="3290400"/>
            <a:ext cx="952920" cy="18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4" name=""/>
          <p:cNvSpPr/>
          <p:nvPr/>
        </p:nvSpPr>
        <p:spPr>
          <a:xfrm>
            <a:off x="900000" y="4896000"/>
            <a:ext cx="2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2376360"/>
            <a:ext cx="2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2087640"/>
            <a:ext cx="2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63640" y="1295280"/>
            <a:ext cx="109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DT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12000" y="1440000"/>
            <a:ext cx="109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D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52" idx="2"/>
            <a:endCxn id="251" idx="5"/>
          </p:cNvCxnSpPr>
          <p:nvPr/>
        </p:nvCxnSpPr>
        <p:spPr>
          <a:xfrm flipH="1" flipV="1" rot="5400000">
            <a:off x="6534000" y="3903120"/>
            <a:ext cx="1083240" cy="38880"/>
          </a:xfrm>
          <a:prstGeom prst="curvedConnector5">
            <a:avLst>
              <a:gd name="adj1" fmla="val 46476"/>
              <a:gd name="adj2" fmla="val -347663"/>
              <a:gd name="adj3" fmla="val 464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5292720" y="4896000"/>
            <a:ext cx="647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4321080"/>
            <a:ext cx="647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00720" y="2087640"/>
            <a:ext cx="647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96360" y="2376360"/>
            <a:ext cx="647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76720" y="2448000"/>
            <a:ext cx="647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" name=""/>
          <p:cNvCxnSpPr>
            <a:stCxn id="290" idx="2"/>
            <a:endCxn id="259" idx="3"/>
          </p:cNvCxnSpPr>
          <p:nvPr/>
        </p:nvCxnSpPr>
        <p:spPr>
          <a:xfrm>
            <a:off x="5400360" y="2808000"/>
            <a:ext cx="338760" cy="51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611280" y="3529080"/>
            <a:ext cx="2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24000" y="2016000"/>
            <a:ext cx="2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19640" y="4537080"/>
            <a:ext cx="2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35280" y="2808360"/>
            <a:ext cx="2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50920" y="4753080"/>
            <a:ext cx="2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80360" y="3887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27640" y="3887640"/>
            <a:ext cx="2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96360" y="4680000"/>
            <a:ext cx="647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299" idx="1"/>
            <a:endCxn id="252" idx="0"/>
          </p:cNvCxnSpPr>
          <p:nvPr/>
        </p:nvCxnSpPr>
        <p:spPr>
          <a:xfrm flipH="1" flipV="1">
            <a:off x="7308000" y="4716000"/>
            <a:ext cx="2883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1332000" y="4680000"/>
            <a:ext cx="2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4:41:27Z</dcterms:created>
  <dc:creator>draheim</dc:creator>
  <dc:description/>
  <dc:language>en-US</dc:language>
  <cp:lastModifiedBy>draheim</cp:lastModifiedBy>
  <dcterms:modified xsi:type="dcterms:W3CDTF">2004-10-13T12:52:32Z</dcterms:modified>
  <cp:revision>23</cp:revision>
  <dc:subject/>
  <dc:title>PowerPoint-Präsentation</dc:title>
</cp:coreProperties>
</file>