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432-5D74-4477-BBA4-CF73401A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984-9339-46E9-A8D6-F3468A01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4CE-6E19-4160-B2AB-026190F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591-990A-4FB2-827C-F9C5F082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2C2-7237-40D2-B3FB-EF3C9A5D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BC9-3C10-4FC0-88C8-23A50C4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467-9514-4D6A-A9E9-6A8C9DE0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968-D84C-4407-8462-3C7D7014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C6E-79E7-4899-9D12-B0DD010C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E64-466D-4CE4-9CD0-0E1B1C3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6AA-60E4-40F8-8561-032A739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A45-D0FE-4500-AEE8-B84D317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990-2CFF-4FC7-9E73-86197B140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s from Chapter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Storybo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5. Page images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533520"/>
            <a:ext cx="3200400" cy="60195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533520"/>
            <a:ext cx="4495680" cy="26668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3505320"/>
            <a:ext cx="4496040" cy="30477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91440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373392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2560" y="1633680"/>
            <a:ext cx="1669680" cy="8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9320" y="5943600"/>
            <a:ext cx="115308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4480" y="8380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2216160"/>
            <a:ext cx="198144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reetAddr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peatedPasswor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hol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4960" y="2684520"/>
            <a:ext cx="214812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40760" y="990720"/>
            <a:ext cx="14166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7" idx="1"/>
            <a:endCxn id="356" idx="2"/>
          </p:cNvCxnSpPr>
          <p:nvPr/>
        </p:nvCxnSpPr>
        <p:spPr>
          <a:xfrm rot="10800000">
            <a:off x="6323760" y="1065960"/>
            <a:ext cx="229320" cy="3013920"/>
          </a:xfrm>
          <a:prstGeom prst="curvedConnector5">
            <a:avLst>
              <a:gd name="adj1" fmla="val 200000"/>
              <a:gd name="adj2" fmla="val 49994"/>
              <a:gd name="adj3" fmla="val 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4" idx="1"/>
            <a:endCxn id="352" idx="2"/>
          </p:cNvCxnSpPr>
          <p:nvPr/>
        </p:nvCxnSpPr>
        <p:spPr>
          <a:xfrm rot="10800000">
            <a:off x="1294560" y="1142280"/>
            <a:ext cx="191520" cy="932760"/>
          </a:xfrm>
          <a:prstGeom prst="curvedConnector5">
            <a:avLst>
              <a:gd name="adj1" fmla="val 219962"/>
              <a:gd name="adj2" fmla="val 50000"/>
              <a:gd name="adj3" fmla="val 21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4" idx="2"/>
            <a:endCxn id="353" idx="1"/>
          </p:cNvCxnSpPr>
          <p:nvPr/>
        </p:nvCxnSpPr>
        <p:spPr>
          <a:xfrm rot="5400000">
            <a:off x="882720" y="2356560"/>
            <a:ext cx="1286640" cy="1602720"/>
          </a:xfrm>
          <a:prstGeom prst="curvedConnector5">
            <a:avLst>
              <a:gd name="adj1" fmla="val 47383"/>
              <a:gd name="adj2" fmla="val 49988"/>
              <a:gd name="adj3" fmla="val 473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7" idx="2"/>
            <a:endCxn id="353" idx="0"/>
          </p:cNvCxnSpPr>
          <p:nvPr/>
        </p:nvCxnSpPr>
        <p:spPr>
          <a:xfrm flipV="1" rot="16200000">
            <a:off x="3352320" y="1752120"/>
            <a:ext cx="2210400" cy="6172920"/>
          </a:xfrm>
          <a:prstGeom prst="curvedConnector5">
            <a:avLst>
              <a:gd name="adj1" fmla="val -10327"/>
              <a:gd name="adj2" fmla="val 18371"/>
              <a:gd name="adj3" fmla="val -103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3" idx="3"/>
            <a:endCxn id="355" idx="1"/>
          </p:cNvCxnSpPr>
          <p:nvPr/>
        </p:nvCxnSpPr>
        <p:spPr>
          <a:xfrm flipH="1" rot="16200000">
            <a:off x="731880" y="4115880"/>
            <a:ext cx="2002680" cy="201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629400" y="490068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29400" y="3090960"/>
            <a:ext cx="1828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98360" y="1447920"/>
            <a:ext cx="14166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56" idx="3"/>
            <a:endCxn id="357" idx="0"/>
          </p:cNvCxnSpPr>
          <p:nvPr/>
        </p:nvCxnSpPr>
        <p:spPr>
          <a:xfrm flipH="1" rot="16200000">
            <a:off x="6579000" y="1252080"/>
            <a:ext cx="988200" cy="940680"/>
          </a:xfrm>
          <a:prstGeom prst="curvedConnector5">
            <a:avLst>
              <a:gd name="adj1" fmla="val 53352"/>
              <a:gd name="adj2" fmla="val 50000"/>
              <a:gd name="adj3" fmla="val 533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2" idx="7"/>
            <a:endCxn id="359" idx="0"/>
          </p:cNvCxnSpPr>
          <p:nvPr/>
        </p:nvCxnSpPr>
        <p:spPr>
          <a:xfrm flipH="1" rot="16200000">
            <a:off x="3538800" y="79200"/>
            <a:ext cx="10440" cy="1811880"/>
          </a:xfrm>
          <a:prstGeom prst="curvedConnector5">
            <a:avLst>
              <a:gd name="adj1" fmla="val -3100000"/>
              <a:gd name="adj2" fmla="val 50000"/>
              <a:gd name="adj3" fmla="val -3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2" idx="4"/>
            <a:endCxn id="354" idx="0"/>
          </p:cNvCxnSpPr>
          <p:nvPr/>
        </p:nvCxnSpPr>
        <p:spPr>
          <a:xfrm flipH="1" rot="16200000">
            <a:off x="2072880" y="1380240"/>
            <a:ext cx="262800" cy="244800"/>
          </a:xfrm>
          <a:prstGeom prst="curvedConnector5">
            <a:avLst>
              <a:gd name="adj1" fmla="val 49657"/>
              <a:gd name="adj2" fmla="val 49926"/>
              <a:gd name="adj3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8" idx="3"/>
            <a:endCxn id="356" idx="1"/>
          </p:cNvCxnSpPr>
          <p:nvPr/>
        </p:nvCxnSpPr>
        <p:spPr>
          <a:xfrm flipV="1">
            <a:off x="5209920" y="904680"/>
            <a:ext cx="1394280" cy="1962720"/>
          </a:xfrm>
          <a:prstGeom prst="curvedConnector5">
            <a:avLst>
              <a:gd name="adj1" fmla="val 39953"/>
              <a:gd name="adj2" fmla="val 57512"/>
              <a:gd name="adj3" fmla="val 3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52" idx="6"/>
            <a:endCxn id="358" idx="0"/>
          </p:cNvCxnSpPr>
          <p:nvPr/>
        </p:nvCxnSpPr>
        <p:spPr>
          <a:xfrm>
            <a:off x="2868480" y="1143000"/>
            <a:ext cx="1261440" cy="1542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1607040" y="4343400"/>
            <a:ext cx="14166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56" idx="6"/>
            <a:endCxn id="367" idx="0"/>
          </p:cNvCxnSpPr>
          <p:nvPr/>
        </p:nvCxnSpPr>
        <p:spPr>
          <a:xfrm flipH="1">
            <a:off x="8106840" y="1066320"/>
            <a:ext cx="123120" cy="381960"/>
          </a:xfrm>
          <a:prstGeom prst="curvedConnector5">
            <a:avLst>
              <a:gd name="adj1" fmla="val -186803"/>
              <a:gd name="adj2" fmla="val 40000"/>
              <a:gd name="adj3" fmla="val -186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3130560" y="4343400"/>
            <a:ext cx="102204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View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7760" y="4800600"/>
            <a:ext cx="80568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9640" y="4800600"/>
            <a:ext cx="17550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Chang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53" idx="7"/>
            <a:endCxn id="377" idx="3"/>
          </p:cNvCxnSpPr>
          <p:nvPr/>
        </p:nvCxnSpPr>
        <p:spPr>
          <a:xfrm flipH="1" rot="16200000">
            <a:off x="2557440" y="3259440"/>
            <a:ext cx="1183320" cy="2262960"/>
          </a:xfrm>
          <a:prstGeom prst="curvedConnector5">
            <a:avLst>
              <a:gd name="adj1" fmla="val -13664"/>
              <a:gd name="adj2" fmla="val 55051"/>
              <a:gd name="adj3" fmla="val -136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3" idx="6"/>
            <a:endCxn id="375" idx="0"/>
          </p:cNvCxnSpPr>
          <p:nvPr/>
        </p:nvCxnSpPr>
        <p:spPr>
          <a:xfrm>
            <a:off x="2286000" y="3962520"/>
            <a:ext cx="135612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53" idx="5"/>
            <a:endCxn id="373" idx="0"/>
          </p:cNvCxnSpPr>
          <p:nvPr/>
        </p:nvCxnSpPr>
        <p:spPr>
          <a:xfrm flipH="1" rot="16200000">
            <a:off x="2056320" y="4084200"/>
            <a:ext cx="219960" cy="299160"/>
          </a:xfrm>
          <a:prstGeom prst="curvedConnector5">
            <a:avLst>
              <a:gd name="adj1" fmla="val 7868"/>
              <a:gd name="adj2" fmla="val 50000"/>
              <a:gd name="adj3" fmla="val 78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53" idx="4"/>
            <a:endCxn id="376" idx="1"/>
          </p:cNvCxnSpPr>
          <p:nvPr/>
        </p:nvCxnSpPr>
        <p:spPr>
          <a:xfrm flipH="1" rot="16200000">
            <a:off x="1089000" y="4472640"/>
            <a:ext cx="7927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6. Form storyboard annotated with interaction information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41760" y="231948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90160" y="1100160"/>
            <a:ext cx="151128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383688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49640" y="393696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32280" y="590076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61280" y="468144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79200" y="3995640"/>
            <a:ext cx="21481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15480" y="256536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03960" y="2548080"/>
            <a:ext cx="137664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84" idx="2"/>
            <a:endCxn id="392" idx="3"/>
          </p:cNvCxnSpPr>
          <p:nvPr/>
        </p:nvCxnSpPr>
        <p:spPr>
          <a:xfrm flipV="1" rot="10800000">
            <a:off x="2286000" y="2547720"/>
            <a:ext cx="135612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4" idx="1"/>
            <a:endCxn id="395" idx="2"/>
          </p:cNvCxnSpPr>
          <p:nvPr/>
        </p:nvCxnSpPr>
        <p:spPr>
          <a:xfrm flipV="1" rot="16200000">
            <a:off x="2835000" y="1343880"/>
            <a:ext cx="378720" cy="1705680"/>
          </a:xfrm>
          <a:prstGeom prst="curvedConnector5">
            <a:avLst>
              <a:gd name="adj1" fmla="val 58801"/>
              <a:gd name="adj2" fmla="val 49989"/>
              <a:gd name="adj3" fmla="val 588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95" idx="3"/>
            <a:endCxn id="384" idx="0"/>
          </p:cNvCxnSpPr>
          <p:nvPr/>
        </p:nvCxnSpPr>
        <p:spPr>
          <a:xfrm>
            <a:off x="3047760" y="1474920"/>
            <a:ext cx="1394280" cy="84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84" idx="7"/>
            <a:endCxn id="385" idx="1"/>
          </p:cNvCxnSpPr>
          <p:nvPr/>
        </p:nvCxnSpPr>
        <p:spPr>
          <a:xfrm flipV="1" rot="16200000">
            <a:off x="4407120" y="1785960"/>
            <a:ext cx="975600" cy="224640"/>
          </a:xfrm>
          <a:prstGeom prst="curvedConnector5">
            <a:avLst>
              <a:gd name="adj1" fmla="val 37430"/>
              <a:gd name="adj2" fmla="val 100963"/>
              <a:gd name="adj3" fmla="val 374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85" idx="2"/>
            <a:endCxn id="384" idx="6"/>
          </p:cNvCxnSpPr>
          <p:nvPr/>
        </p:nvCxnSpPr>
        <p:spPr>
          <a:xfrm rot="5400000">
            <a:off x="4980960" y="1982520"/>
            <a:ext cx="82620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84" idx="5"/>
            <a:endCxn id="391" idx="1"/>
          </p:cNvCxnSpPr>
          <p:nvPr/>
        </p:nvCxnSpPr>
        <p:spPr>
          <a:xfrm flipH="1" rot="16200000">
            <a:off x="5638680" y="2077560"/>
            <a:ext cx="38880" cy="1302480"/>
          </a:xfrm>
          <a:prstGeom prst="curvedConnector5">
            <a:avLst>
              <a:gd name="adj1" fmla="val 774766"/>
              <a:gd name="adj2" fmla="val 29499"/>
              <a:gd name="adj3" fmla="val 7747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84" idx="3"/>
            <a:endCxn id="387" idx="0"/>
          </p:cNvCxnSpPr>
          <p:nvPr/>
        </p:nvCxnSpPr>
        <p:spPr>
          <a:xfrm rot="5400000">
            <a:off x="2170440" y="2230920"/>
            <a:ext cx="1227960" cy="2185200"/>
          </a:xfrm>
          <a:prstGeom prst="curvedConnector5">
            <a:avLst>
              <a:gd name="adj1" fmla="val 52639"/>
              <a:gd name="adj2" fmla="val 49991"/>
              <a:gd name="adj3" fmla="val 526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86" idx="0"/>
            <a:endCxn id="390" idx="0"/>
          </p:cNvCxnSpPr>
          <p:nvPr/>
        </p:nvCxnSpPr>
        <p:spPr>
          <a:xfrm flipH="1" rot="16200000">
            <a:off x="5412240" y="1953720"/>
            <a:ext cx="159480" cy="3923640"/>
          </a:xfrm>
          <a:prstGeom prst="curvedConnector5">
            <a:avLst>
              <a:gd name="adj1" fmla="val -143891"/>
              <a:gd name="adj2" fmla="val 50000"/>
              <a:gd name="adj3" fmla="val -1438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4715280" y="513864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0" idx="2"/>
            <a:endCxn id="389" idx="0"/>
          </p:cNvCxnSpPr>
          <p:nvPr/>
        </p:nvCxnSpPr>
        <p:spPr>
          <a:xfrm flipH="1">
            <a:off x="7362360" y="4358880"/>
            <a:ext cx="914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86" idx="6"/>
            <a:endCxn id="402" idx="1"/>
          </p:cNvCxnSpPr>
          <p:nvPr/>
        </p:nvCxnSpPr>
        <p:spPr>
          <a:xfrm>
            <a:off x="4316040" y="4065480"/>
            <a:ext cx="392760" cy="1256400"/>
          </a:xfrm>
          <a:prstGeom prst="curvedConnector5">
            <a:avLst>
              <a:gd name="adj1" fmla="val 49724"/>
              <a:gd name="adj2" fmla="val 49985"/>
              <a:gd name="adj3" fmla="val 4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89" idx="2"/>
            <a:endCxn id="402" idx="3"/>
          </p:cNvCxnSpPr>
          <p:nvPr/>
        </p:nvCxnSpPr>
        <p:spPr>
          <a:xfrm flipV="1" rot="10800000">
            <a:off x="6138720" y="4909680"/>
            <a:ext cx="322920" cy="411840"/>
          </a:xfrm>
          <a:prstGeom prst="curvedConnector5">
            <a:avLst>
              <a:gd name="adj1" fmla="val 49776"/>
              <a:gd name="adj2" fmla="val 49956"/>
              <a:gd name="adj3" fmla="val 497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88" idx="1"/>
            <a:endCxn id="386" idx="2"/>
          </p:cNvCxnSpPr>
          <p:nvPr/>
        </p:nvCxnSpPr>
        <p:spPr>
          <a:xfrm rot="10800000">
            <a:off x="2742480" y="4064760"/>
            <a:ext cx="283320" cy="2277360"/>
          </a:xfrm>
          <a:prstGeom prst="curvedConnector5">
            <a:avLst>
              <a:gd name="adj1" fmla="val 180788"/>
              <a:gd name="adj2" fmla="val 49992"/>
              <a:gd name="adj3" fmla="val 1807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86" idx="4"/>
            <a:endCxn id="388" idx="0"/>
          </p:cNvCxnSpPr>
          <p:nvPr/>
        </p:nvCxnSpPr>
        <p:spPr>
          <a:xfrm flipH="1" rot="16200000">
            <a:off x="2894400" y="4928760"/>
            <a:ext cx="160740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87" idx="3"/>
            <a:endCxn id="386" idx="1"/>
          </p:cNvCxnSpPr>
          <p:nvPr/>
        </p:nvCxnSpPr>
        <p:spPr>
          <a:xfrm flipV="1">
            <a:off x="2041560" y="3903120"/>
            <a:ext cx="932400" cy="216360"/>
          </a:xfrm>
          <a:prstGeom prst="curvedConnector5">
            <a:avLst>
              <a:gd name="adj1" fmla="val 37620"/>
              <a:gd name="adj2" fmla="val 118333"/>
              <a:gd name="adj3" fmla="val 376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 rot="16200000">
            <a:off x="2104920" y="4984560"/>
            <a:ext cx="148104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94140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450800" y="1284120"/>
            <a:ext cx="1292400" cy="647640"/>
            <a:chOff x="1450800" y="1284120"/>
            <a:chExt cx="1292400" cy="647640"/>
          </a:xfrm>
        </p:grpSpPr>
        <p:sp>
          <p:nvSpPr>
            <p:cNvPr id="411" name=""/>
            <p:cNvSpPr/>
            <p:nvPr/>
          </p:nvSpPr>
          <p:spPr>
            <a:xfrm>
              <a:off x="1488960" y="1320480"/>
              <a:ext cx="121932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50800" y="1284120"/>
              <a:ext cx="1292400" cy="64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447920" y="941400"/>
            <a:ext cx="144756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6. Form storyboard annotated with interaction information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2680" y="123660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45784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293544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63720" y="5950080"/>
            <a:ext cx="1153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34320" y="160668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4"/>
            <a:endCxn id="422" idx="0"/>
          </p:cNvCxnSpPr>
          <p:nvPr/>
        </p:nvCxnSpPr>
        <p:spPr>
          <a:xfrm rot="5400000">
            <a:off x="7147800" y="2154240"/>
            <a:ext cx="778320" cy="597600"/>
          </a:xfrm>
          <a:prstGeom prst="curvedConnector5">
            <a:avLst>
              <a:gd name="adj1" fmla="val 49976"/>
              <a:gd name="adj2" fmla="val 49969"/>
              <a:gd name="adj3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endCxn id="420" idx="7"/>
          </p:cNvCxnSpPr>
          <p:nvPr/>
        </p:nvCxnSpPr>
        <p:spPr>
          <a:xfrm flipV="1">
            <a:off x="8458200" y="1672920"/>
            <a:ext cx="15120" cy="3093120"/>
          </a:xfrm>
          <a:prstGeom prst="curvedConnector5">
            <a:avLst>
              <a:gd name="adj1" fmla="val 3543902"/>
              <a:gd name="adj2" fmla="val 54766"/>
              <a:gd name="adj3" fmla="val 35439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8" idx="2"/>
            <a:endCxn id="417" idx="0"/>
          </p:cNvCxnSpPr>
          <p:nvPr/>
        </p:nvCxnSpPr>
        <p:spPr>
          <a:xfrm rot="5400000">
            <a:off x="3731400" y="3970080"/>
            <a:ext cx="762840" cy="454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endCxn id="417" idx="7"/>
          </p:cNvCxnSpPr>
          <p:nvPr/>
        </p:nvCxnSpPr>
        <p:spPr>
          <a:xfrm rot="10800000">
            <a:off x="4531680" y="4644360"/>
            <a:ext cx="1488240" cy="121320"/>
          </a:xfrm>
          <a:prstGeom prst="curvedConnector5">
            <a:avLst>
              <a:gd name="adj1" fmla="val 40962"/>
              <a:gd name="adj2" fmla="val 172321"/>
              <a:gd name="adj3" fmla="val 40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1454760" y="549288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7" idx="2"/>
            <a:endCxn id="426" idx="0"/>
          </p:cNvCxnSpPr>
          <p:nvPr/>
        </p:nvCxnSpPr>
        <p:spPr>
          <a:xfrm flipV="1" rot="10800000">
            <a:off x="2162880" y="4806000"/>
            <a:ext cx="80892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7" idx="4"/>
            <a:endCxn id="419" idx="0"/>
          </p:cNvCxnSpPr>
          <p:nvPr/>
        </p:nvCxnSpPr>
        <p:spPr>
          <a:xfrm flipH="1" rot="16200000">
            <a:off x="3605040" y="5315760"/>
            <a:ext cx="915120" cy="3546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6095880" y="5529240"/>
            <a:ext cx="182880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3679920"/>
            <a:ext cx="1828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6" idx="2"/>
            <a:endCxn id="417" idx="1"/>
          </p:cNvCxnSpPr>
          <p:nvPr/>
        </p:nvCxnSpPr>
        <p:spPr>
          <a:xfrm flipH="1" rot="16200000">
            <a:off x="1179360" y="2585160"/>
            <a:ext cx="3045600" cy="1075320"/>
          </a:xfrm>
          <a:prstGeom prst="curvedConnector5">
            <a:avLst>
              <a:gd name="adj1" fmla="val 48906"/>
              <a:gd name="adj2" fmla="val 50000"/>
              <a:gd name="adj3" fmla="val 48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 rot="16200000">
            <a:off x="7988040" y="2849400"/>
            <a:ext cx="148104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7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4207200">
            <a:off x="1092600" y="2693160"/>
            <a:ext cx="213372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700" spc="-1" strike="noStrike">
                <a:solidFill>
                  <a:srgbClr val="000000"/>
                </a:solidFill>
                <a:latin typeface="Times New Roman"/>
              </a:rPr>
              <a:t>user already logged 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2841480"/>
            <a:ext cx="2438280" cy="378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reetAddr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peatedPasswor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hol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7. Message storyboard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6720" y="298440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8" idx="1"/>
            <a:endCxn id="439" idx="0"/>
          </p:cNvCxnSpPr>
          <p:nvPr/>
        </p:nvCxnSpPr>
        <p:spPr>
          <a:xfrm flipV="1" rot="10800000">
            <a:off x="5198400" y="5726520"/>
            <a:ext cx="440280" cy="47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5638680" y="557532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2832120"/>
            <a:ext cx="3200400" cy="373392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5840" y="609480"/>
            <a:ext cx="151128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41800" y="367020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3680" y="571500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93000" y="3898800"/>
            <a:ext cx="21481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9800" y="2362320"/>
            <a:ext cx="137664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7" idx="1"/>
            <a:endCxn id="445" idx="3"/>
          </p:cNvCxnSpPr>
          <p:nvPr/>
        </p:nvCxnSpPr>
        <p:spPr>
          <a:xfrm flipV="1" rot="10800000">
            <a:off x="2301120" y="2488680"/>
            <a:ext cx="594360" cy="185040"/>
          </a:xfrm>
          <a:prstGeom prst="curvedConnector5">
            <a:avLst>
              <a:gd name="adj1" fmla="val 50000"/>
              <a:gd name="adj2" fmla="val 4990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9" idx="0"/>
            <a:endCxn id="441" idx="1"/>
          </p:cNvCxnSpPr>
          <p:nvPr/>
        </p:nvCxnSpPr>
        <p:spPr>
          <a:xfrm flipH="1" flipV="1" rot="5400000">
            <a:off x="4929840" y="905040"/>
            <a:ext cx="464040" cy="494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1" idx="2"/>
            <a:endCxn id="447" idx="3"/>
          </p:cNvCxnSpPr>
          <p:nvPr/>
        </p:nvCxnSpPr>
        <p:spPr>
          <a:xfrm rot="5400000">
            <a:off x="5238000" y="1555560"/>
            <a:ext cx="12578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0"/>
            <a:endCxn id="452" idx="1"/>
          </p:cNvCxnSpPr>
          <p:nvPr/>
        </p:nvCxnSpPr>
        <p:spPr>
          <a:xfrm flipH="1" flipV="1" rot="5400000">
            <a:off x="1486800" y="4992120"/>
            <a:ext cx="534240" cy="911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52" idx="2"/>
            <a:endCxn id="443" idx="3"/>
          </p:cNvCxnSpPr>
          <p:nvPr/>
        </p:nvCxnSpPr>
        <p:spPr>
          <a:xfrm rot="5400000">
            <a:off x="2429640" y="5500440"/>
            <a:ext cx="365760" cy="947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2" idx="2"/>
            <a:endCxn id="455" idx="0"/>
          </p:cNvCxnSpPr>
          <p:nvPr/>
        </p:nvCxnSpPr>
        <p:spPr>
          <a:xfrm flipH="1" rot="16200000">
            <a:off x="1974600" y="3842280"/>
            <a:ext cx="538920" cy="921240"/>
          </a:xfrm>
          <a:prstGeom prst="curvedConnector5">
            <a:avLst>
              <a:gd name="adj1" fmla="val 49799"/>
              <a:gd name="adj2" fmla="val 50000"/>
              <a:gd name="adj3" fmla="val 497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36" idx="1"/>
            <a:endCxn id="442" idx="3"/>
          </p:cNvCxnSpPr>
          <p:nvPr/>
        </p:nvCxnSpPr>
        <p:spPr>
          <a:xfrm flipV="1" rot="10800000">
            <a:off x="2133000" y="3173760"/>
            <a:ext cx="1143720" cy="678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8" idx="0"/>
            <a:endCxn id="447" idx="0"/>
          </p:cNvCxnSpPr>
          <p:nvPr/>
        </p:nvCxnSpPr>
        <p:spPr>
          <a:xfrm flipH="1" rot="16200000">
            <a:off x="2781360" y="-64800"/>
            <a:ext cx="533880" cy="2363040"/>
          </a:xfrm>
          <a:prstGeom prst="curvedConnector5">
            <a:avLst>
              <a:gd name="adj1" fmla="val -42847"/>
              <a:gd name="adj2" fmla="val 49992"/>
              <a:gd name="adj3" fmla="val -42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60" idx="1"/>
            <a:endCxn id="458" idx="3"/>
          </p:cNvCxnSpPr>
          <p:nvPr/>
        </p:nvCxnSpPr>
        <p:spPr>
          <a:xfrm rot="10800000">
            <a:off x="2742480" y="1383480"/>
            <a:ext cx="457920" cy="419760"/>
          </a:xfrm>
          <a:prstGeom prst="curvedConnector5">
            <a:avLst>
              <a:gd name="adj1" fmla="val 49960"/>
              <a:gd name="adj2" fmla="val 49957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1454040" y="5181480"/>
            <a:ext cx="282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9040" y="1828800"/>
            <a:ext cx="148680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 error occ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52" idx="0"/>
            <a:endCxn id="444" idx="2"/>
          </p:cNvCxnSpPr>
          <p:nvPr/>
        </p:nvCxnSpPr>
        <p:spPr>
          <a:xfrm flipH="1" flipV="1" rot="5400000">
            <a:off x="3171600" y="4176360"/>
            <a:ext cx="310320" cy="481680"/>
          </a:xfrm>
          <a:prstGeom prst="curvedConnector5">
            <a:avLst>
              <a:gd name="adj1" fmla="val 49709"/>
              <a:gd name="adj2" fmla="val 49962"/>
              <a:gd name="adj3" fmla="val 49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44" idx="3"/>
            <a:endCxn id="440" idx="1"/>
          </p:cNvCxnSpPr>
          <p:nvPr/>
        </p:nvCxnSpPr>
        <p:spPr>
          <a:xfrm>
            <a:off x="4647960" y="4081320"/>
            <a:ext cx="610200" cy="61848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5791320" y="2895480"/>
            <a:ext cx="25905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rrorMess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StreetAddr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C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Card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Card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Expi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Cardhol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3979800"/>
            <a:ext cx="2244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91320" y="5275440"/>
            <a:ext cx="2244600" cy="10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86640" y="620244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46840" y="6202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56120" y="6202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52" idx="3"/>
            <a:endCxn id="469" idx="0"/>
          </p:cNvCxnSpPr>
          <p:nvPr/>
        </p:nvCxnSpPr>
        <p:spPr>
          <a:xfrm>
            <a:off x="3962160" y="5181480"/>
            <a:ext cx="246600" cy="102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5715000" y="618480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618480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1384200"/>
            <a:ext cx="2667240" cy="22100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161280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138420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4572000"/>
            <a:ext cx="1752840" cy="1219320"/>
          </a:xfrm>
          <a:prstGeom prst="flowChartDisp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rror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45720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1401840"/>
            <a:ext cx="17683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author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429000" y="2149560"/>
            <a:ext cx="1519200" cy="377640"/>
            <a:chOff x="3429000" y="2149560"/>
            <a:chExt cx="1519200" cy="377640"/>
          </a:xfrm>
        </p:grpSpPr>
        <p:sp>
          <p:nvSpPr>
            <p:cNvPr id="475" name=""/>
            <p:cNvSpPr/>
            <p:nvPr/>
          </p:nvSpPr>
          <p:spPr>
            <a:xfrm>
              <a:off x="3463920" y="2185560"/>
              <a:ext cx="1447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29000" y="2149560"/>
              <a:ext cx="1519200" cy="37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352680" y="1765440"/>
            <a:ext cx="1824120" cy="1672920"/>
            <a:chOff x="3352680" y="1765440"/>
            <a:chExt cx="1824120" cy="1672920"/>
          </a:xfrm>
        </p:grpSpPr>
        <p:sp>
          <p:nvSpPr>
            <p:cNvPr id="478" name=""/>
            <p:cNvSpPr/>
            <p:nvPr/>
          </p:nvSpPr>
          <p:spPr>
            <a:xfrm>
              <a:off x="3387600" y="1801800"/>
              <a:ext cx="1752480" cy="159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52680" y="1765440"/>
              <a:ext cx="1824120" cy="167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143000" y="851040"/>
            <a:ext cx="144792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85104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146240" y="1193760"/>
            <a:ext cx="1292040" cy="647640"/>
            <a:chOff x="1146240" y="1193760"/>
            <a:chExt cx="1292040" cy="647640"/>
          </a:xfrm>
        </p:grpSpPr>
        <p:sp>
          <p:nvSpPr>
            <p:cNvPr id="482" name=""/>
            <p:cNvSpPr/>
            <p:nvPr/>
          </p:nvSpPr>
          <p:spPr>
            <a:xfrm>
              <a:off x="1184040" y="1230120"/>
              <a:ext cx="12189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46240" y="1193760"/>
              <a:ext cx="1292040" cy="64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7. Message storyboard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1"/>
            <a:endCxn id="489" idx="0"/>
          </p:cNvCxnSpPr>
          <p:nvPr/>
        </p:nvCxnSpPr>
        <p:spPr>
          <a:xfrm flipV="1" rot="10800000">
            <a:off x="2410560" y="5524200"/>
            <a:ext cx="109476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91" idx="1"/>
            <a:endCxn id="492" idx="0"/>
          </p:cNvCxnSpPr>
          <p:nvPr/>
        </p:nvCxnSpPr>
        <p:spPr>
          <a:xfrm flipV="1" rot="10800000">
            <a:off x="2315520" y="4609800"/>
            <a:ext cx="961200" cy="51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3276720" y="44197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2362320"/>
            <a:ext cx="2667240" cy="43434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609480"/>
            <a:ext cx="2361960" cy="144792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2280" y="129528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8960" y="106668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4920" y="6019920"/>
            <a:ext cx="1153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7040" y="512280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5" idx="1"/>
            <a:endCxn id="493" idx="1"/>
          </p:cNvCxnSpPr>
          <p:nvPr/>
        </p:nvCxnSpPr>
        <p:spPr>
          <a:xfrm flipH="1" flipV="1" rot="10800000">
            <a:off x="684720" y="1476720"/>
            <a:ext cx="2439000" cy="3056760"/>
          </a:xfrm>
          <a:prstGeom prst="curvedConnector5">
            <a:avLst>
              <a:gd name="adj1" fmla="val -9374"/>
              <a:gd name="adj2" fmla="val 50000"/>
              <a:gd name="adj3" fmla="val -93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3657600" y="2421000"/>
            <a:ext cx="213372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reet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runcatedCar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author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total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1"/>
            <a:endCxn id="493" idx="3"/>
          </p:cNvCxnSpPr>
          <p:nvPr/>
        </p:nvCxnSpPr>
        <p:spPr>
          <a:xfrm rot="10800000">
            <a:off x="5790600" y="4533120"/>
            <a:ext cx="610200" cy="12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311040" y="2286000"/>
            <a:ext cx="282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0200" y="762120"/>
            <a:ext cx="2133000" cy="1067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 user already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 error occ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4 shipping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 paymen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6" idx="2"/>
            <a:endCxn id="493" idx="0"/>
          </p:cNvCxnSpPr>
          <p:nvPr/>
        </p:nvCxnSpPr>
        <p:spPr>
          <a:xfrm flipH="1" rot="16200000">
            <a:off x="3318480" y="1222560"/>
            <a:ext cx="415080" cy="1864800"/>
          </a:xfrm>
          <a:prstGeom prst="curvedConnector5">
            <a:avLst>
              <a:gd name="adj1" fmla="val 49739"/>
              <a:gd name="adj2" fmla="val 49990"/>
              <a:gd name="adj3" fmla="val 49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"/>
          <p:cNvSpPr/>
          <p:nvPr/>
        </p:nvSpPr>
        <p:spPr>
          <a:xfrm>
            <a:off x="6858000" y="16765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27655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4" idx="2"/>
            <a:endCxn id="505" idx="0"/>
          </p:cNvCxnSpPr>
          <p:nvPr/>
        </p:nvCxnSpPr>
        <p:spPr>
          <a:xfrm flipH="1" rot="16200000">
            <a:off x="6770520" y="2334600"/>
            <a:ext cx="70884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7924680" y="16765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20120" y="27655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 rot="5400000">
            <a:off x="7608240" y="2258640"/>
            <a:ext cx="708840" cy="30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7854840" y="2320920"/>
            <a:ext cx="282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-3808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7120" y="5452920"/>
            <a:ext cx="1828800" cy="10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77120" y="3603600"/>
            <a:ext cx="1828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2765520"/>
            <a:ext cx="2438280" cy="378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reetAddr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peatedPasswor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hol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656160" y="5073480"/>
            <a:ext cx="1519200" cy="378000"/>
            <a:chOff x="3656160" y="5073480"/>
            <a:chExt cx="1519200" cy="378000"/>
          </a:xfrm>
        </p:grpSpPr>
        <p:sp>
          <p:nvSpPr>
            <p:cNvPr id="515" name=""/>
            <p:cNvSpPr/>
            <p:nvPr/>
          </p:nvSpPr>
          <p:spPr>
            <a:xfrm>
              <a:off x="3691080" y="5109840"/>
              <a:ext cx="1447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56160" y="5073480"/>
              <a:ext cx="1519200" cy="37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3581280" y="41911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2971800"/>
            <a:ext cx="1676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53341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35320" y="2819520"/>
            <a:ext cx="282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40240" y="3962520"/>
            <a:ext cx="282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581280" y="4952880"/>
            <a:ext cx="1828800" cy="1406520"/>
            <a:chOff x="3581280" y="4952880"/>
            <a:chExt cx="1828800" cy="1406520"/>
          </a:xfrm>
        </p:grpSpPr>
        <p:sp>
          <p:nvSpPr>
            <p:cNvPr id="522" name=""/>
            <p:cNvSpPr/>
            <p:nvPr/>
          </p:nvSpPr>
          <p:spPr>
            <a:xfrm>
              <a:off x="3581280" y="4952880"/>
              <a:ext cx="1828800" cy="140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17640" y="4989600"/>
              <a:ext cx="1755720" cy="13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858000" y="609480"/>
            <a:ext cx="259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rrorMess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default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700" spc="-1" strike="noStrike">
                <a:solidFill>
                  <a:srgbClr val="000000"/>
                </a:solidFill>
                <a:latin typeface="Times New Roman"/>
              </a:rPr>
              <a:t>and so on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3120" y="190512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190512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55880" y="190512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419400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1520" y="5943600"/>
            <a:ext cx="13716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41940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arch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9920" y="41940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6"/>
            <a:endCxn id="45" idx="2"/>
          </p:cNvCxnSpPr>
          <p:nvPr/>
        </p:nvCxnSpPr>
        <p:spPr>
          <a:xfrm>
            <a:off x="2155320" y="2133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2"/>
            <a:endCxn id="45" idx="6"/>
          </p:cNvCxnSpPr>
          <p:nvPr/>
        </p:nvCxnSpPr>
        <p:spPr>
          <a:xfrm flipH="1">
            <a:off x="4898520" y="213336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222720" y="2057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4" idx="0"/>
          </p:cNvCxnSpPr>
          <p:nvPr/>
        </p:nvCxnSpPr>
        <p:spPr>
          <a:xfrm flipV="1" rot="16200000">
            <a:off x="2364840" y="1123200"/>
            <a:ext cx="153000" cy="171504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356080" y="2057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0"/>
            <a:endCxn id="43" idx="0"/>
          </p:cNvCxnSpPr>
          <p:nvPr/>
        </p:nvCxnSpPr>
        <p:spPr>
          <a:xfrm flipH="1" flipV="1" rot="5400000">
            <a:off x="6136920" y="1199520"/>
            <a:ext cx="153000" cy="156276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4"/>
            <a:endCxn id="49" idx="0"/>
          </p:cNvCxnSpPr>
          <p:nvPr/>
        </p:nvCxnSpPr>
        <p:spPr>
          <a:xfrm flipV="1" rot="10800000">
            <a:off x="4326840" y="2361960"/>
            <a:ext cx="1080" cy="183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6" idx="5"/>
            <a:endCxn id="46" idx="7"/>
          </p:cNvCxnSpPr>
          <p:nvPr/>
        </p:nvCxnSpPr>
        <p:spPr>
          <a:xfrm flipH="1" flipV="1" rot="5400000">
            <a:off x="7161840" y="4421520"/>
            <a:ext cx="324360" cy="2160"/>
          </a:xfrm>
          <a:prstGeom prst="curvedConnector5">
            <a:avLst>
              <a:gd name="adj1" fmla="val -91111"/>
              <a:gd name="adj2" fmla="val 25640000"/>
              <a:gd name="adj3" fmla="val -911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7" idx="0"/>
          </p:cNvCxnSpPr>
          <p:nvPr/>
        </p:nvCxnSpPr>
        <p:spPr>
          <a:xfrm flipH="1">
            <a:off x="5736600" y="4651200"/>
            <a:ext cx="1181880" cy="12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6" idx="2"/>
            <a:endCxn id="49" idx="6"/>
          </p:cNvCxnSpPr>
          <p:nvPr/>
        </p:nvCxnSpPr>
        <p:spPr>
          <a:xfrm flipH="1">
            <a:off x="4974840" y="4422240"/>
            <a:ext cx="1372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9" idx="4"/>
            <a:endCxn id="47" idx="1"/>
          </p:cNvCxnSpPr>
          <p:nvPr/>
        </p:nvCxnSpPr>
        <p:spPr>
          <a:xfrm>
            <a:off x="4327200" y="4650840"/>
            <a:ext cx="926280" cy="13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8" idx="4"/>
            <a:endCxn id="47" idx="2"/>
          </p:cNvCxnSpPr>
          <p:nvPr/>
        </p:nvCxnSpPr>
        <p:spPr>
          <a:xfrm flipH="1" rot="16200000">
            <a:off x="2556360" y="3677760"/>
            <a:ext cx="1521720" cy="346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8" idx="6"/>
            <a:endCxn id="49" idx="2"/>
          </p:cNvCxnSpPr>
          <p:nvPr/>
        </p:nvCxnSpPr>
        <p:spPr>
          <a:xfrm>
            <a:off x="2232000" y="442224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4" idx="2"/>
            <a:endCxn id="43" idx="6"/>
          </p:cNvCxnSpPr>
          <p:nvPr/>
        </p:nvCxnSpPr>
        <p:spPr>
          <a:xfrm flipH="1" flipV="1" rot="10800000">
            <a:off x="1012320" y="2133360"/>
            <a:ext cx="6554160" cy="2160"/>
          </a:xfrm>
          <a:prstGeom prst="bentConnector5">
            <a:avLst>
              <a:gd name="adj1" fmla="val -3482"/>
              <a:gd name="adj2" fmla="val -76400000"/>
              <a:gd name="adj3" fmla="val 1034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317600" y="1133640"/>
            <a:ext cx="227808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login data was errone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45160" y="1143000"/>
            <a:ext cx="27990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registration data was erroneous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5" idx="2"/>
          </p:cNvCxnSpPr>
          <p:nvPr/>
        </p:nvCxnSpPr>
        <p:spPr>
          <a:xfrm flipH="1">
            <a:off x="6043320" y="1460520"/>
            <a:ext cx="102240" cy="219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7" name=""/>
          <p:cNvCxnSpPr>
            <a:stCxn id="64" idx="2"/>
          </p:cNvCxnSpPr>
          <p:nvPr/>
        </p:nvCxnSpPr>
        <p:spPr>
          <a:xfrm>
            <a:off x="2457000" y="1450440"/>
            <a:ext cx="137160" cy="229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8" name=""/>
          <p:cNvCxnSpPr>
            <a:stCxn id="45" idx="5"/>
            <a:endCxn id="46" idx="1"/>
          </p:cNvCxnSpPr>
          <p:nvPr/>
        </p:nvCxnSpPr>
        <p:spPr>
          <a:xfrm flipH="1" rot="16200000">
            <a:off x="4640040" y="2387160"/>
            <a:ext cx="1966320" cy="1782000"/>
          </a:xfrm>
          <a:prstGeom prst="bentConnector3">
            <a:avLst>
              <a:gd name="adj1" fmla="val 776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4080" y="3124080"/>
            <a:ext cx="220320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select a book out of a lis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featured books in order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view details of the b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1840" y="2971800"/>
            <a:ext cx="298044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browse the books on offer by expl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more and more sub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57120" y="5276880"/>
            <a:ext cx="232812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select books out of a l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of featured books in order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dd them to the shopping c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9" idx="3"/>
          </p:cNvCxnSpPr>
          <p:nvPr/>
        </p:nvCxnSpPr>
        <p:spPr>
          <a:xfrm flipV="1">
            <a:off x="2987640" y="3200400"/>
            <a:ext cx="1302480" cy="295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3" name=""/>
          <p:cNvCxnSpPr>
            <a:stCxn id="69" idx="3"/>
          </p:cNvCxnSpPr>
          <p:nvPr/>
        </p:nvCxnSpPr>
        <p:spPr>
          <a:xfrm>
            <a:off x="2987640" y="3495240"/>
            <a:ext cx="2750400" cy="924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4" name=""/>
          <p:cNvCxnSpPr>
            <a:stCxn id="69" idx="3"/>
          </p:cNvCxnSpPr>
          <p:nvPr/>
        </p:nvCxnSpPr>
        <p:spPr>
          <a:xfrm>
            <a:off x="2987640" y="3495240"/>
            <a:ext cx="464400" cy="924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" name=""/>
          <p:cNvCxnSpPr>
            <a:endCxn id="70" idx="2"/>
          </p:cNvCxnSpPr>
          <p:nvPr/>
        </p:nvCxnSpPr>
        <p:spPr>
          <a:xfrm flipH="1" flipV="1">
            <a:off x="6311520" y="3501360"/>
            <a:ext cx="1308960" cy="461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" name=""/>
          <p:cNvCxnSpPr>
            <a:stCxn id="71" idx="3"/>
            <a:endCxn id="77" idx="1"/>
          </p:cNvCxnSpPr>
          <p:nvPr/>
        </p:nvCxnSpPr>
        <p:spPr>
          <a:xfrm flipV="1">
            <a:off x="4484520" y="5409720"/>
            <a:ext cx="1748880" cy="239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8" name=""/>
          <p:cNvCxnSpPr>
            <a:stCxn id="71" idx="3"/>
          </p:cNvCxnSpPr>
          <p:nvPr/>
        </p:nvCxnSpPr>
        <p:spPr>
          <a:xfrm>
            <a:off x="4484160" y="5648400"/>
            <a:ext cx="305640" cy="54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9" name=""/>
          <p:cNvCxnSpPr>
            <a:endCxn id="70" idx="2"/>
          </p:cNvCxnSpPr>
          <p:nvPr/>
        </p:nvCxnSpPr>
        <p:spPr>
          <a:xfrm flipV="1">
            <a:off x="5737320" y="3501360"/>
            <a:ext cx="575280" cy="3085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0" name=""/>
          <p:cNvSpPr/>
          <p:nvPr/>
        </p:nvSpPr>
        <p:spPr>
          <a:xfrm>
            <a:off x="7167600" y="5778360"/>
            <a:ext cx="14731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delete a cart i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endCxn id="80" idx="1"/>
          </p:cNvCxnSpPr>
          <p:nvPr/>
        </p:nvCxnSpPr>
        <p:spPr>
          <a:xfrm flipV="1">
            <a:off x="6705720" y="5936760"/>
            <a:ext cx="457920" cy="835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2" name=""/>
          <p:cNvCxnSpPr>
            <a:stCxn id="47" idx="5"/>
            <a:endCxn id="47" idx="7"/>
          </p:cNvCxnSpPr>
          <p:nvPr/>
        </p:nvCxnSpPr>
        <p:spPr>
          <a:xfrm flipH="1" flipV="1" rot="5400000">
            <a:off x="6059880" y="6171120"/>
            <a:ext cx="324720" cy="2160"/>
          </a:xfrm>
          <a:prstGeom prst="curvedConnector5">
            <a:avLst>
              <a:gd name="adj1" fmla="val -91120"/>
              <a:gd name="adj2" fmla="val 24080000"/>
              <a:gd name="adj3" fmla="val -911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47" idx="5"/>
            <a:endCxn id="47" idx="7"/>
          </p:cNvCxnSpPr>
          <p:nvPr/>
        </p:nvCxnSpPr>
        <p:spPr>
          <a:xfrm flipH="1" flipV="1" rot="5400000">
            <a:off x="6059880" y="6171120"/>
            <a:ext cx="324720" cy="2160"/>
          </a:xfrm>
          <a:prstGeom prst="curvedConnector5">
            <a:avLst>
              <a:gd name="adj1" fmla="val -46059"/>
              <a:gd name="adj2" fmla="val 17140000"/>
              <a:gd name="adj3" fmla="val -460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959880" y="5321160"/>
            <a:ext cx="142596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update cart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endCxn id="84" idx="1"/>
          </p:cNvCxnSpPr>
          <p:nvPr/>
        </p:nvCxnSpPr>
        <p:spPr>
          <a:xfrm flipV="1">
            <a:off x="6727320" y="5479560"/>
            <a:ext cx="229320" cy="223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6" name=""/>
          <p:cNvSpPr/>
          <p:nvPr/>
        </p:nvSpPr>
        <p:spPr>
          <a:xfrm>
            <a:off x="1850040" y="4800600"/>
            <a:ext cx="232956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dd book to the shopping c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3"/>
          </p:cNvCxnSpPr>
          <p:nvPr/>
        </p:nvCxnSpPr>
        <p:spPr>
          <a:xfrm>
            <a:off x="4177800" y="4959000"/>
            <a:ext cx="492840" cy="222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77" name=""/>
          <p:cNvSpPr/>
          <p:nvPr/>
        </p:nvSpPr>
        <p:spPr>
          <a:xfrm>
            <a:off x="6232680" y="5334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4.1. Page Diagram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1. Page Diagram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1520" y="1073160"/>
            <a:ext cx="13716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46600" y="4267080"/>
            <a:ext cx="19810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75200" y="5943600"/>
            <a:ext cx="15238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1120" y="5486400"/>
            <a:ext cx="1676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03400" y="31240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61000" y="2743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4"/>
            <a:endCxn id="96" idx="0"/>
          </p:cNvCxnSpPr>
          <p:nvPr/>
        </p:nvCxnSpPr>
        <p:spPr>
          <a:xfrm>
            <a:off x="5736960" y="1530000"/>
            <a:ext cx="1080" cy="12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6" idx="2"/>
            <a:endCxn id="92" idx="0"/>
          </p:cNvCxnSpPr>
          <p:nvPr/>
        </p:nvCxnSpPr>
        <p:spPr>
          <a:xfrm>
            <a:off x="5736960" y="289548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1"/>
            <a:endCxn id="95" idx="0"/>
          </p:cNvCxnSpPr>
          <p:nvPr/>
        </p:nvCxnSpPr>
        <p:spPr>
          <a:xfrm flipV="1" rot="10800000">
            <a:off x="2650320" y="2819160"/>
            <a:ext cx="30106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289400" y="3276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3"/>
            <a:endCxn id="92" idx="1"/>
          </p:cNvCxnSpPr>
          <p:nvPr/>
        </p:nvCxnSpPr>
        <p:spPr>
          <a:xfrm>
            <a:off x="4441680" y="3352680"/>
            <a:ext cx="596160" cy="982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0" idx="2"/>
            <a:endCxn id="95" idx="5"/>
          </p:cNvCxnSpPr>
          <p:nvPr/>
        </p:nvCxnSpPr>
        <p:spPr>
          <a:xfrm rot="5400000">
            <a:off x="3694320" y="2844000"/>
            <a:ext cx="86400" cy="1256400"/>
          </a:xfrm>
          <a:prstGeom prst="bentConnector3">
            <a:avLst>
              <a:gd name="adj1" fmla="val 4443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5" idx="6"/>
            <a:endCxn id="100" idx="1"/>
          </p:cNvCxnSpPr>
          <p:nvPr/>
        </p:nvCxnSpPr>
        <p:spPr>
          <a:xfrm>
            <a:off x="3298680" y="335232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894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92" idx="3"/>
          </p:cNvCxnSpPr>
          <p:nvPr/>
        </p:nvCxnSpPr>
        <p:spPr>
          <a:xfrm flipV="1">
            <a:off x="4441680" y="4656960"/>
            <a:ext cx="596160" cy="105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6"/>
            <a:endCxn id="104" idx="1"/>
          </p:cNvCxnSpPr>
          <p:nvPr/>
        </p:nvCxnSpPr>
        <p:spPr>
          <a:xfrm>
            <a:off x="3526920" y="571464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4" idx="0"/>
            <a:endCxn id="94" idx="7"/>
          </p:cNvCxnSpPr>
          <p:nvPr/>
        </p:nvCxnSpPr>
        <p:spPr>
          <a:xfrm flipV="1" rot="16200000">
            <a:off x="3780360" y="5052960"/>
            <a:ext cx="86400" cy="1085040"/>
          </a:xfrm>
          <a:prstGeom prst="bentConnector3">
            <a:avLst>
              <a:gd name="adj1" fmla="val 4443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5" idx="2"/>
            <a:endCxn id="94" idx="2"/>
          </p:cNvCxnSpPr>
          <p:nvPr/>
        </p:nvCxnSpPr>
        <p:spPr>
          <a:xfrm flipV="1" rot="10800000">
            <a:off x="1850400" y="3352320"/>
            <a:ext cx="153000" cy="236304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2" idx="4"/>
            <a:endCxn id="93" idx="0"/>
          </p:cNvCxnSpPr>
          <p:nvPr/>
        </p:nvCxnSpPr>
        <p:spPr>
          <a:xfrm>
            <a:off x="5736960" y="472392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6424560" y="2076480"/>
            <a:ext cx="174132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order it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is link only exists,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cart is not emp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1"/>
          </p:cNvCxnSpPr>
          <p:nvPr/>
        </p:nvCxnSpPr>
        <p:spPr>
          <a:xfrm flipH="1" flipV="1">
            <a:off x="5736600" y="2304360"/>
            <a:ext cx="686520" cy="1436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2079720" y="4038480"/>
            <a:ext cx="231876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login data was errone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25640" y="4800600"/>
            <a:ext cx="27990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registration data was errone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0"/>
          </p:cNvCxnSpPr>
          <p:nvPr/>
        </p:nvCxnSpPr>
        <p:spPr>
          <a:xfrm flipV="1">
            <a:off x="3240000" y="3809160"/>
            <a:ext cx="288000" cy="229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5" name=""/>
          <p:cNvCxnSpPr>
            <a:stCxn id="113" idx="2"/>
          </p:cNvCxnSpPr>
          <p:nvPr/>
        </p:nvCxnSpPr>
        <p:spPr>
          <a:xfrm>
            <a:off x="3325320" y="5118120"/>
            <a:ext cx="583560" cy="14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16" name=""/>
          <p:cNvSpPr/>
          <p:nvPr/>
        </p:nvSpPr>
        <p:spPr>
          <a:xfrm>
            <a:off x="6501960" y="3200400"/>
            <a:ext cx="17244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user is logged 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70080" y="2286000"/>
            <a:ext cx="203544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the user is not logg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1"/>
          </p:cNvCxnSpPr>
          <p:nvPr/>
        </p:nvCxnSpPr>
        <p:spPr>
          <a:xfrm flipH="1">
            <a:off x="5736960" y="3358800"/>
            <a:ext cx="762480" cy="222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9" name=""/>
          <p:cNvCxnSpPr>
            <a:stCxn id="117" idx="2"/>
          </p:cNvCxnSpPr>
          <p:nvPr/>
        </p:nvCxnSpPr>
        <p:spPr>
          <a:xfrm>
            <a:off x="4087800" y="2603520"/>
            <a:ext cx="202320" cy="21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20" name=""/>
          <p:cNvCxnSpPr>
            <a:stCxn id="121" idx="2"/>
          </p:cNvCxnSpPr>
          <p:nvPr/>
        </p:nvCxnSpPr>
        <p:spPr>
          <a:xfrm>
            <a:off x="1827000" y="2647800"/>
            <a:ext cx="89640" cy="705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21" name=""/>
          <p:cNvSpPr/>
          <p:nvPr/>
        </p:nvSpPr>
        <p:spPr>
          <a:xfrm>
            <a:off x="815400" y="1905120"/>
            <a:ext cx="2023200" cy="733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if the user is not ye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registered customer, 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or she might register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029200"/>
            <a:ext cx="129528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place an orde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1"/>
          </p:cNvCxnSpPr>
          <p:nvPr/>
        </p:nvCxnSpPr>
        <p:spPr>
          <a:xfrm flipH="1">
            <a:off x="5714280" y="5187600"/>
            <a:ext cx="762840" cy="222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2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9640" y="4495680"/>
            <a:ext cx="3200400" cy="22860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9640" y="152280"/>
            <a:ext cx="5791320" cy="41911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8240" y="763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My Shopping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32240" y="903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3360" y="369576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4680" y="3736800"/>
            <a:ext cx="16923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6040" y="3352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0040" y="1219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0040" y="17524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04280" y="225900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80040" y="2259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84960" y="3429000"/>
            <a:ext cx="129528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u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23440" y="2781360"/>
            <a:ext cx="7354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596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5280" y="62485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58120" y="518148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4720" y="6248520"/>
            <a:ext cx="65160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98960" y="5181480"/>
            <a:ext cx="1676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8960" y="5715000"/>
            <a:ext cx="1676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9040" y="4572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04080" y="457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61480" y="457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42360" y="914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42360" y="2590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2360" y="990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42360" y="1523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236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34" idx="3"/>
            <a:endCxn id="151" idx="3"/>
          </p:cNvCxnSpPr>
          <p:nvPr/>
        </p:nvCxnSpPr>
        <p:spPr>
          <a:xfrm flipV="1">
            <a:off x="8461440" y="2171520"/>
            <a:ext cx="210240" cy="259200"/>
          </a:xfrm>
          <a:prstGeom prst="bentConnector3">
            <a:avLst>
              <a:gd name="adj1" fmla="val 272555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04280" y="171468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2360" y="1512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3"/>
            <a:endCxn id="154" idx="3"/>
          </p:cNvCxnSpPr>
          <p:nvPr/>
        </p:nvCxnSpPr>
        <p:spPr>
          <a:xfrm flipV="1">
            <a:off x="8461440" y="1626480"/>
            <a:ext cx="210240" cy="259560"/>
          </a:xfrm>
          <a:prstGeom prst="bentConnector3">
            <a:avLst>
              <a:gd name="adj1" fmla="val 272555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604280" y="111600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42360" y="914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3"/>
            <a:endCxn id="157" idx="3"/>
          </p:cNvCxnSpPr>
          <p:nvPr/>
        </p:nvCxnSpPr>
        <p:spPr>
          <a:xfrm flipV="1">
            <a:off x="8461440" y="1028520"/>
            <a:ext cx="210240" cy="259200"/>
          </a:xfrm>
          <a:prstGeom prst="bentConnector3">
            <a:avLst>
              <a:gd name="adj1" fmla="val 28164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7" idx="3"/>
            <a:endCxn id="148" idx="3"/>
          </p:cNvCxnSpPr>
          <p:nvPr/>
        </p:nvCxnSpPr>
        <p:spPr>
          <a:xfrm flipV="1">
            <a:off x="6697440" y="2704680"/>
            <a:ext cx="1973880" cy="248400"/>
          </a:xfrm>
          <a:prstGeom prst="bentConnector3">
            <a:avLst>
              <a:gd name="adj1" fmla="val 119937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3946680" y="6553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18480" y="4800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36" idx="2"/>
            <a:endCxn id="161" idx="0"/>
          </p:cNvCxnSpPr>
          <p:nvPr/>
        </p:nvCxnSpPr>
        <p:spPr>
          <a:xfrm>
            <a:off x="7032240" y="4127400"/>
            <a:ext cx="1080" cy="6739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918480" y="6095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1" idx="2"/>
            <a:endCxn id="163" idx="0"/>
          </p:cNvCxnSpPr>
          <p:nvPr/>
        </p:nvCxnSpPr>
        <p:spPr>
          <a:xfrm>
            <a:off x="7032240" y="5028840"/>
            <a:ext cx="1080" cy="1067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851440" y="4800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1" idx="1"/>
            <a:endCxn id="165" idx="3"/>
          </p:cNvCxnSpPr>
          <p:nvPr/>
        </p:nvCxnSpPr>
        <p:spPr>
          <a:xfrm flipH="1">
            <a:off x="6079320" y="4914720"/>
            <a:ext cx="8391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546880" y="6400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</p:cNvCxnSpPr>
          <p:nvPr/>
        </p:nvCxnSpPr>
        <p:spPr>
          <a:xfrm flipH="1" flipV="1">
            <a:off x="7070400" y="5333760"/>
            <a:ext cx="504000" cy="9482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70" name=""/>
          <p:cNvSpPr/>
          <p:nvPr/>
        </p:nvSpPr>
        <p:spPr>
          <a:xfrm>
            <a:off x="3185640" y="685800"/>
            <a:ext cx="48106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Dirk Gently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8640" y="6296040"/>
            <a:ext cx="2350800" cy="459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lready logg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4.2.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creen diagram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– Part I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" name=""/>
          <p:cNvCxnSpPr>
            <a:stCxn id="174" idx="1"/>
          </p:cNvCxnSpPr>
          <p:nvPr/>
        </p:nvCxnSpPr>
        <p:spPr>
          <a:xfrm flipH="1" flipV="1">
            <a:off x="1523160" y="1675800"/>
            <a:ext cx="367560" cy="2084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75" name=""/>
          <p:cNvSpPr/>
          <p:nvPr/>
        </p:nvSpPr>
        <p:spPr>
          <a:xfrm>
            <a:off x="8864640" y="1143000"/>
            <a:ext cx="228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09680"/>
            <a:ext cx="4343400" cy="44197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83360" y="76320"/>
            <a:ext cx="3809880" cy="67053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00476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9640" y="1042920"/>
            <a:ext cx="65160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4240" y="76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ustom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16360" y="3952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8520" y="1585800"/>
            <a:ext cx="15858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eet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Z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un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03360" y="6300720"/>
            <a:ext cx="9442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2320" y="1143000"/>
            <a:ext cx="2362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13720" y="1752480"/>
            <a:ext cx="2050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3720" y="2133720"/>
            <a:ext cx="2050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13720" y="2895480"/>
            <a:ext cx="2050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3720" y="2514600"/>
            <a:ext cx="2050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13720" y="3276720"/>
            <a:ext cx="20509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88120" y="504360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21640" y="5043600"/>
            <a:ext cx="1143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64240" y="57675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64240" y="504360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hatever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264440" y="519588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69160" y="576756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45120" y="59198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64240" y="576756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0040" y="576756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59520" y="576756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035840" y="59198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93040" y="57675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72080" y="472428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ard Type                      Card 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93040" y="3881520"/>
            <a:ext cx="13716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93040" y="4262400"/>
            <a:ext cx="13651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72080" y="543096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xpiration Date         Card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2860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r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05320"/>
            <a:ext cx="52578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Shipping Details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aymen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ohn Q. Publ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hatever, ***- 867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49 Nowhere 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piration: 01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ew H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T 06511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         Quantity 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1       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1       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Dirk Gently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2   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2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59.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09640" y="4548240"/>
            <a:ext cx="169560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lace your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3640" y="27115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Edit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1320" y="16002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179" idx="2"/>
            <a:endCxn id="210" idx="0"/>
          </p:cNvCxnSpPr>
          <p:nvPr/>
        </p:nvCxnSpPr>
        <p:spPr>
          <a:xfrm>
            <a:off x="955440" y="1467000"/>
            <a:ext cx="1080" cy="133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838080" y="2209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0" idx="2"/>
            <a:endCxn id="212" idx="0"/>
          </p:cNvCxnSpPr>
          <p:nvPr/>
        </p:nvCxnSpPr>
        <p:spPr>
          <a:xfrm flipH="1">
            <a:off x="951840" y="1828800"/>
            <a:ext cx="39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71600" y="1219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0" idx="3"/>
            <a:endCxn id="214" idx="2"/>
          </p:cNvCxnSpPr>
          <p:nvPr/>
        </p:nvCxnSpPr>
        <p:spPr>
          <a:xfrm flipV="1">
            <a:off x="1069920" y="1447560"/>
            <a:ext cx="416880" cy="2671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267080" y="2209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8380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3360" y="1066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1143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178" idx="3"/>
            <a:endCxn id="218" idx="1"/>
          </p:cNvCxnSpPr>
          <p:nvPr/>
        </p:nvCxnSpPr>
        <p:spPr>
          <a:xfrm flipV="1">
            <a:off x="3232080" y="1180800"/>
            <a:ext cx="205200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183" idx="1"/>
            <a:endCxn id="222" idx="3"/>
          </p:cNvCxnSpPr>
          <p:nvPr/>
        </p:nvCxnSpPr>
        <p:spPr>
          <a:xfrm rot="10800000">
            <a:off x="5180760" y="6503400"/>
            <a:ext cx="168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5969160" y="6629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1"/>
            <a:endCxn id="225" idx="3"/>
          </p:cNvCxnSpPr>
          <p:nvPr/>
        </p:nvCxnSpPr>
        <p:spPr>
          <a:xfrm flipV="1" rot="10800000">
            <a:off x="4571280" y="6503040"/>
            <a:ext cx="381600" cy="11880"/>
          </a:xfrm>
          <a:prstGeom prst="bentConnector3">
            <a:avLst>
              <a:gd name="adj1" fmla="val 49952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6502320" y="762120"/>
            <a:ext cx="2362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240" y="1641600"/>
            <a:ext cx="2020320" cy="459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3867840" y="4687920"/>
            <a:ext cx="2020320" cy="459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59680" y="609480"/>
            <a:ext cx="12186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ull 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41280" y="3714840"/>
            <a:ext cx="18144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peat 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638964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6400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2" idx="0"/>
            <a:endCxn id="231" idx="1"/>
          </p:cNvCxnSpPr>
          <p:nvPr/>
        </p:nvCxnSpPr>
        <p:spPr>
          <a:xfrm flipH="1" flipV="1" rot="5400000">
            <a:off x="4996440" y="6127920"/>
            <a:ext cx="332280" cy="191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5257800" y="5943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7" idx="1"/>
            <a:endCxn id="222" idx="0"/>
          </p:cNvCxnSpPr>
          <p:nvPr/>
        </p:nvCxnSpPr>
        <p:spPr>
          <a:xfrm>
            <a:off x="4889520" y="5956200"/>
            <a:ext cx="178200" cy="4341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233" name=""/>
          <p:cNvSpPr/>
          <p:nvPr/>
        </p:nvSpPr>
        <p:spPr>
          <a:xfrm>
            <a:off x="6840" y="66286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4.2.  Screen diagram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– Part II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3. List of options for a single conceptua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600200"/>
            <a:ext cx="5791320" cy="43434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167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My Shopping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6040" y="16905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19000" y="529596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60680" y="5337000"/>
            <a:ext cx="169200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61680" y="49528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385920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3859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5029200"/>
            <a:ext cx="129528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u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39080" y="4381560"/>
            <a:ext cx="7354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4876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331488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3" idx="3"/>
            <a:endCxn id="254" idx="0"/>
          </p:cNvCxnSpPr>
          <p:nvPr/>
        </p:nvCxnSpPr>
        <p:spPr>
          <a:xfrm flipH="1" flipV="1">
            <a:off x="7106400" y="2117880"/>
            <a:ext cx="437400" cy="1311480"/>
          </a:xfrm>
          <a:prstGeom prst="bentConnector4">
            <a:avLst>
              <a:gd name="adj1" fmla="val -139950"/>
              <a:gd name="adj2" fmla="val 98682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6019920" y="2716200"/>
            <a:ext cx="8380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7" idx="3"/>
            <a:endCxn id="250" idx="3"/>
          </p:cNvCxnSpPr>
          <p:nvPr/>
        </p:nvCxnSpPr>
        <p:spPr>
          <a:xfrm>
            <a:off x="5113080" y="4552560"/>
            <a:ext cx="1973880" cy="438840"/>
          </a:xfrm>
          <a:prstGeom prst="bentConnector3">
            <a:avLst>
              <a:gd name="adj1" fmla="val 154049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601280" y="2286000"/>
            <a:ext cx="48106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Dirk Gently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2209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46760" y="2117880"/>
            <a:ext cx="72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4. Form storyboard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06388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8640" y="844560"/>
            <a:ext cx="151128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65760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17760" y="368136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575460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42584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47320" y="3740040"/>
            <a:ext cx="21481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83960" y="230976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3520" y="2292480"/>
            <a:ext cx="125784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1" idx="2"/>
            <a:endCxn id="269" idx="3"/>
          </p:cNvCxnSpPr>
          <p:nvPr/>
        </p:nvCxnSpPr>
        <p:spPr>
          <a:xfrm flipV="1" rot="10800000">
            <a:off x="2337840" y="2292120"/>
            <a:ext cx="1472040" cy="311760"/>
          </a:xfrm>
          <a:prstGeom prst="curvedConnector5">
            <a:avLst>
              <a:gd name="adj1" fmla="val 49926"/>
              <a:gd name="adj2" fmla="val 49942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1" idx="1"/>
            <a:endCxn id="272" idx="2"/>
          </p:cNvCxnSpPr>
          <p:nvPr/>
        </p:nvCxnSpPr>
        <p:spPr>
          <a:xfrm flipV="1" rot="16200000">
            <a:off x="3109320" y="1194840"/>
            <a:ext cx="378720" cy="1492920"/>
          </a:xfrm>
          <a:prstGeom prst="curvedConnector5">
            <a:avLst>
              <a:gd name="adj1" fmla="val 58801"/>
              <a:gd name="adj2" fmla="val 50000"/>
              <a:gd name="adj3" fmla="val 588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2" idx="3"/>
            <a:endCxn id="261" idx="0"/>
          </p:cNvCxnSpPr>
          <p:nvPr/>
        </p:nvCxnSpPr>
        <p:spPr>
          <a:xfrm>
            <a:off x="3428640" y="1219320"/>
            <a:ext cx="1181880" cy="84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1" idx="7"/>
            <a:endCxn id="262" idx="1"/>
          </p:cNvCxnSpPr>
          <p:nvPr/>
        </p:nvCxnSpPr>
        <p:spPr>
          <a:xfrm flipV="1" rot="16200000">
            <a:off x="4575600" y="1530360"/>
            <a:ext cx="975600" cy="224640"/>
          </a:xfrm>
          <a:prstGeom prst="curvedConnector5">
            <a:avLst>
              <a:gd name="adj1" fmla="val 37430"/>
              <a:gd name="adj2" fmla="val 100963"/>
              <a:gd name="adj3" fmla="val 374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2" idx="2"/>
            <a:endCxn id="261" idx="6"/>
          </p:cNvCxnSpPr>
          <p:nvPr/>
        </p:nvCxnSpPr>
        <p:spPr>
          <a:xfrm rot="5400000">
            <a:off x="5149080" y="1726920"/>
            <a:ext cx="82620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1" idx="5"/>
            <a:endCxn id="268" idx="1"/>
          </p:cNvCxnSpPr>
          <p:nvPr/>
        </p:nvCxnSpPr>
        <p:spPr>
          <a:xfrm flipH="1" rot="16200000">
            <a:off x="5807160" y="1821960"/>
            <a:ext cx="38880" cy="1302480"/>
          </a:xfrm>
          <a:prstGeom prst="curvedConnector5">
            <a:avLst>
              <a:gd name="adj1" fmla="val 774766"/>
              <a:gd name="adj2" fmla="val 29499"/>
              <a:gd name="adj3" fmla="val 7747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3"/>
            <a:endCxn id="264" idx="0"/>
          </p:cNvCxnSpPr>
          <p:nvPr/>
        </p:nvCxnSpPr>
        <p:spPr>
          <a:xfrm rot="5400000">
            <a:off x="2338560" y="1975320"/>
            <a:ext cx="1227960" cy="2185200"/>
          </a:xfrm>
          <a:prstGeom prst="curvedConnector5">
            <a:avLst>
              <a:gd name="adj1" fmla="val 52639"/>
              <a:gd name="adj2" fmla="val 49991"/>
              <a:gd name="adj3" fmla="val 526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3" idx="0"/>
            <a:endCxn id="267" idx="0"/>
          </p:cNvCxnSpPr>
          <p:nvPr/>
        </p:nvCxnSpPr>
        <p:spPr>
          <a:xfrm flipH="1" rot="16200000">
            <a:off x="5648760" y="1766520"/>
            <a:ext cx="83160" cy="3863160"/>
          </a:xfrm>
          <a:prstGeom prst="curvedConnector5">
            <a:avLst>
              <a:gd name="adj1" fmla="val -276521"/>
              <a:gd name="adj2" fmla="val 50000"/>
              <a:gd name="adj3" fmla="val -2765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4959720" y="488304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67" idx="2"/>
            <a:endCxn id="266" idx="0"/>
          </p:cNvCxnSpPr>
          <p:nvPr/>
        </p:nvCxnSpPr>
        <p:spPr>
          <a:xfrm flipH="1">
            <a:off x="7530480" y="4103280"/>
            <a:ext cx="910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6"/>
            <a:endCxn id="279" idx="1"/>
          </p:cNvCxnSpPr>
          <p:nvPr/>
        </p:nvCxnSpPr>
        <p:spPr>
          <a:xfrm>
            <a:off x="4544640" y="3886200"/>
            <a:ext cx="408600" cy="1180080"/>
          </a:xfrm>
          <a:prstGeom prst="curvedConnector5">
            <a:avLst>
              <a:gd name="adj1" fmla="val 49735"/>
              <a:gd name="adj2" fmla="val 49984"/>
              <a:gd name="adj3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6" idx="2"/>
            <a:endCxn id="279" idx="3"/>
          </p:cNvCxnSpPr>
          <p:nvPr/>
        </p:nvCxnSpPr>
        <p:spPr>
          <a:xfrm flipV="1" rot="10800000">
            <a:off x="6382440" y="4654080"/>
            <a:ext cx="246960" cy="411840"/>
          </a:xfrm>
          <a:prstGeom prst="curvedConnector5">
            <a:avLst>
              <a:gd name="adj1" fmla="val 49635"/>
              <a:gd name="adj2" fmla="val 49956"/>
              <a:gd name="adj3" fmla="val 496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5" idx="1"/>
            <a:endCxn id="263" idx="2"/>
          </p:cNvCxnSpPr>
          <p:nvPr/>
        </p:nvCxnSpPr>
        <p:spPr>
          <a:xfrm rot="10800000">
            <a:off x="2971080" y="3886200"/>
            <a:ext cx="222840" cy="2310120"/>
          </a:xfrm>
          <a:prstGeom prst="curvedConnector5">
            <a:avLst>
              <a:gd name="adj1" fmla="val 202750"/>
              <a:gd name="adj2" fmla="val 50000"/>
              <a:gd name="adj3" fmla="val 202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3" idx="4"/>
            <a:endCxn id="265" idx="0"/>
          </p:cNvCxnSpPr>
          <p:nvPr/>
        </p:nvCxnSpPr>
        <p:spPr>
          <a:xfrm flipH="1" rot="16200000">
            <a:off x="3077280" y="4795920"/>
            <a:ext cx="1640520" cy="277200"/>
          </a:xfrm>
          <a:prstGeom prst="curvedConnector5">
            <a:avLst>
              <a:gd name="adj1" fmla="val 49934"/>
              <a:gd name="adj2" fmla="val 49934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64" idx="3"/>
            <a:endCxn id="263" idx="1"/>
          </p:cNvCxnSpPr>
          <p:nvPr/>
        </p:nvCxnSpPr>
        <p:spPr>
          <a:xfrm flipV="1">
            <a:off x="2209680" y="3723840"/>
            <a:ext cx="992880" cy="140400"/>
          </a:xfrm>
          <a:prstGeom prst="curvedConnector5">
            <a:avLst>
              <a:gd name="adj1" fmla="val 38375"/>
              <a:gd name="adj2" fmla="val 155526"/>
              <a:gd name="adj3" fmla="val 38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rot="16200000">
            <a:off x="2280960" y="4805280"/>
            <a:ext cx="148104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68580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32040" y="1028880"/>
            <a:ext cx="1292040" cy="647640"/>
            <a:chOff x="1832040" y="1028880"/>
            <a:chExt cx="1292040" cy="647640"/>
          </a:xfrm>
        </p:grpSpPr>
        <p:sp>
          <p:nvSpPr>
            <p:cNvPr id="288" name=""/>
            <p:cNvSpPr/>
            <p:nvPr/>
          </p:nvSpPr>
          <p:spPr>
            <a:xfrm>
              <a:off x="1869840" y="1065240"/>
              <a:ext cx="12189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32040" y="1028880"/>
              <a:ext cx="1292040" cy="64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828800" y="685800"/>
            <a:ext cx="144792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4. Form storyboard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89160" y="990720"/>
            <a:ext cx="685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44020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2759040"/>
            <a:ext cx="1669680" cy="87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30200" y="5773680"/>
            <a:ext cx="115308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Place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1430280"/>
            <a:ext cx="1801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2725560"/>
            <a:ext cx="2438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Registratio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full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reetAddr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peatedPasswor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xpi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dhol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7" idx="4"/>
            <a:endCxn id="298" idx="0"/>
          </p:cNvCxnSpPr>
          <p:nvPr/>
        </p:nvCxnSpPr>
        <p:spPr>
          <a:xfrm rot="5400000">
            <a:off x="6584400" y="2008080"/>
            <a:ext cx="838800" cy="597600"/>
          </a:xfrm>
          <a:prstGeom prst="curvedConnector5">
            <a:avLst>
              <a:gd name="adj1" fmla="val 49978"/>
              <a:gd name="adj2" fmla="val 49969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8" idx="3"/>
            <a:endCxn id="297" idx="7"/>
          </p:cNvCxnSpPr>
          <p:nvPr/>
        </p:nvCxnSpPr>
        <p:spPr>
          <a:xfrm flipV="1">
            <a:off x="7924680" y="1496160"/>
            <a:ext cx="15120" cy="3093480"/>
          </a:xfrm>
          <a:prstGeom prst="curvedConnector5">
            <a:avLst>
              <a:gd name="adj1" fmla="val 3543902"/>
              <a:gd name="adj2" fmla="val 54771"/>
              <a:gd name="adj3" fmla="val 35439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5" idx="2"/>
            <a:endCxn id="294" idx="0"/>
          </p:cNvCxnSpPr>
          <p:nvPr/>
        </p:nvCxnSpPr>
        <p:spPr>
          <a:xfrm rot="5400000">
            <a:off x="3198240" y="3793680"/>
            <a:ext cx="762840" cy="45504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8" idx="1"/>
            <a:endCxn id="294" idx="7"/>
          </p:cNvCxnSpPr>
          <p:nvPr/>
        </p:nvCxnSpPr>
        <p:spPr>
          <a:xfrm rot="10800000">
            <a:off x="3998160" y="4467960"/>
            <a:ext cx="1488240" cy="121680"/>
          </a:xfrm>
          <a:prstGeom prst="curvedConnector5">
            <a:avLst>
              <a:gd name="adj1" fmla="val 40962"/>
              <a:gd name="adj2" fmla="val 172106"/>
              <a:gd name="adj3" fmla="val 40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921240" y="531648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4" idx="2"/>
            <a:endCxn id="303" idx="0"/>
          </p:cNvCxnSpPr>
          <p:nvPr/>
        </p:nvCxnSpPr>
        <p:spPr>
          <a:xfrm flipV="1" rot="10800000">
            <a:off x="1629720" y="4629600"/>
            <a:ext cx="8085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4"/>
            <a:endCxn id="296" idx="0"/>
          </p:cNvCxnSpPr>
          <p:nvPr/>
        </p:nvCxnSpPr>
        <p:spPr>
          <a:xfrm flipH="1" rot="16200000">
            <a:off x="3072600" y="5139000"/>
            <a:ext cx="915120" cy="354960"/>
          </a:xfrm>
          <a:prstGeom prst="curvedConnector5">
            <a:avLst>
              <a:gd name="adj1" fmla="val 49980"/>
              <a:gd name="adj2" fmla="val 49949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5562720" y="539280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564000"/>
            <a:ext cx="1828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93" idx="2"/>
            <a:endCxn id="294" idx="1"/>
          </p:cNvCxnSpPr>
          <p:nvPr/>
        </p:nvCxnSpPr>
        <p:spPr>
          <a:xfrm flipH="1" rot="16200000">
            <a:off x="612000" y="2373480"/>
            <a:ext cx="3115440" cy="1075680"/>
          </a:xfrm>
          <a:prstGeom prst="curvedConnector5">
            <a:avLst>
              <a:gd name="adj1" fmla="val 48919"/>
              <a:gd name="adj2" fmla="val 49983"/>
              <a:gd name="adj3" fmla="val 489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 rot="16200000">
            <a:off x="7462800" y="2647800"/>
            <a:ext cx="148104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700" spc="-1" strike="noStrike">
                <a:solidFill>
                  <a:srgbClr val="000000"/>
                </a:solidFill>
                <a:latin typeface="Times New Roman"/>
              </a:rPr>
              <a:t>error occur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207200">
            <a:off x="659160" y="2693160"/>
            <a:ext cx="2133720" cy="2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700" spc="-1" strike="noStrike">
                <a:solidFill>
                  <a:srgbClr val="000000"/>
                </a:solidFill>
                <a:latin typeface="Times New Roman"/>
              </a:rPr>
              <a:t>user already logged 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4.5. Page images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9120" y="657612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457200"/>
            <a:ext cx="6705720" cy="35053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057400"/>
            <a:ext cx="1752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4114800"/>
            <a:ext cx="4495680" cy="26668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73040" y="2209680"/>
            <a:ext cx="1511280" cy="61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Delete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495680"/>
            <a:ext cx="1573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21480" y="3522600"/>
            <a:ext cx="68508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495680"/>
            <a:ext cx="1828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Order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83120" y="5214960"/>
            <a:ext cx="1669680" cy="8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45520" y="6265800"/>
            <a:ext cx="214812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istration</a:t>
            </a:r>
            <a:r>
              <a:rPr b="0" lang="de-DE" sz="1700" spc="-1" strike="noStrike" u="sng">
                <a:solidFill>
                  <a:srgbClr val="000000"/>
                </a:solidFill>
                <a:uFillTx/>
                <a:latin typeface="Times New Roman"/>
              </a:rPr>
              <a:t>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6760" y="914400"/>
            <a:ext cx="14166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7040" y="3124080"/>
            <a:ext cx="1257840" cy="61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earch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31320" y="4572000"/>
            <a:ext cx="141660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1" idx="1"/>
            <a:endCxn id="318" idx="2"/>
          </p:cNvCxnSpPr>
          <p:nvPr/>
        </p:nvCxnSpPr>
        <p:spPr>
          <a:xfrm rot="10800000">
            <a:off x="3885480" y="4723560"/>
            <a:ext cx="191160" cy="932760"/>
          </a:xfrm>
          <a:prstGeom prst="curvedConnector5">
            <a:avLst>
              <a:gd name="adj1" fmla="val 220000"/>
              <a:gd name="adj2" fmla="val 50000"/>
              <a:gd name="adj3" fmla="val 2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8" idx="7"/>
            <a:endCxn id="325" idx="0"/>
          </p:cNvCxnSpPr>
          <p:nvPr/>
        </p:nvCxnSpPr>
        <p:spPr>
          <a:xfrm flipH="1" rot="16200000">
            <a:off x="6130080" y="3661560"/>
            <a:ext cx="10080" cy="1811880"/>
          </a:xfrm>
          <a:prstGeom prst="curvedConnector5">
            <a:avLst>
              <a:gd name="adj1" fmla="val -3100000"/>
              <a:gd name="adj2" fmla="val 50000"/>
              <a:gd name="adj3" fmla="val -3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8" idx="4"/>
            <a:endCxn id="321" idx="0"/>
          </p:cNvCxnSpPr>
          <p:nvPr/>
        </p:nvCxnSpPr>
        <p:spPr>
          <a:xfrm flipH="1" rot="16200000">
            <a:off x="4663440" y="4961520"/>
            <a:ext cx="262800" cy="244800"/>
          </a:xfrm>
          <a:prstGeom prst="curvedConnector5">
            <a:avLst>
              <a:gd name="adj1" fmla="val 49657"/>
              <a:gd name="adj2" fmla="val 49926"/>
              <a:gd name="adj3" fmla="val 496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9" idx="2"/>
            <a:endCxn id="318" idx="0"/>
          </p:cNvCxnSpPr>
          <p:nvPr/>
        </p:nvCxnSpPr>
        <p:spPr>
          <a:xfrm rot="5400000">
            <a:off x="5063400" y="3495600"/>
            <a:ext cx="610200" cy="139104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8" idx="6"/>
            <a:endCxn id="322" idx="0"/>
          </p:cNvCxnSpPr>
          <p:nvPr/>
        </p:nvCxnSpPr>
        <p:spPr>
          <a:xfrm>
            <a:off x="5459040" y="4724280"/>
            <a:ext cx="1261080" cy="1542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1752480" y="990720"/>
            <a:ext cx="1600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Shopping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01960" y="1389240"/>
            <a:ext cx="805680" cy="35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057400"/>
            <a:ext cx="144756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 u="sng">
                <a:solidFill>
                  <a:srgbClr val="000000"/>
                </a:solidFill>
                <a:uFillTx/>
                <a:latin typeface="Times New Roman"/>
              </a:rPr>
              <a:t>UpdateC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art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736800" y="2400480"/>
            <a:ext cx="1292400" cy="647640"/>
            <a:chOff x="3736800" y="2400480"/>
            <a:chExt cx="1292400" cy="647640"/>
          </a:xfrm>
        </p:grpSpPr>
        <p:sp>
          <p:nvSpPr>
            <p:cNvPr id="335" name=""/>
            <p:cNvSpPr/>
            <p:nvPr/>
          </p:nvSpPr>
          <p:spPr>
            <a:xfrm>
              <a:off x="3774960" y="2436840"/>
              <a:ext cx="121932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6800" y="2400480"/>
              <a:ext cx="1292400" cy="64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1" idx="5"/>
            <a:endCxn id="315" idx="0"/>
          </p:cNvCxnSpPr>
          <p:nvPr/>
        </p:nvCxnSpPr>
        <p:spPr>
          <a:xfrm flipH="1" rot="16200000">
            <a:off x="3449520" y="1048680"/>
            <a:ext cx="677160" cy="1340640"/>
          </a:xfrm>
          <a:prstGeom prst="curvedConnector5">
            <a:avLst>
              <a:gd name="adj1" fmla="val 54893"/>
              <a:gd name="adj2" fmla="val 49986"/>
              <a:gd name="adj3" fmla="val 548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15" idx="1"/>
            <a:endCxn id="331" idx="4"/>
          </p:cNvCxnSpPr>
          <p:nvPr/>
        </p:nvCxnSpPr>
        <p:spPr>
          <a:xfrm rot="10800000">
            <a:off x="2552040" y="1447200"/>
            <a:ext cx="1028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17" idx="1"/>
            <a:endCxn id="331" idx="6"/>
          </p:cNvCxnSpPr>
          <p:nvPr/>
        </p:nvCxnSpPr>
        <p:spPr>
          <a:xfrm rot="10800000">
            <a:off x="3351960" y="1218600"/>
            <a:ext cx="2513520" cy="1302480"/>
          </a:xfrm>
          <a:prstGeom prst="curvedConnector5">
            <a:avLst>
              <a:gd name="adj1" fmla="val 15728"/>
              <a:gd name="adj2" fmla="val 49986"/>
              <a:gd name="adj3" fmla="val 157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1" idx="3"/>
            <a:endCxn id="319" idx="0"/>
          </p:cNvCxnSpPr>
          <p:nvPr/>
        </p:nvCxnSpPr>
        <p:spPr>
          <a:xfrm flipH="1" rot="16200000">
            <a:off x="2954880" y="412920"/>
            <a:ext cx="2142360" cy="4077360"/>
          </a:xfrm>
          <a:prstGeom prst="curvedConnector5">
            <a:avLst>
              <a:gd name="adj1" fmla="val 87613"/>
              <a:gd name="adj2" fmla="val 49995"/>
              <a:gd name="adj3" fmla="val 87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1" idx="2"/>
            <a:endCxn id="324" idx="0"/>
          </p:cNvCxnSpPr>
          <p:nvPr/>
        </p:nvCxnSpPr>
        <p:spPr>
          <a:xfrm flipH="1" flipV="1" rot="10800000">
            <a:off x="1751400" y="1218240"/>
            <a:ext cx="484920" cy="1905480"/>
          </a:xfrm>
          <a:prstGeom prst="curvedConnector5">
            <a:avLst>
              <a:gd name="adj1" fmla="val -47176"/>
              <a:gd name="adj2" fmla="val 27985"/>
              <a:gd name="adj3" fmla="val -47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1" idx="1"/>
            <a:endCxn id="332" idx="3"/>
          </p:cNvCxnSpPr>
          <p:nvPr/>
        </p:nvCxnSpPr>
        <p:spPr>
          <a:xfrm flipH="1" rot="16200000">
            <a:off x="4393800" y="-1350360"/>
            <a:ext cx="515160" cy="5328360"/>
          </a:xfrm>
          <a:prstGeom prst="curvedConnector5">
            <a:avLst>
              <a:gd name="adj1" fmla="val -98111"/>
              <a:gd name="adj2" fmla="val 55000"/>
              <a:gd name="adj3" fmla="val -981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1" idx="0"/>
            <a:endCxn id="323" idx="1"/>
          </p:cNvCxnSpPr>
          <p:nvPr/>
        </p:nvCxnSpPr>
        <p:spPr>
          <a:xfrm flipH="1" rot="16200000">
            <a:off x="4232880" y="-690840"/>
            <a:ext cx="106920" cy="3467880"/>
          </a:xfrm>
          <a:prstGeom prst="curvedConnector5">
            <a:avLst>
              <a:gd name="adj1" fmla="val -214864"/>
              <a:gd name="adj2" fmla="val 30762"/>
              <a:gd name="adj3" fmla="val -214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5181480" y="129528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4" idx="1"/>
            <a:endCxn id="317" idx="0"/>
          </p:cNvCxnSpPr>
          <p:nvPr/>
        </p:nvCxnSpPr>
        <p:spPr>
          <a:xfrm>
            <a:off x="5181480" y="1371600"/>
            <a:ext cx="1448640" cy="838800"/>
          </a:xfrm>
          <a:prstGeom prst="curvedConnector5">
            <a:avLst>
              <a:gd name="adj1" fmla="val 23564"/>
              <a:gd name="adj2" fmla="val 22026"/>
              <a:gd name="adj3" fmla="val 235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31" idx="7"/>
            <a:endCxn id="344" idx="1"/>
          </p:cNvCxnSpPr>
          <p:nvPr/>
        </p:nvCxnSpPr>
        <p:spPr>
          <a:xfrm flipH="1" rot="16200000">
            <a:off x="3992400" y="181440"/>
            <a:ext cx="315000" cy="2064240"/>
          </a:xfrm>
          <a:prstGeom prst="curvedConnector5">
            <a:avLst>
              <a:gd name="adj1" fmla="val -30778"/>
              <a:gd name="adj2" fmla="val 35688"/>
              <a:gd name="adj3" fmla="val -307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19" idx="1"/>
            <a:endCxn id="320" idx="0"/>
          </p:cNvCxnSpPr>
          <p:nvPr/>
        </p:nvCxnSpPr>
        <p:spPr>
          <a:xfrm flipV="1" rot="10800000">
            <a:off x="2361600" y="3704760"/>
            <a:ext cx="3353400" cy="791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0:38:57Z</dcterms:created>
  <dc:creator>draheim</dc:creator>
  <dc:description/>
  <dc:language>en-US</dc:language>
  <cp:lastModifiedBy>draheim</cp:lastModifiedBy>
  <dcterms:modified xsi:type="dcterms:W3CDTF">2004-10-12T17:09:02Z</dcterms:modified>
  <cp:revision>5</cp:revision>
  <dc:subject/>
  <dc:title>PowerPoint-Präsentation</dc:title>
</cp:coreProperties>
</file>