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EC6-6FC7-43C7-9A9E-74BAD994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11C-A270-4E77-B510-94C226EB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648-0415-46EF-873A-1F167A09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222-0850-4335-83EF-9D8D30AD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109-2414-45E9-8D3B-3324D36B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08D-7E71-455C-9165-B4906FCB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B69-6BC4-48DC-A92E-2C5ABDCD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E7C-879E-40EE-8CD3-8EBB0E99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C65-8729-41F8-AB49-837CB944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2A37-F9CC-4647-847D-9B58C6F9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FDC-2DC0-4369-BA4B-6D140671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9E4-5A8F-4FB0-8391-517501BC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E2DD-AC75-43D5-9B0B-C994E918F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Figures from Chapter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br>
              <a:rPr sz="4400"/>
            </a:b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A Comparison of Model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Dirk Draheim, Gerald 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orm-Oriented Analy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pringer, October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6.1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The Seeheim model of user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362320"/>
            <a:ext cx="1676520" cy="87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90000" y="2362320"/>
            <a:ext cx="1688040" cy="87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ialogue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2362320"/>
            <a:ext cx="1676520" cy="87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358128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7" idx="2"/>
            <a:endCxn id="48" idx="3"/>
          </p:cNvCxnSpPr>
          <p:nvPr/>
        </p:nvCxnSpPr>
        <p:spPr>
          <a:xfrm rot="5400000">
            <a:off x="5754600" y="2211840"/>
            <a:ext cx="605520" cy="266796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0" name=""/>
          <p:cNvCxnSpPr>
            <a:stCxn id="48" idx="1"/>
            <a:endCxn id="45" idx="2"/>
          </p:cNvCxnSpPr>
          <p:nvPr/>
        </p:nvCxnSpPr>
        <p:spPr>
          <a:xfrm rot="10800000">
            <a:off x="1676520" y="3242520"/>
            <a:ext cx="2667240" cy="6055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1" name=""/>
          <p:cNvCxnSpPr>
            <a:stCxn id="47" idx="1"/>
            <a:endCxn id="46" idx="3"/>
          </p:cNvCxnSpPr>
          <p:nvPr/>
        </p:nvCxnSpPr>
        <p:spPr>
          <a:xfrm flipH="1">
            <a:off x="5384160" y="2803320"/>
            <a:ext cx="11689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2" name=""/>
          <p:cNvCxnSpPr>
            <a:stCxn id="46" idx="1"/>
            <a:endCxn id="45" idx="3"/>
          </p:cNvCxnSpPr>
          <p:nvPr/>
        </p:nvCxnSpPr>
        <p:spPr>
          <a:xfrm flipH="1">
            <a:off x="2514240" y="2803320"/>
            <a:ext cx="11692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3" name=""/>
          <p:cNvCxnSpPr>
            <a:stCxn id="46" idx="2"/>
            <a:endCxn id="48" idx="0"/>
          </p:cNvCxnSpPr>
          <p:nvPr/>
        </p:nvCxnSpPr>
        <p:spPr>
          <a:xfrm>
            <a:off x="4533480" y="3242880"/>
            <a:ext cx="1080" cy="338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6.2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Data flow diagram of a system login 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nd registration fe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2362320"/>
            <a:ext cx="121932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590920"/>
            <a:ext cx="11430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4724280"/>
            <a:ext cx="121932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6" idx="0"/>
            <a:endCxn id="57" idx="0"/>
          </p:cNvCxnSpPr>
          <p:nvPr/>
        </p:nvCxnSpPr>
        <p:spPr>
          <a:xfrm rot="5400000">
            <a:off x="3256920" y="437400"/>
            <a:ext cx="229320" cy="4077360"/>
          </a:xfrm>
          <a:prstGeom prst="curvedConnector5">
            <a:avLst>
              <a:gd name="adj1" fmla="val -310377"/>
              <a:gd name="adj2" fmla="val 49995"/>
              <a:gd name="adj3" fmla="val -3103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829520" y="129528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rror-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7" idx="3"/>
            <a:endCxn id="56" idx="2"/>
          </p:cNvCxnSpPr>
          <p:nvPr/>
        </p:nvCxnSpPr>
        <p:spPr>
          <a:xfrm flipV="1">
            <a:off x="1904760" y="2932920"/>
            <a:ext cx="289620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2" name=""/>
          <p:cNvSpPr/>
          <p:nvPr/>
        </p:nvSpPr>
        <p:spPr>
          <a:xfrm>
            <a:off x="2210400" y="312408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mail-and-pass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6248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920" y="617220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34320" y="6186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7" idx="2"/>
            <a:endCxn id="58" idx="2"/>
          </p:cNvCxnSpPr>
          <p:nvPr/>
        </p:nvCxnSpPr>
        <p:spPr>
          <a:xfrm>
            <a:off x="1333080" y="3657240"/>
            <a:ext cx="339156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7" name=""/>
          <p:cNvSpPr/>
          <p:nvPr/>
        </p:nvSpPr>
        <p:spPr>
          <a:xfrm>
            <a:off x="8458200" y="6186600"/>
            <a:ext cx="228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7" idx="0"/>
            <a:endCxn id="56" idx="6"/>
          </p:cNvCxnSpPr>
          <p:nvPr/>
        </p:nvCxnSpPr>
        <p:spPr>
          <a:xfrm flipV="1" rot="16200000">
            <a:off x="5669280" y="3283200"/>
            <a:ext cx="3253680" cy="2553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9" name=""/>
          <p:cNvSpPr/>
          <p:nvPr/>
        </p:nvSpPr>
        <p:spPr>
          <a:xfrm>
            <a:off x="1448640" y="61722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rror-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8" idx="4"/>
            <a:endCxn id="57" idx="1"/>
          </p:cNvCxnSpPr>
          <p:nvPr/>
        </p:nvCxnSpPr>
        <p:spPr>
          <a:xfrm flipV="1" rot="16200000">
            <a:off x="1676160" y="2208960"/>
            <a:ext cx="2743920" cy="4572720"/>
          </a:xfrm>
          <a:prstGeom prst="curvedConnector5">
            <a:avLst>
              <a:gd name="adj1" fmla="val -12557"/>
              <a:gd name="adj2" fmla="val 53468"/>
              <a:gd name="adj3" fmla="val -125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7238880" y="22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urrent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67480" y="220968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2209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58200" y="220968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848720" y="220968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56" idx="7"/>
            <a:endCxn id="75" idx="0"/>
          </p:cNvCxnSpPr>
          <p:nvPr/>
        </p:nvCxnSpPr>
        <p:spPr>
          <a:xfrm flipH="1" flipV="1" rot="5400000">
            <a:off x="6742440" y="1308240"/>
            <a:ext cx="320040" cy="2121480"/>
          </a:xfrm>
          <a:prstGeom prst="curvedConnector5">
            <a:avLst>
              <a:gd name="adj1" fmla="val 349211"/>
              <a:gd name="adj2" fmla="val 50000"/>
              <a:gd name="adj3" fmla="val 3492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6421320" y="10810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er-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88620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ustomer-and-repeated-pass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617220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58" idx="6"/>
            <a:endCxn id="79" idx="0"/>
          </p:cNvCxnSpPr>
          <p:nvPr/>
        </p:nvCxnSpPr>
        <p:spPr>
          <a:xfrm>
            <a:off x="5943600" y="5295960"/>
            <a:ext cx="1486800" cy="876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4" idx="0"/>
            <a:endCxn id="58" idx="7"/>
          </p:cNvCxnSpPr>
          <p:nvPr/>
        </p:nvCxnSpPr>
        <p:spPr>
          <a:xfrm flipV="1" rot="16200000">
            <a:off x="6451920" y="4203720"/>
            <a:ext cx="1281600" cy="2655000"/>
          </a:xfrm>
          <a:prstGeom prst="curvedConnector5">
            <a:avLst>
              <a:gd name="adj1" fmla="val 130879"/>
              <a:gd name="adj2" fmla="val 50000"/>
              <a:gd name="adj3" fmla="val 1308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934320" y="2666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6691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6.2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Jacobson-style use case diagram 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of the example books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218600" y="2147760"/>
            <a:ext cx="1372680" cy="2895480"/>
            <a:chOff x="1218600" y="2147760"/>
            <a:chExt cx="1372680" cy="2895480"/>
          </a:xfrm>
        </p:grpSpPr>
        <p:sp>
          <p:nvSpPr>
            <p:cNvPr id="87" name=""/>
            <p:cNvSpPr/>
            <p:nvPr/>
          </p:nvSpPr>
          <p:spPr>
            <a:xfrm>
              <a:off x="1447920" y="214776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4"/>
            </p:cNvCxnSpPr>
            <p:nvPr/>
          </p:nvCxnSpPr>
          <p:spPr>
            <a:xfrm>
              <a:off x="1905120" y="3062160"/>
              <a:ext cx="2160" cy="1296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9" name=""/>
            <p:cNvCxnSpPr/>
            <p:nvPr/>
          </p:nvCxnSpPr>
          <p:spPr>
            <a:xfrm flipH="1">
              <a:off x="1218600" y="4357080"/>
              <a:ext cx="68652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90" name=""/>
            <p:cNvCxnSpPr/>
            <p:nvPr/>
          </p:nvCxnSpPr>
          <p:spPr>
            <a:xfrm flipH="1" flipV="1">
              <a:off x="1904400" y="4356720"/>
              <a:ext cx="68652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91" name=""/>
            <p:cNvCxnSpPr/>
            <p:nvPr/>
          </p:nvCxnSpPr>
          <p:spPr>
            <a:xfrm>
              <a:off x="1219320" y="3442680"/>
              <a:ext cx="1372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92" name=""/>
          <p:cNvSpPr/>
          <p:nvPr/>
        </p:nvSpPr>
        <p:spPr>
          <a:xfrm>
            <a:off x="1602000" y="5043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endCxn id="94" idx="2"/>
          </p:cNvCxnSpPr>
          <p:nvPr/>
        </p:nvCxnSpPr>
        <p:spPr>
          <a:xfrm flipV="1">
            <a:off x="2743200" y="1369440"/>
            <a:ext cx="1905840" cy="141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95" name=""/>
          <p:cNvCxnSpPr>
            <a:endCxn id="96" idx="2"/>
          </p:cNvCxnSpPr>
          <p:nvPr/>
        </p:nvCxnSpPr>
        <p:spPr>
          <a:xfrm flipV="1">
            <a:off x="2743200" y="1988640"/>
            <a:ext cx="2210400" cy="10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97" name=""/>
          <p:cNvCxnSpPr>
            <a:endCxn id="98" idx="2"/>
          </p:cNvCxnSpPr>
          <p:nvPr/>
        </p:nvCxnSpPr>
        <p:spPr>
          <a:xfrm flipV="1">
            <a:off x="2742840" y="2609280"/>
            <a:ext cx="20577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99" name=""/>
          <p:cNvCxnSpPr>
            <a:endCxn id="100" idx="2"/>
          </p:cNvCxnSpPr>
          <p:nvPr/>
        </p:nvCxnSpPr>
        <p:spPr>
          <a:xfrm>
            <a:off x="2743200" y="3733560"/>
            <a:ext cx="228672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01" name=""/>
          <p:cNvCxnSpPr>
            <a:endCxn id="102" idx="2"/>
          </p:cNvCxnSpPr>
          <p:nvPr/>
        </p:nvCxnSpPr>
        <p:spPr>
          <a:xfrm>
            <a:off x="2743200" y="3973320"/>
            <a:ext cx="2363040" cy="49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03" name=""/>
          <p:cNvCxnSpPr>
            <a:endCxn id="104" idx="2"/>
          </p:cNvCxnSpPr>
          <p:nvPr/>
        </p:nvCxnSpPr>
        <p:spPr>
          <a:xfrm>
            <a:off x="2743200" y="4211640"/>
            <a:ext cx="190584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05" name=""/>
          <p:cNvCxnSpPr>
            <a:endCxn id="106" idx="2"/>
          </p:cNvCxnSpPr>
          <p:nvPr/>
        </p:nvCxnSpPr>
        <p:spPr>
          <a:xfrm>
            <a:off x="2742840" y="4451400"/>
            <a:ext cx="2591640" cy="12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07" name=""/>
          <p:cNvCxnSpPr>
            <a:endCxn id="108" idx="2"/>
          </p:cNvCxnSpPr>
          <p:nvPr/>
        </p:nvCxnSpPr>
        <p:spPr>
          <a:xfrm>
            <a:off x="2742840" y="4689000"/>
            <a:ext cx="259164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09" name=""/>
          <p:cNvCxnSpPr>
            <a:endCxn id="110" idx="2"/>
          </p:cNvCxnSpPr>
          <p:nvPr/>
        </p:nvCxnSpPr>
        <p:spPr>
          <a:xfrm flipV="1">
            <a:off x="2743200" y="3228480"/>
            <a:ext cx="19058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grpSp>
        <p:nvGrpSpPr>
          <p:cNvPr id="111" name=""/>
          <p:cNvGrpSpPr/>
          <p:nvPr/>
        </p:nvGrpSpPr>
        <p:grpSpPr>
          <a:xfrm>
            <a:off x="3581280" y="990720"/>
            <a:ext cx="4572000" cy="5739120"/>
            <a:chOff x="3581280" y="990720"/>
            <a:chExt cx="4572000" cy="5739120"/>
          </a:xfrm>
        </p:grpSpPr>
        <p:sp>
          <p:nvSpPr>
            <p:cNvPr id="106" name=""/>
            <p:cNvSpPr/>
            <p:nvPr/>
          </p:nvSpPr>
          <p:spPr>
            <a:xfrm>
              <a:off x="5334120" y="5466600"/>
              <a:ext cx="990360" cy="48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log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4120" y="6086160"/>
              <a:ext cx="990360" cy="48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log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48320" y="4847040"/>
              <a:ext cx="2361960" cy="48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change customer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05520" y="4227120"/>
              <a:ext cx="1447560" cy="48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2880" y="1748160"/>
              <a:ext cx="1752840" cy="48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9200" y="3607560"/>
              <a:ext cx="1600200" cy="48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bu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48320" y="1128600"/>
              <a:ext cx="2361960" cy="48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browse categor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0600" y="2368080"/>
              <a:ext cx="2057400" cy="48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view shopping c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88400" y="63615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48320" y="2987640"/>
              <a:ext cx="2438280" cy="48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manage shopping c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81280" y="990720"/>
              <a:ext cx="4572000" cy="571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41:27Z</dcterms:created>
  <dc:creator>draheim</dc:creator>
  <dc:description/>
  <dc:language>en-US</dc:language>
  <cp:lastModifiedBy>draheim</cp:lastModifiedBy>
  <dcterms:modified xsi:type="dcterms:W3CDTF">2004-10-13T12:43:24Z</dcterms:modified>
  <cp:revision>31</cp:revision>
  <dc:subject/>
  <dc:title>PowerPoint-Präsentation</dc:title>
</cp:coreProperties>
</file>