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F16-FC39-4C18-8F1A-6E1F07B3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738-86F5-4C7D-8F11-1C6E921C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1BC-EF05-4B9E-BDF8-A82B6304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0E7-859A-44A6-AA0C-D22AF415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104-C8AF-4A65-A79B-A0A19E54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4C5-2F5D-4F10-8A3F-56E67FD9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0A3-849D-468D-91A6-67E92EA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237-599C-4240-B6F6-353CB7E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096-96C8-4D67-A591-6EBA851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2BA-29CA-4A4F-B03D-B75D0DD0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5D3-6BE7-4FBB-A9CB-224DC37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BD6-5663-46C8-B39D-0A390BA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7BB-C773-40CB-BA5A-8CD52CB18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s from Chapter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m-Based System Paradig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Draheim, Gerald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-Oriented Analy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nger, October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2.1. Example pages of the online bookshop – Par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06668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My Shopping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6200" y="2297160"/>
            <a:ext cx="481068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Quine: Word and Objec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2.4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ittgenstein: Tractatu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3.06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arela: The Embodied Min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44.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ams: Watership Down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7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62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6920" y="10047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g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76200" y="5767560"/>
            <a:ext cx="8038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9280" y="5808600"/>
            <a:ext cx="1920600" cy="3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440" y="54244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arch for a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83068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3638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781360"/>
            <a:ext cx="99072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314880"/>
            <a:ext cx="99072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848040"/>
            <a:ext cx="99072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4381560"/>
            <a:ext cx="99072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87036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40388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87080" y="5105520"/>
            <a:ext cx="1116360" cy="6426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u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914400"/>
            <a:ext cx="624852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4000" y="4915080"/>
            <a:ext cx="735480" cy="3070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36840" y="99072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ustom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520" y="1066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lcome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4240" y="1900080"/>
            <a:ext cx="1675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-mail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ull 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19480" y="1981080"/>
            <a:ext cx="159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8480" y="3657600"/>
            <a:ext cx="944280" cy="368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19480" y="2362320"/>
            <a:ext cx="1593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9480" y="3048120"/>
            <a:ext cx="1593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9480" y="3429000"/>
            <a:ext cx="159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9480" y="4191120"/>
            <a:ext cx="1593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9480" y="3809880"/>
            <a:ext cx="159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9480" y="4572000"/>
            <a:ext cx="159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362320"/>
            <a:ext cx="121932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66200" y="2273400"/>
            <a:ext cx="1344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peat Pw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743200"/>
            <a:ext cx="121932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49960" y="534816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4080" y="534816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5943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5720" y="534816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Whatever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425920" y="5500080"/>
            <a:ext cx="152640" cy="75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9436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609588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943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94360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943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10080" y="60958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0292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ard Type                        Credit Card No.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3520" y="2963880"/>
            <a:ext cx="15858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eet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Z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un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914400"/>
            <a:ext cx="624816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8280" y="5638680"/>
            <a:ext cx="309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xpiration Date          Card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4080" y="594360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2.1. Example pages of the online bookshop – Par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2.2. Examples of ultra-thin client based submit/response sty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676520"/>
            <a:ext cx="1523880" cy="19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676520"/>
            <a:ext cx="190512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666880"/>
            <a:ext cx="12193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-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1752480"/>
            <a:ext cx="12193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752480"/>
            <a:ext cx="5331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666880"/>
            <a:ext cx="19051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048120"/>
            <a:ext cx="121896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1752480"/>
            <a:ext cx="3124440" cy="381240"/>
          </a:xfrm>
          <a:prstGeom prst="rightArrow">
            <a:avLst>
              <a:gd name="adj1" fmla="val 76667"/>
              <a:gd name="adj2" fmla="val 104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666160" y="2133720"/>
            <a:ext cx="3124440" cy="380880"/>
          </a:xfrm>
          <a:prstGeom prst="rightArrow">
            <a:avLst>
              <a:gd name="adj1" fmla="val 76667"/>
              <a:gd name="adj2" fmla="val 1050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2640" y="1832040"/>
            <a:ext cx="26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hypertext/dir/index.html HTTP/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43000" y="2212920"/>
            <a:ext cx="29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.&lt;head&gt; &lt;title&gt; Dummy &lt;/title&gt;&lt;/head&gt;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1320" y="14922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7040" y="3352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235400"/>
            <a:ext cx="1523880" cy="19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226120"/>
            <a:ext cx="12193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4320" y="45403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70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27760" y="4235400"/>
            <a:ext cx="1920960" cy="19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0040" y="5302080"/>
            <a:ext cx="77796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94440" y="5302080"/>
            <a:ext cx="77796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311720"/>
            <a:ext cx="1752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7680" y="4484520"/>
            <a:ext cx="1557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7000" y="484488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-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45720" y="5911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4267080"/>
            <a:ext cx="3124440" cy="381240"/>
          </a:xfrm>
          <a:prstGeom prst="rightArrow">
            <a:avLst>
              <a:gd name="adj1" fmla="val 76667"/>
              <a:gd name="adj2" fmla="val 104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66160" y="4692600"/>
            <a:ext cx="3124440" cy="380880"/>
          </a:xfrm>
          <a:prstGeom prst="rightArrow">
            <a:avLst>
              <a:gd name="adj1" fmla="val 76667"/>
              <a:gd name="adj2" fmla="val 1050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960" y="400680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70 Data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9760" y="434340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D    Cursor Address    Data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31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31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9080" y="47545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    Cursor Address    Data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8880" y="19810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741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741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2.3. SAP R/3 architecture - a client/server submit/response sty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97200" y="4952880"/>
            <a:ext cx="114300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6320" y="4410000"/>
            <a:ext cx="19047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6320" y="2209680"/>
            <a:ext cx="19047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7200" y="2362320"/>
            <a:ext cx="12193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94800" y="3187800"/>
            <a:ext cx="168048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AP/4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3520" y="259092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AP/4 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49480" y="3657600"/>
            <a:ext cx="990720" cy="685800"/>
          </a:xfrm>
          <a:prstGeom prst="upDownArrow">
            <a:avLst>
              <a:gd name="adj1" fmla="val 57694"/>
              <a:gd name="adj2" fmla="val 24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04280" y="3886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397400" y="3124080"/>
            <a:ext cx="533520" cy="381240"/>
          </a:xfrm>
          <a:prstGeom prst="rightArrow">
            <a:avLst>
              <a:gd name="adj1" fmla="val 50843"/>
              <a:gd name="adj2" fmla="val 728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4520" y="2703600"/>
            <a:ext cx="1968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  input template   P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44720" y="368928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18920" y="3068640"/>
            <a:ext cx="1968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  input template   P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25040" y="3449520"/>
            <a:ext cx="1968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  input template   P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41720" y="4494960"/>
            <a:ext cx="1600200" cy="381240"/>
          </a:xfrm>
          <a:prstGeom prst="foldedCorner">
            <a:avLst>
              <a:gd name="adj" fmla="val 18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11120" y="45496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efor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19920" y="5029200"/>
            <a:ext cx="1600200" cy="380880"/>
          </a:xfrm>
          <a:prstGeom prst="foldedCorner">
            <a:avLst>
              <a:gd name="adj" fmla="val 18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0200" y="508320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after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08320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987960" y="3657600"/>
            <a:ext cx="228600" cy="1371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02320" y="1905120"/>
            <a:ext cx="1600200" cy="380880"/>
          </a:xfrm>
          <a:prstGeom prst="foldedCorner">
            <a:avLst>
              <a:gd name="adj" fmla="val 18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9591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0" idx="1"/>
            <a:endCxn id="153" idx="2"/>
          </p:cNvCxnSpPr>
          <p:nvPr/>
        </p:nvCxnSpPr>
        <p:spPr>
          <a:xfrm flipH="1" flipV="1">
            <a:off x="4777920" y="2285280"/>
            <a:ext cx="424800" cy="5612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154" name=""/>
          <p:cNvCxnSpPr>
            <a:stCxn id="142" idx="1"/>
            <a:endCxn id="153" idx="2"/>
          </p:cNvCxnSpPr>
          <p:nvPr/>
        </p:nvCxnSpPr>
        <p:spPr>
          <a:xfrm flipH="1" flipV="1">
            <a:off x="4777560" y="2285280"/>
            <a:ext cx="438840" cy="9262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cxnSp>
        <p:nvCxnSpPr>
          <p:cNvPr id="155" name=""/>
          <p:cNvCxnSpPr>
            <a:stCxn id="143" idx="1"/>
            <a:endCxn id="153" idx="2"/>
          </p:cNvCxnSpPr>
          <p:nvPr/>
        </p:nvCxnSpPr>
        <p:spPr>
          <a:xfrm flipH="1" flipV="1">
            <a:off x="4777560" y="2285280"/>
            <a:ext cx="445320" cy="13071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156" name=""/>
          <p:cNvSpPr/>
          <p:nvPr/>
        </p:nvSpPr>
        <p:spPr>
          <a:xfrm>
            <a:off x="5006880" y="2590920"/>
            <a:ext cx="2362320" cy="140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02320" y="2133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62000" y="4952880"/>
            <a:ext cx="1523880" cy="533520"/>
          </a:xfrm>
          <a:prstGeom prst="foldedCorner">
            <a:avLst>
              <a:gd name="adj" fmla="val 18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1840" y="4991040"/>
            <a:ext cx="156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al 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2"/>
            <a:endCxn id="138" idx="1"/>
          </p:cNvCxnSpPr>
          <p:nvPr/>
        </p:nvCxnSpPr>
        <p:spPr>
          <a:xfrm flipH="1" flipV="1" rot="5400000">
            <a:off x="2004480" y="3855240"/>
            <a:ext cx="915120" cy="128052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60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ig. 2.4. Example formchart for a system login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0640" y="31240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62440" y="3218040"/>
            <a:ext cx="9907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15800" y="2362320"/>
            <a:ext cx="11059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2840" y="3311640"/>
            <a:ext cx="116532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Login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3" idx="6"/>
            <a:endCxn id="165" idx="1"/>
          </p:cNvCxnSpPr>
          <p:nvPr/>
        </p:nvCxnSpPr>
        <p:spPr>
          <a:xfrm>
            <a:off x="5752800" y="3484080"/>
            <a:ext cx="7628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5" idx="2"/>
            <a:endCxn id="163" idx="5"/>
          </p:cNvCxnSpPr>
          <p:nvPr/>
        </p:nvCxnSpPr>
        <p:spPr>
          <a:xfrm flipV="1" rot="16200000">
            <a:off x="6355800" y="2925000"/>
            <a:ext cx="2520" cy="1497600"/>
          </a:xfrm>
          <a:prstGeom prst="curvedConnector5">
            <a:avLst>
              <a:gd name="adj1" fmla="val -42600000"/>
              <a:gd name="adj2" fmla="val 49987"/>
              <a:gd name="adj3" fmla="val -4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2940480" y="4132440"/>
            <a:ext cx="1416600" cy="35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Welcome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4" idx="3"/>
            <a:endCxn id="163" idx="1"/>
          </p:cNvCxnSpPr>
          <p:nvPr/>
        </p:nvCxnSpPr>
        <p:spPr>
          <a:xfrm>
            <a:off x="4229280" y="2544840"/>
            <a:ext cx="677880" cy="75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2" idx="0"/>
            <a:endCxn id="164" idx="1"/>
          </p:cNvCxnSpPr>
          <p:nvPr/>
        </p:nvCxnSpPr>
        <p:spPr>
          <a:xfrm flipH="1" flipV="1" rot="5400000">
            <a:off x="2407320" y="2422800"/>
            <a:ext cx="579960" cy="822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1"/>
            <a:endCxn id="162" idx="4"/>
          </p:cNvCxnSpPr>
          <p:nvPr/>
        </p:nvCxnSpPr>
        <p:spPr>
          <a:xfrm rot="10800000">
            <a:off x="2285280" y="3656880"/>
            <a:ext cx="648360" cy="658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3" idx="3"/>
            <a:endCxn id="168" idx="3"/>
          </p:cNvCxnSpPr>
          <p:nvPr/>
        </p:nvCxnSpPr>
        <p:spPr>
          <a:xfrm rot="5400000">
            <a:off x="4313880" y="3722760"/>
            <a:ext cx="642240" cy="543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3"/>
            <a:endCxn id="162" idx="2"/>
          </p:cNvCxnSpPr>
          <p:nvPr/>
        </p:nvCxnSpPr>
        <p:spPr>
          <a:xfrm flipH="1" flipV="1">
            <a:off x="1790280" y="3390120"/>
            <a:ext cx="5906160" cy="104040"/>
          </a:xfrm>
          <a:prstGeom prst="curvedConnector5">
            <a:avLst>
              <a:gd name="adj1" fmla="val -10722"/>
              <a:gd name="adj2" fmla="val 719097"/>
              <a:gd name="adj3" fmla="val -10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6840" y="6506280"/>
            <a:ext cx="17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pringer Verlag 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41:27Z</dcterms:created>
  <dc:creator>draheim</dc:creator>
  <dc:description/>
  <dc:language>en-US</dc:language>
  <cp:lastModifiedBy>draheim</cp:lastModifiedBy>
  <dcterms:modified xsi:type="dcterms:W3CDTF">2004-10-12T17:08:19Z</dcterms:modified>
  <cp:revision>5</cp:revision>
  <dc:subject/>
  <dc:title>PowerPoint-Präsentation</dc:title>
</cp:coreProperties>
</file>