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9FC-A1E0-4389-804C-7A5ABA9A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E03-8905-4D79-AC69-366284E2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B24-77B6-43FC-9D08-B3DC4074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D04-7E48-4259-A58F-C751143D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EE6-1ACE-432E-888C-24AE9EC1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5E0-592F-4EAA-AD63-FB3A1B64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4EF-601D-4924-8ED4-39A2B137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67D-7241-4837-A251-317E7F02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A46-36E9-4350-BE45-2DB73505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897-C265-4C7B-95D0-14313D47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6D2-570E-4F0F-B747-2BEBC341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55E-9936-475B-BC8C-3F9056C0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C834-E0CE-4613-A627-F30AA11A0D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3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381880" cy="116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: Gyurme Dahd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visors: Gerald Weber and Christof Lutter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iagram 6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yout engine with a solid mathematical found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youts are specified by linear constraints and a linear objective 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mal layouts are calculated using linear program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stops,ie vertical and horizontal boundaries  are used to position a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creation and editing of GUIs using the ALM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editing modes fo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s of Areas can be removed or 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Areas can be cre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can be shifted to different rows/columns if they are pres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ies can be edited, e.g. preferred width, he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click menus all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al of an area’s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plitting of an area vertically or horizont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d contents are available to be placed in new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abs are displa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edit constraints currently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nd remove tabs from constraints via a right click 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g tabs to change constraints and sha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straints with one or two tab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hand side adjusts when dragging t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straints with one tab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hand side reflects the position of the t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straints with two tabs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hand side reflects the difference between the two ta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can be grouped in R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s can be dragged and dropped between each 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s can be split into two or removed via right click me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Row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s can be inserted in between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s can be split into two or removed via right click me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38:49Z</dcterms:created>
  <dc:creator>Gyurme</dc:creator>
  <dc:description/>
  <dc:language>en-US</dc:language>
  <cp:lastModifiedBy>clut002</cp:lastModifiedBy>
  <dcterms:modified xsi:type="dcterms:W3CDTF">2008-02-27T23:02:41Z</dcterms:modified>
  <cp:revision>14</cp:revision>
  <dc:subject/>
  <dc:title>ALM</dc:title>
</cp:coreProperties>
</file>