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F1A7-9697-4887-B829-45BA9436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6935D-0B3E-4E23-B111-CDDEE50E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9A62-8A4F-4DB1-A9B1-1A18B448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8805E-A929-4774-96E9-9FAD1B19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39DE-EE65-4FE2-9BA9-6CE32CDC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0F17-8F53-4027-A542-79491E4D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4805-0ADF-461E-84BC-2D95242A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F13D-5E12-44B3-AEEB-22B64366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63C4-BAE7-40C1-B022-78A4A558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3FF9-DECA-4CB3-9216-59AC2E3B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FC61-AD72-4E78-A06A-44357CEC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5AA2-2445-4B0A-B9E4-D8E20D14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5E7F-06F0-4B26-8536-7E7A75F2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FBBB-3CC8-4D4F-A2B8-EBFD9D82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0C24-FA13-4472-8E73-806EBE10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12B8-F180-4D73-95D9-98405C5D6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F11A-DFE0-4820-B5E2-EA5D5D70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380EA-0132-4DE0-869D-F0CBB884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F7AF-6F04-4D65-97FF-2982F3DE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773A1-A27B-4053-9504-53AFCBC3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7339B-205C-4FE9-92C4-86057650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45AB6-0E9F-41FD-82D5-9B1EEE91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6975-2D44-421D-AEE5-663CCD04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D89F-99E2-499B-9402-6569637A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8970-2FD5-4402-85B7-D81F8A14FF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765C-A6E3-404B-88B9-62CF999667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OUNDWAV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DI KEYBOARD DRI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roup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ed Hallett-Hook, Venkatramana Kunta, Sreeram Sreedhara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Proj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fac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 is MIDI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sical Instrument Digital Interf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cations protoc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’s in a MIDI sig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vent based mess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ssages contain information such a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and – On/Off et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it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UNDWA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ject Objectiv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yboard dr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eives midi mess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nslates to key strok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nds virtual keystrokes to the Operating Syst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sible Us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composition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clutter on des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ing other progra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NS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LE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turing MIDI ev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VA MIDI AP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de MIDI ev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Message Cla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lation into Keystro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pping Eng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ding Keystrokes to 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VA Robot Cla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LEMENTA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facing with other softw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yboard Driver class implemented as a KeyListen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ing Frame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it testing frame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CLUSIONS AND FUTURE WOR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ccessfully implemented a keyboard driver which converts midi input into keystrokes recognized by the operating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r friendly G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rther Integration with the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 for simultaneous input with multiple midi dev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6:34:46Z</dcterms:created>
  <dc:creator>student</dc:creator>
  <dc:description/>
  <dc:language>en-US</dc:language>
  <cp:lastModifiedBy>student</cp:lastModifiedBy>
  <dcterms:modified xsi:type="dcterms:W3CDTF">2007-05-20T07:31:38Z</dcterms:modified>
  <cp:revision>10</cp:revision>
  <dc:subject/>
  <dc:title>SOUNDWAVE</dc:title>
</cp:coreProperties>
</file>