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57BA-235C-4A53-9BF9-F4E23E74D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D93B2-BC93-466D-A98B-9456266C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6A53D-99B7-41E6-9718-2480F84B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AD24B-2E94-4990-B9A3-2164FCCE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470C-4D51-4E1B-90D0-1EDD93EA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624A-0235-4ADF-94B8-A5E0511A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B17C-256C-44B9-9E4D-5478E0D0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A4FF-B40B-459A-BAE7-027292CA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CBE8-559D-4B7B-8C94-99CB2147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DFF9-5FA1-42FA-AEAC-4EACEA3B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8220-D59A-4D10-9CC7-8239FBC4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5727-EA31-47A9-9A42-787FE2C3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0B56-DCB4-408E-8CD4-177C5D91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9F6D-79C3-4D59-A7A7-072F72E6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28C3-8D04-4DE2-9F13-7E6C9AFF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F982-867A-4FB8-863B-E19818A0C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A115-96D3-4ADD-A340-8AC7FB0C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5E2C6-F57A-4000-98AA-14CBABF8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33922-916B-44C0-9487-BBC415EA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2477-4AF8-4D50-A109-84A00764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CFA6-DA80-4C48-8EEB-1F085703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CFFEC-4C0D-4B66-9BCF-DBF9B42D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5B4D-6045-440E-9D4C-1E659AA4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9442-CB73-43CA-B2B1-89B7AEC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8167-DF1A-4B85-AE76-1E5DF003BE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C2F0-9D10-4BDF-910B-22DA9A04EF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OUNDWAV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IDI KEYBOARD DRI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roup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ed Hallett-Hook, Venkatramana Kunta, Sreeram Sreedhara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UTL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ur Projec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monstr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lem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fac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TRODUC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 is MIDI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usical Instrument Digital Interfac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mmunications protoc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’s in a MIDI sign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vent based mess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ssages contain information such a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mmand – On/Off et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o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itc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UNDWA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ject Objectiv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yboard driv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ceives midi messag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ranslates to key strok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nds virtual keystrokes to the Operating Syst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ossible Usa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th composition softwa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duce clutter on desk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P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veloping other program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NS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LEMENT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turing MIDI ev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VA MIDI AP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code MIDI ev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rtMessage Cla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lation into Keystrok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pping Engi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nding Keystrokes to 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AVA Robot Cla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MPLEMENTATION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	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terfacing with other softw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yboard Driver class implemented as a KeyListen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esting Frame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nit testing framewor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CONCLUSIONS AND FUTURE WOR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ccessfully implemented a keyboard driver which converts midi input into keystrokes recognized by the operating syst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ture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r friendly G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urther Integration with the syste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-2800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upport for simultaneous input with multiple midi devi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6:34:46Z</dcterms:created>
  <dc:creator>student</dc:creator>
  <dc:description/>
  <dc:language>en-US</dc:language>
  <cp:lastModifiedBy>student</cp:lastModifiedBy>
  <dcterms:modified xsi:type="dcterms:W3CDTF">2007-05-20T07:31:38Z</dcterms:modified>
  <cp:revision>10</cp:revision>
  <dc:subject/>
  <dc:title>SOUNDWAVE</dc:title>
</cp:coreProperties>
</file>