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D8A-A398-4714-A78E-7EB9F633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2E5-C6EA-4D0A-A11B-250B0057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448-AA91-4A52-B455-DE647CB8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E71-2AF6-4688-BDA2-AF4C4F27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C81-3AA2-4218-AACD-F6F06024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8A1-699C-40F0-9930-E6B541D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B6F-5AEE-4A6B-B261-16913C89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653-1CB7-4BAA-916A-EA88FBFB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A9B-8AFB-4B4C-BF90-E584E46A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477-7A67-4998-9841-2F3298BF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AA5-5387-42EC-8017-D6E84964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036-5F28-4679-8A7E-E3A7941B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5B3A-F5C4-4E16-A3D1-D25D74C763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381880" cy="116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: Gyurme Dahd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visors: Gerald Weber and Christof Lutter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iagram 6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yout engine with a solid mathematical found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outs are specified by linear constraints and a linear objective 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al layouts are calculated using linear program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stops,ie vertical and horizontal boundaries  are used to position a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creation and editing of GUIs using the ALM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editing modes fo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s of Areas can be removed or 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Areas can be cr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can be shifted to different rows/columns if they are pres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ies can be edited, e.g. preferred width, he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click menus all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al of an area’s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litting of an area vertically or horizont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d contents are available to be placed in new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abs are displa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edit constraints currently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nd remove tabs from constraints via a right click 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g tabs to change constraints and sha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traints with one or two tab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 side adjusts when dragging t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traints with one tab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 side reflects the position of the t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traints with two tabs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hand side reflects the difference between the two ta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can be grouped in R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s can be dragged and dropped between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s can be split into two or removed via right click me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 5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164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Row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s can be inserted in between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s can be split into two or removed via right click me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38:49Z</dcterms:created>
  <dc:creator>Gyurme</dc:creator>
  <dc:description/>
  <dc:language>en-US</dc:language>
  <cp:lastModifiedBy>clut002</cp:lastModifiedBy>
  <dcterms:modified xsi:type="dcterms:W3CDTF">2008-02-27T23:02:41Z</dcterms:modified>
  <cp:revision>14</cp:revision>
  <dc:subject/>
  <dc:title>ALM</dc:title>
</cp:coreProperties>
</file>