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8800-0CE2-4FEE-B08F-FFCF70B7A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B7B9-5AE8-4917-9198-E10C08B3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E957-6663-4195-9813-C46FEA397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CD6B-8EDE-4683-8A5C-E0232A57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196C-2AE0-4EC9-BCA3-00E6546AB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BC79-C4E3-4451-8678-EF8334B3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591D-3DA8-4FFD-AD36-979C118F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0644-C219-4C94-B7A0-ED3BC1BE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7384-177F-4557-B575-01F5C994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96DC-4864-40A0-A2B6-1A3CEF14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19E5-B4AB-4466-8B49-AB9C92B1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3CF5-1F44-4A5F-895C-7C8445CC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3834-7302-4406-885F-9F4477BD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EC3C-C8B9-4F79-986B-E21A7CEC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722D-456D-4179-98EF-09F6FD57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BD90-2C89-4519-9008-A7AC2A86A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BDBE-3C7B-4FDD-B127-9E3FA0287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4019-F69E-4B06-B250-C0A10C9D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7D0D-1645-4E78-BFDC-13CA6992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656F-B9D3-4491-BBF8-EF60977B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AC93-96B5-455B-A662-CAB94E84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6D17-A209-4BBD-9D57-EFED0D8F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4BFE-7058-42C4-AFA5-B1EAFA38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6070-7607-4930-A729-5C52400E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D9CC-471C-4A4F-8F4D-72852E385BEA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4BFC-8B10-413A-8EAF-2EB0F9E6074D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e on Assemb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S 210 Tutorial 5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ssignment prepara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ference between ldiq and ld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diq is for loading immediate value into regis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diq $t0, 0x8000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dq is for reading memory in specific loca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r example: Memory has valu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0x8000 : 0x111111111111111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0x8004 : 0x222222222222222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dq $t1, ($t0); value in $t1 is 0x111111111111111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dq $t1, 8($t0); value in $t1 is 0x222222222222222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tCh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5562360"/>
            <a:ext cx="7661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ake char value from keyboard to $v0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9880" y="1552680"/>
            <a:ext cx="746604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tCh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48960" y="5486040"/>
            <a:ext cx="7661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ake char from $a1 put to scre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25640" y="1500120"/>
            <a:ext cx="70945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3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ntout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447560"/>
            <a:ext cx="7661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block main uses proc, CALLSYS {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data {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align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buff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asciiz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“tide"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} data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code {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public ent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ldiq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$s0,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buffer;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{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while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ldbu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$a1,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($s0)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beq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$a1,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end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do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ldiq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$a0,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CALLSYS_PUTCHAR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call_pal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CALL_PAL_CALLSYS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addq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$s0,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1;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br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while;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                                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end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}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clr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$a0;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bsr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Sys.exit.enter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} cod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} block mai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ercise – checking blo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76736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 – checking blo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899172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keys and store in mem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code {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public ent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ldiq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$t6, 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0x01ffe184;//for example using hardcode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loop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ldiq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$a0,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CALLSYS_GETCHAR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call_pal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CALL_PAL_CALLSYS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//blt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$v0,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end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mov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$v0,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$a1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mov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$v0,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$t5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stb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$t5,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($t6)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addq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$t6,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1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ldiq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$a0,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CALLSYS_PUTCHAR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call_pal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CALL_PAL_CALLSYS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br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loop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end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clr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$a1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ldiq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$a0,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CALLSYS_EXIT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call_pal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CALL_PAL_CALLSYS;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} cod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erse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heck the code and try to understand it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atch them together to finish assignment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11:04:34Z</dcterms:created>
  <dc:creator>minh</dc:creator>
  <dc:description/>
  <dc:language>en-US</dc:language>
  <cp:lastModifiedBy>minh</cp:lastModifiedBy>
  <dcterms:modified xsi:type="dcterms:W3CDTF">2007-04-03T10:52:29Z</dcterms:modified>
  <cp:revision>10</cp:revision>
  <dc:subject/>
  <dc:title>More on Assembly</dc:title>
</cp:coreProperties>
</file>