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9848D-21C5-4880-968C-9F8A2A450C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nal solution was to implement stage 3 as a hack, using the 1.3 platform - essentially matching each call to a screen output function with one that wrote the same output to d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very inefficient, since output is in blocks of a few bytes at a time. Further, it doesn’t handle subrequests very well - it requires all documents to be handled by itself, even those like HTML files that should be handled through Apache’s core module. This showed up in performance comparison - Stage 3 is considerably slower at parsing documents than Stage 2.</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asically, made changes to the components of a set of documents, and used a browser to examine the output - in both HTML and rendered forms. There isn’t much to do for Stage 1, but Stage 2 and 3 provide full dependency checking that had to be tested extens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ce debugged properly, the 1.3 code worked perfectly - for every request, the correct output was gen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was not true for alpha 6. The output generated was correct, but presumably due to bugs in the server code, the module sometimes produced </a:t>
            </a:r>
            <a:r>
              <a:rPr b="1" lang="en-AU" sz="1200" spc="-1" strike="noStrike">
                <a:solidFill>
                  <a:srgbClr val="000000"/>
                </a:solidFill>
                <a:latin typeface="Times New Roman"/>
              </a:rPr>
              <a:t>no</a:t>
            </a:r>
            <a:r>
              <a:rPr b="0" lang="en-AU" sz="1200" spc="-1" strike="noStrike">
                <a:solidFill>
                  <a:srgbClr val="000000"/>
                </a:solidFill>
                <a:latin typeface="Times New Roman"/>
              </a:rPr>
              <a:t> output, or timed out while s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tempts with alpha 7 were of no worth. Even using the basic module distributed with the server, extensive problems occurred with scripts not being read correctly, and corrupted output being receiv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pache Benchmark is a tool provided by Apache for performance testing. I originally wrote my own code for this purpose, but switched to the official tool once I found i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lack line is the basic SSI module distributed with Apache. Since it performs no caching, the line is fixed at about 300 requests per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d line is the Stage 1 module. Because it only uses a few lines of code to determine whether to use the cache or not, it has very little overhead. If the cache cannot be used, it produces re-parsed content almost as quickly as the base module. If the cache </a:t>
            </a:r>
            <a:r>
              <a:rPr b="1" lang="en-AU" sz="1200" spc="-1" strike="noStrike">
                <a:solidFill>
                  <a:srgbClr val="000000"/>
                </a:solidFill>
                <a:latin typeface="Times New Roman"/>
              </a:rPr>
              <a:t>can</a:t>
            </a:r>
            <a:r>
              <a:rPr b="0" lang="en-AU" sz="1200" spc="-1" strike="noStrike">
                <a:solidFill>
                  <a:srgbClr val="000000"/>
                </a:solidFill>
                <a:latin typeface="Times New Roman"/>
              </a:rPr>
              <a:t> be used, the performance is almost double that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lue line is Stage 2. Since more complex dependency checking is performed, the overhead is greater. Also, because it’s easier to prove that the cache cannot be used than to prove it can, that overhead increases as the hit rate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ally, the purple line is Stage 3. For dependency checking, the overhead is identical, so at high hit rates, the performance is identical. However, there is an extra overhead involved in generating the cache and dependency data, so at lower hit rates, this becomes significa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pha 6 has a lot of internal changes from 1.3, but most of them don’t affect the module system. Most changes to the SSI code are simply due to changes of function names and parameters in the Apache AP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pha 7 is totally different. The API is unchanged from a6, but the module and IO systems have been completely redesigned. Despite version numbers, alpha 6 is closer to 1.3 than to alpha 7.</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 started out using 1.3, since it was the stable code branch, and unlikely to have any stability problems. Stage 1 and 2 were developed using this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nfortunately, correspondence with the Apache developers revealed that there was no clean way in 1.3 of trapping module output for writing to file. I was told that the 2.0 branch had this ability, called Layered IO. The result - I downloaded and installed alpha 6, and ported my existing code to the new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nfortunately, while alpha 6 did have the feature I needed, the implementation in that release wasn’t well suited to the purpose I needed it for. Ideal for my purposes would be a new implementation which was used in alpha 7 - which was released approximately a week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 had a look at alpha7 when it was released, and the new Layered IO implementation did look promising. Unfortunately, the SSI module included in alpha 7 was very, very buggy, and was not released in time to do anything with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04A9C-DFA5-4B5C-8232-B56547925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62841-21A9-4C0E-8378-01B6D60B7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E54CB-E33E-4980-97DA-904286AE2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AF8CD-E4B8-47AE-A281-EC52F9134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A030B6-D494-4FA9-9E83-0A20237D33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DE6B7-105B-4DD8-BFAD-B717B7F05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FDBEA-54B5-4EDF-9C4D-1AEC408C5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8DE96-6939-4D81-A1EB-AC0068C22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B30BD-692C-40E8-9867-DFDB71104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78876-A9D2-448B-BE11-72ABA1E9E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686E6-ECBC-4C1D-859B-26CCBFBCD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4286F-CF41-41AB-AA11-664372126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237BA-09AE-4C28-8A6C-3FB3E86D8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F19CB-9E76-4726-A066-9036CECA2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9E35D-3FC5-4B90-AAD5-1F0418DE4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56E1CF-A67E-4A28-9DAB-50745FED16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6"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626EB8-38F8-4096-94E1-3A74FDE848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E4379-64E6-4273-B6F5-54D22424D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43E4B-19D9-4A47-AAAD-74F2869F2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8B042-DAF7-455D-86A8-7BB75BD43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66EBB-F0AC-49E0-A512-BFBAB2B0C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EF580-7166-45D9-B93A-8E1F91E76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4AE47-B1CA-4BFE-A0B5-A986FD071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9DE15-E321-4C1D-BFDC-9A0A364B0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4C18-7A30-43FE-A23A-3B1559CD530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2"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40A35-548A-42E8-A817-1677B6C13B8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18284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rver-side caching optimizations for the Apache web server.</a:t>
            </a:r>
            <a:endParaRPr b="0" lang="en-US" sz="4400" spc="-1" strike="noStrike">
              <a:solidFill>
                <a:srgbClr val="003366"/>
              </a:solidFill>
              <a:latin typeface="Times New Roman"/>
            </a:endParaRPr>
          </a:p>
        </p:txBody>
      </p:sp>
      <p:sp>
        <p:nvSpPr>
          <p:cNvPr id="90"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on Gear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visor: S. Manohar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Final implementation</a:t>
            </a:r>
            <a:endParaRPr b="0" lang="en-US" sz="4400" spc="-1" strike="noStrike">
              <a:solidFill>
                <a:srgbClr val="003366"/>
              </a:solidFill>
              <a:latin typeface="Times New Roman"/>
            </a:endParaRPr>
          </a:p>
        </p:txBody>
      </p:sp>
      <p:sp>
        <p:nvSpPr>
          <p:cNvPr id="10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ages 1 and 2 implemented under both 1.3.12 and 2.0alpha6</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age 3 implemented as a hack for 1.3.12</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ot ideal solution, but functional.</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quires HTML files to be handled by SSI module instead of Apache core.</a:t>
            </a:r>
            <a:endParaRPr b="0" lang="en-US" sz="28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0alpha7 was not available in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Validity testing</a:t>
            </a:r>
            <a:endParaRPr b="0" lang="en-US" sz="4400" spc="-1" strike="noStrike">
              <a:solidFill>
                <a:srgbClr val="003366"/>
              </a:solidFill>
              <a:latin typeface="Times New Roman"/>
            </a:endParaRPr>
          </a:p>
        </p:txBody>
      </p:sp>
      <p:sp>
        <p:nvSpPr>
          <p:cNvPr id="110" name="PlaceHolder 2"/>
          <p:cNvSpPr>
            <a:spLocks noGrp="1"/>
          </p:cNvSpPr>
          <p:nvPr>
            <p:ph/>
          </p:nvPr>
        </p:nvSpPr>
        <p:spPr>
          <a:xfrm>
            <a:off x="914400" y="213372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one manually, using a browser to examine output.</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1.3.12 - no problem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2.0alpha6 - problems with server stabil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Performance testing</a:t>
            </a:r>
            <a:endParaRPr b="0" lang="en-US" sz="4400" spc="-1" strike="noStrike">
              <a:solidFill>
                <a:srgbClr val="003366"/>
              </a:solidFill>
              <a:latin typeface="Times New Roman"/>
            </a:endParaRPr>
          </a:p>
        </p:txBody>
      </p:sp>
      <p:sp>
        <p:nvSpPr>
          <p:cNvPr id="11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sing Apache Benchmark tool to compare the performance of the following setup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asic module (no cach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ep #1 cach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ep #2 cach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ep #3 c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Performance testing</a:t>
            </a: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or caching versions, compared 0%, 50%, and 100% hit rates on cach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sed Apache Benchmark tool to gather performance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5 simultaneous requests, for a total of 50,000 reque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easure number of requests handled per seco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Results</a:t>
            </a:r>
            <a:endParaRPr b="0" lang="en-US" sz="4400" spc="-1" strike="noStrike">
              <a:solidFill>
                <a:srgbClr val="003366"/>
              </a:solidFill>
              <a:latin typeface="Times New Roman"/>
            </a:endParaRPr>
          </a:p>
        </p:txBody>
      </p:sp>
      <p:graphicFrame>
        <p:nvGraphicFramePr>
          <p:cNvPr id="116" name=""/>
          <p:cNvGraphicFramePr/>
          <p:nvPr/>
        </p:nvGraphicFramePr>
        <p:xfrm>
          <a:off x="531720" y="1371600"/>
          <a:ext cx="8151840" cy="5181480"/>
        </p:xfrm>
        <a:graphic>
          <a:graphicData uri="http://schemas.openxmlformats.org/presentationml/2006/ole">
            <p:oleObj progId="Excel.Sheet.12" r:id="rId1" spid="">
              <p:embed/>
              <p:pic>
                <p:nvPicPr>
                  <p:cNvPr id="117" name="" descr=""/>
                  <p:cNvPicPr/>
                  <p:nvPr/>
                </p:nvPicPr>
                <p:blipFill>
                  <a:blip r:embed="rId2"/>
                  <a:stretch/>
                </p:blipFill>
                <p:spPr>
                  <a:xfrm>
                    <a:off x="531720" y="1371600"/>
                    <a:ext cx="8151840" cy="5181480"/>
                  </a:xfrm>
                  <a:prstGeom prst="rect">
                    <a:avLst/>
                  </a:prstGeom>
                  <a:ln w="0">
                    <a:noFill/>
                  </a:ln>
                </p:spPr>
              </p:pic>
            </p:oleObj>
          </a:graphicData>
        </a:graphic>
      </p:graphicFrame>
      <p:sp>
        <p:nvSpPr>
          <p:cNvPr id="118" name=""/>
          <p:cNvSpPr/>
          <p:nvPr/>
        </p:nvSpPr>
        <p:spPr>
          <a:xfrm>
            <a:off x="3886200" y="6400800"/>
            <a:ext cx="190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che hit rate (%)</a:t>
            </a:r>
            <a:endParaRPr b="0" lang="en-US" sz="1600" spc="-1" strike="noStrike">
              <a:solidFill>
                <a:srgbClr val="000000"/>
              </a:solidFill>
              <a:latin typeface="Times New Roman"/>
            </a:endParaRPr>
          </a:p>
        </p:txBody>
      </p:sp>
      <p:sp>
        <p:nvSpPr>
          <p:cNvPr id="119" name=""/>
          <p:cNvSpPr/>
          <p:nvPr/>
        </p:nvSpPr>
        <p:spPr>
          <a:xfrm rot="10800000">
            <a:off x="150480" y="2818440"/>
            <a:ext cx="423720" cy="1770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quests/secon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Conclusions</a:t>
            </a:r>
            <a:endParaRPr b="0" lang="en-US" sz="4400" spc="-1" strike="noStrike">
              <a:solidFill>
                <a:srgbClr val="003366"/>
              </a:solidFill>
              <a:latin typeface="Times New Roman"/>
            </a:endParaRPr>
          </a:p>
        </p:txBody>
      </p:sp>
      <p:sp>
        <p:nvSpPr>
          <p:cNvPr id="12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aching is viable for all stages, if the cache hit rate is more than 50%.</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ypical SSI usage is to simplify site maintenance - pages change rare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ither Stage 1 or 3 would be suitable for such si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Conclusions</a:t>
            </a:r>
            <a:endParaRPr b="0" lang="en-US" sz="4400" spc="-1" strike="noStrike">
              <a:solidFill>
                <a:srgbClr val="003366"/>
              </a:solidFill>
              <a:latin typeface="Times New Roman"/>
            </a:endParaRPr>
          </a:p>
        </p:txBody>
      </p:sp>
      <p:sp>
        <p:nvSpPr>
          <p:cNvPr id="12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general, server-side caching is practical as long as the cache hit rate is high, and the overhead of cache processing is minimi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Aims:</a:t>
            </a:r>
            <a:endParaRPr b="0" lang="en-US" sz="4400" spc="-1" strike="noStrike">
              <a:solidFill>
                <a:srgbClr val="003366"/>
              </a:solidFill>
              <a:latin typeface="Times New Roman"/>
            </a:endParaRPr>
          </a:p>
        </p:txBody>
      </p:sp>
      <p:sp>
        <p:nvSpPr>
          <p:cNvPr id="9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o implement server-side caching of SSI scripts under Apach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o evaluate the value of script caching in genera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o gain experience working as part of a large scale development eff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Achievements:</a:t>
            </a: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reated a design for the caching extensions to </a:t>
            </a:r>
            <a:r>
              <a:rPr b="0" lang="en-AU" sz="3200" spc="-1" strike="noStrike">
                <a:solidFill>
                  <a:srgbClr val="000000"/>
                </a:solidFill>
                <a:latin typeface="Lucida Console"/>
              </a:rPr>
              <a:t>mod_include</a:t>
            </a:r>
            <a:r>
              <a:rPr b="0" lang="en-AU"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mplemented variants of the design for several Apache version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udied the API and inner workings for each Apache versio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elped debug Apache 2.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Design</a:t>
            </a:r>
            <a:endParaRPr b="0" lang="en-US" sz="4400" spc="-1" strike="noStrike">
              <a:solidFill>
                <a:srgbClr val="003366"/>
              </a:solidFill>
              <a:latin typeface="Times New Roman"/>
            </a:endParaRPr>
          </a:p>
        </p:txBody>
      </p:sp>
      <p:sp>
        <p:nvSpPr>
          <p:cNvPr id="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uring parsing of an SSI script, everything that creates a dependency is tracked and recorded to file.</a:t>
            </a:r>
            <a:endParaRPr b="0" lang="en-US" sz="3200" spc="-1" strike="noStrike">
              <a:solidFill>
                <a:srgbClr val="000000"/>
              </a:solidFill>
              <a:latin typeface="Arial"/>
            </a:endParaRPr>
          </a:p>
          <a:p>
            <a:pPr marL="325800" indent="-3258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or later requests, the dependency file is used to determine if cached document can be used.</a:t>
            </a:r>
            <a:endParaRPr b="0" lang="en-US" sz="3200" spc="-1" strike="noStrike">
              <a:solidFill>
                <a:srgbClr val="000000"/>
              </a:solidFill>
              <a:latin typeface="Arial"/>
            </a:endParaRPr>
          </a:p>
          <a:p>
            <a:pPr marL="325800" indent="-3258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f so, cached document is used.</a:t>
            </a:r>
            <a:endParaRPr b="0" lang="en-US" sz="3200" spc="-1" strike="noStrike">
              <a:solidFill>
                <a:srgbClr val="000000"/>
              </a:solidFill>
              <a:latin typeface="Arial"/>
            </a:endParaRPr>
          </a:p>
          <a:p>
            <a:pPr marL="325800" indent="-3258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f not, script is re-par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ASP Caching Filter</a:t>
            </a:r>
            <a:endParaRPr b="0" lang="en-US" sz="4400" spc="-1" strike="noStrike">
              <a:solidFill>
                <a:srgbClr val="003366"/>
              </a:solidFill>
              <a:latin typeface="Times New Roman"/>
            </a:endParaRPr>
          </a:p>
        </p:txBody>
      </p:sp>
      <p:sp>
        <p:nvSpPr>
          <p:cNvPr id="9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lug-in for Microsoft PWS and IIS web serv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erforms similar function to the caching extensions to </a:t>
            </a:r>
            <a:r>
              <a:rPr b="0" lang="en-AU" sz="3200" spc="-1" strike="noStrike">
                <a:solidFill>
                  <a:srgbClr val="000000"/>
                </a:solidFill>
                <a:latin typeface="Lucida Console"/>
              </a:rPr>
              <a:t>mod_include</a:t>
            </a:r>
            <a:r>
              <a:rPr b="0" lang="en-AU"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Very simple - no dependency check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f cached data exists, use cached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lse re-generate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Three stage implementation</a:t>
            </a:r>
            <a:endParaRPr b="0" lang="en-US" sz="4400" spc="-1" strike="noStrike">
              <a:solidFill>
                <a:srgbClr val="003366"/>
              </a:solidFill>
              <a:latin typeface="Times New Roman"/>
            </a:endParaRPr>
          </a:p>
        </p:txBody>
      </p:sp>
      <p:sp>
        <p:nvSpPr>
          <p:cNvPr id="1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age #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quivalent to the ASP filter.</a:t>
            </a:r>
            <a:endParaRPr b="0" lang="en-US" sz="28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age #2</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ds and processes dependency files, checking timestamps to determine if cached data should be u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ache and dependency files must be created manu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Three stage implementation</a:t>
            </a: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age #3</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ull implementation of the desig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ocesses dependency fi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utomatically re-generates cache and dependency files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Platform</a:t>
            </a:r>
            <a:endParaRPr b="0" lang="en-US" sz="4400" spc="-1" strike="noStrike">
              <a:solidFill>
                <a:srgbClr val="003366"/>
              </a:solidFill>
              <a:latin typeface="Times New Roman"/>
            </a:endParaRPr>
          </a:p>
        </p:txBody>
      </p:sp>
      <p:sp>
        <p:nvSpPr>
          <p:cNvPr id="10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wo current versions of Apach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1.3.x - the standard version in widespread use. Stable, reliabl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2.0x - the new version, only available as a developers rele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2.0alpha6 - similar to 1.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2.0alpha7 - completely re-desig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ffff"/>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Which version???</a:t>
            </a: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age 1 and 2 code can work properly under any of the Apache versions.</a:t>
            </a:r>
            <a:endParaRPr b="0" lang="en-US" sz="3200" spc="-1" strike="noStrike">
              <a:solidFill>
                <a:srgbClr val="000000"/>
              </a:solidFill>
              <a:latin typeface="Arial"/>
            </a:endParaRPr>
          </a:p>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age 3 required features still in development </a:t>
            </a:r>
            <a:r>
              <a:rPr b="0" lang="en-AU" sz="3200" spc="-1" strike="noStrike">
                <a:solidFill>
                  <a:srgbClr val="000000"/>
                </a:solidFill>
                <a:latin typeface="Wingdings"/>
                <a:ea typeface="Wingdings"/>
              </a:rPr>
              <a:t></a:t>
            </a:r>
            <a:r>
              <a:rPr b="0" lang="en-AU" sz="3200" spc="-1" strike="noStrike">
                <a:solidFill>
                  <a:srgbClr val="000000"/>
                </a:solidFill>
                <a:latin typeface="Arial"/>
              </a:rPr>
              <a:t> switched to 2.0alpha6.</a:t>
            </a:r>
            <a:endParaRPr b="0" lang="en-US" sz="3200" spc="-1" strike="noStrike">
              <a:solidFill>
                <a:srgbClr val="000000"/>
              </a:solidFill>
              <a:latin typeface="Arial"/>
            </a:endParaRPr>
          </a:p>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eatures still not fully implemented in alpha6 </a:t>
            </a:r>
            <a:r>
              <a:rPr b="0" lang="en-AU" sz="3200" spc="-1" strike="noStrike">
                <a:solidFill>
                  <a:srgbClr val="000000"/>
                </a:solidFill>
                <a:latin typeface="Wingdings"/>
                <a:ea typeface="Wingdings"/>
              </a:rPr>
              <a:t></a:t>
            </a:r>
            <a:r>
              <a:rPr b="0" lang="en-AU" sz="3200" spc="-1" strike="noStrike">
                <a:solidFill>
                  <a:srgbClr val="000000"/>
                </a:solidFill>
                <a:latin typeface="Arial"/>
              </a:rPr>
              <a:t> need to switch to alpha7.</a:t>
            </a:r>
            <a:endParaRPr b="0" lang="en-US" sz="3200" spc="-1" strike="noStrike">
              <a:solidFill>
                <a:srgbClr val="000000"/>
              </a:solidFill>
              <a:latin typeface="Arial"/>
            </a:endParaRPr>
          </a:p>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2.0alpha7 released only one week ago </a:t>
            </a:r>
            <a:r>
              <a:rPr b="0" lang="en-AU"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0T00:49:29Z</dcterms:created>
  <dc:creator>sgea003</dc:creator>
  <dc:description/>
  <dc:language>en-US</dc:language>
  <cp:lastModifiedBy>sgea003</cp:lastModifiedBy>
  <dcterms:modified xsi:type="dcterms:W3CDTF">2000-10-15T22:08:50Z</dcterms:modified>
  <cp:revision>73</cp:revision>
  <dc:subject/>
  <dc:title>Server-side caching optimizations for the Apache web server.</dc:title>
</cp:coreProperties>
</file>