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A8A8-D619-4BA7-9B7F-433D9746F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ject deals with the Apaches server-side scripting system, SHTML. Under the existing implementation, there is no mechanism for caching the content of parsed documents. A document must therefore be regenerated *every* time it is requested, regardless of whether any changes have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y project aims to fix this, by modifying the existing SHTML module to cache its output on the server. If documents are only regenerated when the cached copy becomes ‘stale’, this should reduce the load on the serv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Foo.shtml</a:t>
            </a:r>
            <a:r>
              <a:rPr b="0" lang="en-AU" sz="1200" spc="-1" strike="noStrike">
                <a:solidFill>
                  <a:srgbClr val="000000"/>
                </a:solidFill>
                <a:latin typeface="Times New Roman"/>
              </a:rPr>
              <a:t> creates an internal variable LOCATION, and includes two other files - </a:t>
            </a:r>
            <a:r>
              <a:rPr b="0" i="1" lang="en-AU" sz="1200" spc="-1" strike="noStrike">
                <a:solidFill>
                  <a:srgbClr val="000000"/>
                </a:solidFill>
                <a:latin typeface="Times New Roman"/>
              </a:rPr>
              <a:t>Header.shtml</a:t>
            </a:r>
            <a:r>
              <a:rPr b="0" lang="en-AU" sz="1200" spc="-1" strike="noStrike">
                <a:solidFill>
                  <a:srgbClr val="000000"/>
                </a:solidFill>
                <a:latin typeface="Times New Roman"/>
              </a:rPr>
              <a:t> and </a:t>
            </a:r>
            <a:r>
              <a:rPr b="0" i="1" lang="en-AU" sz="1200" spc="-1" strike="noStrike">
                <a:solidFill>
                  <a:srgbClr val="000000"/>
                </a:solidFill>
                <a:latin typeface="Times New Roman"/>
              </a:rPr>
              <a:t>Footer.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Header.shtml</a:t>
            </a:r>
            <a:r>
              <a:rPr b="0" lang="en-AU" sz="1200" spc="-1" strike="noStrike">
                <a:solidFill>
                  <a:srgbClr val="000000"/>
                </a:solidFill>
                <a:latin typeface="Times New Roman"/>
              </a:rPr>
              <a:t> makes use of the LOCATION variable to generate a menu customised to this page. However, since LOCATION is not part of the environment set by Apache, then it is not tracked, as its value will not affect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Footer.shtml</a:t>
            </a:r>
            <a:r>
              <a:rPr b="0" lang="en-AU" sz="1200" spc="-1" strike="noStrike">
                <a:solidFill>
                  <a:srgbClr val="000000"/>
                </a:solidFill>
                <a:latin typeface="Times New Roman"/>
              </a:rPr>
              <a:t> makes use of the LAST_MODIFIED variable to display the date the requested file (Foo.shtml) was last modified. Since this is a variable provided by Apache, its value will need to be tracked to ensure cache valid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n SHTML request is retrieved by Apache, it passes it to the SHTML module for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thing the module will do is check if the requested document is in the disk cache. If not, the document must be parsed and added to the cache. The cached entry is then returned to the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cache does contain the document, it must check that the cached copy is valid. To do this, it checks the timestamps and dependencies for this document, then recursively checks any SHTML documents included by this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ll tests are passed, then the cached copy is returned to the user. If any test fails, the document must be reparsed, and the cach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 cached copy is returned to the cl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50AA9-77BB-4156-B6A1-E972F3957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9E79-7E4A-4839-8C35-3F351CF2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D8AF7-9F0E-4DFA-8D1D-0E2241028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3BE41-2636-41B9-A2D3-4FB3943D9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099FA-CF18-4AC9-AF11-542345324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E39E8-28B2-4466-BAC0-91A3C3625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8DD64-8499-451D-B7C6-B9E3E0046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FE47E-DBBB-4F6E-9F92-DE74ADD70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0F8E0-C0FA-41DF-9626-AB9C44AAD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41B7D-F0FB-4726-843D-03F652D8A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2DDE-6457-4A83-94AF-B926CD8C8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C890-4839-4604-A3F7-74847BA9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0323D-6C22-4679-878D-0ED41EC7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D23AA-99C2-4939-98FD-259C1E1E8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7C06F-4790-470B-AEF3-5BC0C126B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56E67-8A92-4883-B6C7-D42428AFB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603D9-2014-479B-A064-30F78F94E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2837-AFFA-41BE-AD12-84A3FB7C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904C-5A49-4F5B-B16A-89CC0975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209E-8279-4AC1-B29B-B01FDF604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0FB55-D03F-46CD-9466-16143E32B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5F2F-F21F-4E7E-941B-4B59B4C4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2726-5CDD-4DDB-A13C-5F5C3F43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1EDA-2622-492C-8ACF-837B84318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F522-1953-4F12-BC08-B18F84AA62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2"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B96C-FA29-454F-9A30-11D4578375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828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rver-side caching optimizations for the Apache web server.</a:t>
            </a:r>
            <a:endParaRPr b="0" lang="en-US" sz="4400" spc="-1" strike="noStrike">
              <a:solidFill>
                <a:srgbClr val="003366"/>
              </a:solidFill>
              <a:latin typeface="Times New Roman"/>
            </a:endParaRPr>
          </a:p>
        </p:txBody>
      </p:sp>
      <p:sp>
        <p:nvSpPr>
          <p:cNvPr id="9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on Ge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or: S. Manoha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Next steps</a:t>
            </a:r>
            <a:endParaRPr b="0" lang="en-US" sz="4400" spc="-1" strike="noStrike">
              <a:solidFill>
                <a:srgbClr val="003366"/>
              </a:solidFill>
              <a:latin typeface="Times New Roman"/>
            </a:endParaRPr>
          </a:p>
        </p:txBody>
      </p:sp>
      <p:sp>
        <p:nvSpPr>
          <p:cNvPr id="1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ke the appropriate modifications to the SHTML modul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st that the cache is producing valid result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st performance of the caching version, compared with the standard ver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ent side caching</a:t>
            </a:r>
            <a:endParaRPr b="0" lang="en-US" sz="4400" spc="-1" strike="noStrike">
              <a:solidFill>
                <a:srgbClr val="003366"/>
              </a:solidFill>
              <a:latin typeface="Times New Roman"/>
            </a:endParaRPr>
          </a:p>
        </p:txBody>
      </p:sp>
      <p:sp>
        <p:nvSpPr>
          <p:cNvPr id="1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existing SHTML, client-side caching of SHTML is not possibl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modifications provide a mechanism that may be used for validating a client-side c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ject aims:</a:t>
            </a:r>
            <a:endParaRPr b="0" lang="en-US" sz="4400" spc="-1" strike="noStrike">
              <a:solidFill>
                <a:srgbClr val="003366"/>
              </a:solidFill>
              <a:latin typeface="Times New Roman"/>
            </a:endParaRPr>
          </a:p>
        </p:txBody>
      </p:sp>
      <p:sp>
        <p:nvSpPr>
          <p:cNvPr id="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che server-side scripting module does not support any form of caching of parsed documents.</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must be reparsed each time they’re requested.</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im is to implement a server-side cache, to eliminate unnecessary re-parsing of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gress so far…</a:t>
            </a: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SHTML, using it heavily as part of another assignmen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in detail the source code of the Apache SHTML modul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on the structure to be used by the caching system, and how data will be shared in the multi-process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ependencies</a:t>
            </a: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HTML, there are two kinds of dependency which may ar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 on another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 on an environment variable</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ensure cache validity, both kinds of dependency must be trac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98" name="PlaceHolder 2"/>
          <p:cNvSpPr>
            <a:spLocks noGrp="1"/>
          </p:cNvSpPr>
          <p:nvPr>
            <p:ph/>
          </p:nvPr>
        </p:nvSpPr>
        <p:spPr>
          <a:xfrm>
            <a:off x="4800600" y="1752480"/>
            <a:ext cx="40845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s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ader.sht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ter.shtml</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ader.shtm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ter.s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ST_MODIFIED</a:t>
            </a:r>
            <a:endParaRPr b="0" lang="en-US" sz="2800" spc="-1" strike="noStrike">
              <a:solidFill>
                <a:srgbClr val="000000"/>
              </a:solidFill>
              <a:latin typeface="Arial"/>
            </a:endParaRPr>
          </a:p>
        </p:txBody>
      </p:sp>
      <p:grpSp>
        <p:nvGrpSpPr>
          <p:cNvPr id="99" name=""/>
          <p:cNvGrpSpPr/>
          <p:nvPr/>
        </p:nvGrpSpPr>
        <p:grpSpPr>
          <a:xfrm>
            <a:off x="762120" y="1676520"/>
            <a:ext cx="3657600" cy="4724280"/>
            <a:chOff x="762120" y="1676520"/>
            <a:chExt cx="3657600" cy="4724280"/>
          </a:xfrm>
        </p:grpSpPr>
        <p:sp>
          <p:nvSpPr>
            <p:cNvPr id="100" name=""/>
            <p:cNvSpPr/>
            <p:nvPr/>
          </p:nvSpPr>
          <p:spPr>
            <a:xfrm>
              <a:off x="762120" y="1676520"/>
              <a:ext cx="3657600" cy="472428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o.shtml</a:t>
              </a:r>
              <a:endParaRPr b="0" lang="en-US" sz="2400" spc="-1" strike="noStrike">
                <a:solidFill>
                  <a:srgbClr val="000000"/>
                </a:solidFill>
                <a:latin typeface="Times New Roman"/>
              </a:endParaRPr>
            </a:p>
          </p:txBody>
        </p:sp>
        <p:sp>
          <p:nvSpPr>
            <p:cNvPr id="101" name=""/>
            <p:cNvSpPr/>
            <p:nvPr/>
          </p:nvSpPr>
          <p:spPr>
            <a:xfrm>
              <a:off x="914400" y="1828800"/>
              <a:ext cx="3352680" cy="6854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ader.shtml</a:t>
              </a:r>
              <a:endParaRPr b="0" lang="en-US" sz="2400" spc="-1" strike="noStrike">
                <a:solidFill>
                  <a:srgbClr val="000000"/>
                </a:solidFill>
                <a:latin typeface="Times New Roman"/>
              </a:endParaRPr>
            </a:p>
          </p:txBody>
        </p:sp>
        <p:sp>
          <p:nvSpPr>
            <p:cNvPr id="102" name=""/>
            <p:cNvSpPr/>
            <p:nvPr/>
          </p:nvSpPr>
          <p:spPr>
            <a:xfrm>
              <a:off x="914400" y="5562360"/>
              <a:ext cx="3352680" cy="6854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oter.shtm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sistence</a:t>
            </a: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storage is necessary here. Sites may be too large for keeping all data in memory to be practic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hed data remains, even after the server is shutdow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imple info sharing between different Apache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ments #1</a:t>
            </a: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king mechanism is required to avoid multiple processes updating the cache at the same time. OS supported file locking should solve the problem.</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is vital. It is not acceptable to deliver a cached copy of a document, if that copy does not match the ori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ments #2</a:t>
            </a: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hing information must be easily retrieved. Otherwise, it may negate the gains made by not reparsing document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currently two Apache versions in active development. The caching system should be easily ported between these ver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ching process</a:t>
            </a:r>
            <a:endParaRPr b="0" lang="en-US" sz="4400" spc="-1" strike="noStrike">
              <a:solidFill>
                <a:srgbClr val="003366"/>
              </a:solidFill>
              <a:latin typeface="Times New Roman"/>
            </a:endParaRPr>
          </a:p>
        </p:txBody>
      </p:sp>
      <p:sp>
        <p:nvSpPr>
          <p:cNvPr id="110" name=""/>
          <p:cNvSpPr/>
          <p:nvPr/>
        </p:nvSpPr>
        <p:spPr>
          <a:xfrm>
            <a:off x="556272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638680" y="3886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716800" y="3595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13" name=""/>
          <p:cNvSpPr/>
          <p:nvPr/>
        </p:nvSpPr>
        <p:spPr>
          <a:xfrm>
            <a:off x="4724280" y="57913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724280" y="42670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26440" y="451008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16" name=""/>
          <p:cNvSpPr/>
          <p:nvPr/>
        </p:nvSpPr>
        <p:spPr>
          <a:xfrm>
            <a:off x="4724280" y="2851200"/>
            <a:ext cx="0" cy="73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37600" y="29653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18" name=""/>
          <p:cNvSpPr/>
          <p:nvPr/>
        </p:nvSpPr>
        <p:spPr>
          <a:xfrm>
            <a:off x="2743200" y="2514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0120" y="4267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03680" y="2165400"/>
            <a:ext cx="1882800" cy="70380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s reque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 cache?</a:t>
            </a:r>
            <a:endParaRPr b="0" lang="en-US" sz="2000" spc="-1" strike="noStrike">
              <a:solidFill>
                <a:srgbClr val="000000"/>
              </a:solidFill>
              <a:latin typeface="Times New Roman"/>
            </a:endParaRPr>
          </a:p>
        </p:txBody>
      </p:sp>
      <p:sp>
        <p:nvSpPr>
          <p:cNvPr id="121" name=""/>
          <p:cNvSpPr/>
          <p:nvPr/>
        </p:nvSpPr>
        <p:spPr>
          <a:xfrm>
            <a:off x="3703680" y="3556080"/>
            <a:ext cx="1935000" cy="70380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s the cached copy valid?</a:t>
            </a:r>
            <a:endParaRPr b="0" lang="en-US" sz="2000" spc="-1" strike="noStrike">
              <a:solidFill>
                <a:srgbClr val="000000"/>
              </a:solidFill>
              <a:latin typeface="Times New Roman"/>
            </a:endParaRPr>
          </a:p>
        </p:txBody>
      </p:sp>
      <p:sp>
        <p:nvSpPr>
          <p:cNvPr id="122" name=""/>
          <p:cNvSpPr/>
          <p:nvPr/>
        </p:nvSpPr>
        <p:spPr>
          <a:xfrm>
            <a:off x="6588000" y="3556080"/>
            <a:ext cx="206244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gener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ache entry</a:t>
            </a:r>
            <a:endParaRPr b="0" lang="en-US" sz="2000" spc="-1" strike="noStrike">
              <a:solidFill>
                <a:srgbClr val="000000"/>
              </a:solidFill>
              <a:latin typeface="Times New Roman"/>
            </a:endParaRPr>
          </a:p>
        </p:txBody>
      </p:sp>
      <p:sp>
        <p:nvSpPr>
          <p:cNvPr id="123" name=""/>
          <p:cNvSpPr/>
          <p:nvPr/>
        </p:nvSpPr>
        <p:spPr>
          <a:xfrm>
            <a:off x="6599160" y="5442120"/>
            <a:ext cx="2076480" cy="7038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turn cac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document to client</a:t>
            </a:r>
            <a:endParaRPr b="0" lang="en-US" sz="2000" spc="-1" strike="noStrike">
              <a:solidFill>
                <a:srgbClr val="000000"/>
              </a:solidFill>
              <a:latin typeface="Times New Roman"/>
            </a:endParaRPr>
          </a:p>
        </p:txBody>
      </p:sp>
      <p:sp>
        <p:nvSpPr>
          <p:cNvPr id="124" name=""/>
          <p:cNvSpPr/>
          <p:nvPr/>
        </p:nvSpPr>
        <p:spPr>
          <a:xfrm>
            <a:off x="685800" y="2133720"/>
            <a:ext cx="2062080" cy="70380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ceive document request</a:t>
            </a:r>
            <a:endParaRPr b="0" lang="en-US" sz="2000" spc="-1" strike="noStrike">
              <a:solidFill>
                <a:srgbClr val="000000"/>
              </a:solidFill>
              <a:latin typeface="Times New Roman"/>
            </a:endParaRPr>
          </a:p>
        </p:txBody>
      </p:sp>
      <p:sp>
        <p:nvSpPr>
          <p:cNvPr id="125" name=""/>
          <p:cNvSpPr/>
          <p:nvPr/>
        </p:nvSpPr>
        <p:spPr>
          <a:xfrm>
            <a:off x="7620120" y="25146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93120" y="2133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0:49:29Z</dcterms:created>
  <dc:creator>sgea003</dc:creator>
  <dc:description/>
  <dc:language>en-US</dc:language>
  <cp:lastModifiedBy>Simon Geard</cp:lastModifiedBy>
  <dcterms:modified xsi:type="dcterms:W3CDTF">2000-05-24T22:17:42Z</dcterms:modified>
  <cp:revision>50</cp:revision>
  <dc:subject/>
  <dc:title>Server-side caching optimizations for the Apache web server.</dc:title>
</cp:coreProperties>
</file>