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F420-D5AC-4385-B3AD-D2938E86A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menu and boilerplate can be defined in separate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F7E-CBD8-48DC-A1B5-86E653B9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309-65BE-47B3-B458-5127CFAB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0F3-EF60-43DC-A635-C335E171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7D8-1875-4D71-9F1D-1C07B74F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132-0D50-49A4-A8AB-66C25A20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3F6-315C-4D65-A552-03646921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1A4B-BF39-4BBB-8C68-56A8A50F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122-6D8D-41F6-AF51-3A01495F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CA95-B3CA-4CD8-97F0-20DC62AA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8002-B47D-424C-A7DF-7111D1B5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D1E-2661-496B-ADA5-E2ECB8C0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217-8A5B-489E-BCE7-7F56B8A7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6B96-30BC-4C7F-A749-1B92B5339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rver-side caching optimizations for the Apache web server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on Ge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visor: S. Manoha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server-side scriptin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generation of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ding of documents in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ning external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ing information about the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cripting technolog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TML (Server-parsed HT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SP (Java Server P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P (Active Server P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P (PHP Hypertext Process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HTM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pting function provided by Apa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s of special commands embedded in HTML comment ta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simple command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ies mainten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676520"/>
            <a:ext cx="7924680" cy="457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752480"/>
            <a:ext cx="17528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438280" y="5715000"/>
            <a:ext cx="5943600" cy="459720"/>
            <a:chOff x="2438280" y="5715000"/>
            <a:chExt cx="5943600" cy="459720"/>
          </a:xfrm>
        </p:grpSpPr>
        <p:sp>
          <p:nvSpPr>
            <p:cNvPr id="61" name=""/>
            <p:cNvSpPr/>
            <p:nvPr/>
          </p:nvSpPr>
          <p:spPr>
            <a:xfrm>
              <a:off x="2438280" y="5715000"/>
              <a:ext cx="5943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38280" y="571500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ilerplate t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09480" y="3505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existing Apache implementation, an SHTML document must be parsed every time it is reque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raises performance iss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o parse once, and after that, only if something has chan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y proje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my project is to create a server-side caching function for SHTML on Apa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ill probably be implemented by modifying the standard SHTML par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gr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che modu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he caching system should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00:49:29Z</dcterms:created>
  <dc:creator>sgea003</dc:creator>
  <dc:description/>
  <dc:language>en-US</dc:language>
  <cp:lastModifiedBy>ET</cp:lastModifiedBy>
  <dcterms:modified xsi:type="dcterms:W3CDTF">2000-10-11T22:52:44Z</dcterms:modified>
  <cp:revision>18</cp:revision>
  <dc:subject/>
  <dc:title>Server-side caching optimizations for the Apache web server.</dc:title>
</cp:coreProperties>
</file>