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3FE-D264-430F-AF29-F0EAA678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7F1-0765-41AA-814F-681FB007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B4A-AD12-46C9-94F4-2EBD086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F21-50C8-4E1E-8EA3-FFD961F3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98D-9AFB-4215-8F84-FC60A837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5E15-922F-4B90-9144-520EA3CD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CBC1-5167-49A5-8C4C-2AEC661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98C4-4AB6-4EAC-8C4F-1382707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5764-03EC-4632-BFFC-061CD3E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6057-8E30-44EC-93FF-2C10AC48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26E-BCAF-47B0-A502-12EACE27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130-8061-4333-9119-6AB542D5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D58-D619-4CC7-A4EB-7F8E81B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9272-E95B-4492-9057-58B7BBD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0484-DCB9-42F6-8503-077D3C44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060-A60D-42B3-A84C-CC5ADD66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46BE-3834-4533-A35E-4C3D78D9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848-34BB-480D-A093-FAEDE4E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2D3-86BA-4731-80BA-72C44D67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73B-AF76-4F9A-ADD3-EA1D2B07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639-2CF2-44FA-AD78-9A69D9D4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54D-281F-4B25-8167-B65BFCB4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5A7-45F7-4218-AEE2-0ED892B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23C-1239-4185-9373-335CDB1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9473-4465-4040-8D86-C5DD8240F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16FC-DEAA-44FA-965D-2B1B1A2BD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-Tech Project – Pentium Emulat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 McClym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visor – Dr. S. Manoh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o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a specific stream of data from the text segment and extracts out an instruction at a time, placing this into a data structure for later 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ction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ixe(s) – up to 4 b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 and Repeat, e.g. 0xF2, 0xF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ment overr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nd size overide, e.g. 0x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 size over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code(s) – 1 or 2 bytes - Specifies the 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Prefixes    Opcode    ModRM    SIB   Immediate   Rel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ction Format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/RM – 1 by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 – specifies either 8 registers or 24 addressing modes, used in combination with the RM by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/Opcode – Can be used for either a register operand or an extension of the opcode. Which it is depends on the in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M – combines with the Mod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Prefixes    Opcode    ModRM    SIB   Immediate   Rel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2438280"/>
            <a:ext cx="320040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Mod  Reg/opcode  R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057400"/>
            <a:ext cx="8380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2057400"/>
            <a:ext cx="91440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4382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4382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ction Format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B – Is required by 3 of the 24 addressing modes in the Mod/RM byte. Specifies a scale index and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L   EAX, 0x4 (ESP, ESI, 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 = ESP, index = ESI, scale = 4, offset = 0x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lculated by ESP + 4 * ESI + 0x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Prefixes    Opcode    ModRM    SIB   Immediate   Rel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438280"/>
            <a:ext cx="320040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Scale    Index   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4382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733560" y="2057400"/>
            <a:ext cx="10666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057400"/>
            <a:ext cx="137160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ction Format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ediate – 0, 1, 2, 4 bytes of immediate data, e.g. Call 0x0804805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– 0, 1, 2, 4 bytes of relative data, e.g. Call 0x15 or MOV EAX, 0x54[ESP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Prefixes    Opcode    ModRM    SIB   Immediate   Rel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1523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cu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the data for the specific instruction extracted by the decoder, and carries out the specific requirements of the in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s register va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ies out system ca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stem Ca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 module called when a system call is reac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0x80 – value in EAX register specifies the specific system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_ex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_fo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_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_wr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_op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_cl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905120"/>
            <a:ext cx="1447920" cy="9144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905120"/>
            <a:ext cx="1752840" cy="9144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el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05120"/>
            <a:ext cx="1523880" cy="9144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191120"/>
            <a:ext cx="1523880" cy="9144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4191120"/>
            <a:ext cx="2438280" cy="9144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System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2819520"/>
            <a:ext cx="0" cy="1371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2362320"/>
            <a:ext cx="1143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2362320"/>
            <a:ext cx="1523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0" y="2819520"/>
            <a:ext cx="1066680" cy="137160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276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Cn BT"/>
              </a:rPr>
              <a:t>Cre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Cn BT"/>
              </a:rPr>
              <a:t>Fetches instru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0574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Cn BT"/>
              </a:rPr>
              <a:t>Reads ELF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Cn BT"/>
              </a:rPr>
              <a:t>Cre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6483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Cn BT"/>
              </a:rPr>
              <a:t>Creates/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Encou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section being miss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gnment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to find good documentation with the right inform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standing how a system call is 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ding mod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ding S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working decoder, with only minor modifications needed if extra commands are being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 executor being able to run limited programs. Still contains a few bu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to debu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finished simulator or emulator to compare results wi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code, about 70k of Machine code to simply print one line of text to the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an Emu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o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struc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- Demonst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this project may be handed to someone e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an emulator for more complicated progr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he capabilities of the emulator to perform a simulation of the Pentium proc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e pipeli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e closely the memory struc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s of the Em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ul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a standard ‘cc’ generated executable  object file under LINUX and executes it instruction by in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ion is independent of the processor that it runs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ts of a typical Emulat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er – Previous implementation used, although some bugs were fix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oder – Written from scrat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or – Written from scrat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ader takes the file specified and loads it into the specific memory structure ready for decoding and exec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the ELF library to read the header and the rest of the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F File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and Linking format – format used in Linux for object f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F library used to load the f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ctions  of a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iz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M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le Off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lig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ini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0002c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8048080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00080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tex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11118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80480b0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000b0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fin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0001c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80591d0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111d0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rodat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03c7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80591ec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0111ec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s of section .in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4808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589e55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800000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5b81c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b68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4809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3bb0c0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000074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5e8627f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bf789f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480a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8eb100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8b5dfc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9ec5dc3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s of section .tex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480b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1ed85d2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40752e8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403000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8e8fe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91b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b5dfc89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c5dc389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68dbc27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0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91c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589e589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c5dc390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s of section .fin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91d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589e55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800000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5b81c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b57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91e0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81beff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f8b5dfc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9ec5dc3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s of section .roda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91ec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8656c6c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f20576f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26c640a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0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ce4c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f2e2e2f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e2e2f2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e2f2e2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f2e2e2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05ce5c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e2e2f2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e2f2e2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2e002f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mory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71440" y="1676160"/>
            <a:ext cx="3352680" cy="464796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Text 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Data 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Cn BT"/>
              </a:rPr>
              <a:t>BSS 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666880"/>
            <a:ext cx="3352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71440" y="3962520"/>
            <a:ext cx="3352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029200"/>
            <a:ext cx="3352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mory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y stored in an ar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addresses are mapped into physical addr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2:30:39Z</dcterms:created>
  <dc:creator>Peter</dc:creator>
  <dc:description/>
  <dc:language>en-US</dc:language>
  <cp:lastModifiedBy>pmcc042</cp:lastModifiedBy>
  <dcterms:modified xsi:type="dcterms:W3CDTF">2000-10-15T23:56:34Z</dcterms:modified>
  <cp:revision>115</cp:revision>
  <dc:subject/>
  <dc:title>PowerPoint Presentation</dc:title>
</cp:coreProperties>
</file>