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6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21.bin" ContentType="application/vnd.openxmlformats-officedocument.oleObject"/>
  <Override PartName="/ppt/media/image1.png" ContentType="image/png"/>
  <Override PartName="/ppt/media/whoosh.wav" ContentType="audio/x-wav"/>
  <Override PartName="/ppt/media/laser.wav" ContentType="audio/x-wav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0132A-6D12-4687-927A-E39C903AF6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m’ is similar to a threshold function used in a Neural 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realization of Ball-Sort with a Cellular Automaton is a reversible process – the original permutation of the raw data can be traced back from the sorted da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 obeys LoC in the sense that it can’t endure ‘for long’ being in an unstable configuration I.e. when a rule is applicable to change the configuration (setting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1773-3FED-4D5C-BD6B-35E9429FD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19CC-0F0E-4DFD-BA37-A33B424C6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68EC-4FCE-4063-9B95-6509B4D8D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6ABA-B7A1-4506-8368-98147D940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D452-F1A8-4602-93DA-C4E544F01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14CC-D9C9-4073-8CA1-9BF44EE86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F646-4134-4AF2-9708-E1655B315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62C4-1711-4416-B507-FBEAA0B2F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AE22-47FE-4ED7-B8B8-EEE3CE502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A60D-65FA-49BC-B08C-A2E62FD10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753B-4D6A-42FA-9F91-0995CF34A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94CB-C0CA-497C-9C86-C8DC1FEAE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66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58868-ECC6-4BC1-AB2A-ACFFDC3E31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.png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.png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.png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.png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.png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.png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.png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.png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.png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.png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1.png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1.png"/><Relationship Id="rId4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.png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.png"/><Relationship Id="rId23" Type="http://schemas.openxmlformats.org/officeDocument/2006/relationships/audio" Target="../media/whoosh.wav"/><Relationship Id="rId24" Type="http://schemas.openxmlformats.org/officeDocument/2006/relationships/audio" Target="../media/whoosh.wav"/><Relationship Id="rId25" Type="http://schemas.openxmlformats.org/officeDocument/2006/relationships/audio" Target="../media/laser.wav"/><Relationship Id="rId26" Type="http://schemas.openxmlformats.org/officeDocument/2006/relationships/audio" Target="../media/laser.wav"/><Relationship Id="rId27" Type="http://schemas.openxmlformats.org/officeDocument/2006/relationships/audio" Target="../media/whoosh.wav"/><Relationship Id="rId28" Type="http://schemas.openxmlformats.org/officeDocument/2006/relationships/audio" Target="../media/whoosh.wav"/><Relationship Id="rId29" Type="http://schemas.openxmlformats.org/officeDocument/2006/relationships/audio" Target="../media/laser.wav"/><Relationship Id="rId30" Type="http://schemas.openxmlformats.org/officeDocument/2006/relationships/audio" Target="../media/laser.wav"/><Relationship Id="rId31" Type="http://schemas.openxmlformats.org/officeDocument/2006/relationships/audio" Target="../media/laser.wav"/><Relationship Id="rId32" Type="http://schemas.openxmlformats.org/officeDocument/2006/relationships/audio" Target="../media/laser.wav"/><Relationship Id="rId33" Type="http://schemas.openxmlformats.org/officeDocument/2006/relationships/audio" Target="../media/laser.wav"/><Relationship Id="rId34" Type="http://schemas.openxmlformats.org/officeDocument/2006/relationships/audio" Target="../media/laser.wav"/><Relationship Id="rId35" Type="http://schemas.openxmlformats.org/officeDocument/2006/relationships/audio" Target="../media/laser.wav"/><Relationship Id="rId36" Type="http://schemas.openxmlformats.org/officeDocument/2006/relationships/audio" Target="../media/laser.wav"/><Relationship Id="rId37" Type="http://schemas.openxmlformats.org/officeDocument/2006/relationships/audio" Target="../media/laser.wav"/><Relationship Id="rId3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.png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.png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.png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.png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.png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.png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.png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.png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.png"/><Relationship Id="rId3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.png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.png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.png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.png"/><Relationship Id="rId2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66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143000" y="2666880"/>
            <a:ext cx="716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cc99"/>
                </a:solidFill>
                <a:latin typeface="Arial Narrow"/>
              </a:rPr>
              <a:t>Bead-So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99"/>
                </a:solidFill>
                <a:latin typeface="Arial Narrow"/>
              </a:rPr>
              <a:t>- A natural algorithm for sor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66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/>
          <p:nvPr/>
        </p:nvSpPr>
        <p:spPr>
          <a:xfrm>
            <a:off x="76320" y="60480"/>
            <a:ext cx="79246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99"/>
                </a:solidFill>
                <a:latin typeface="Arial Narrow"/>
              </a:rPr>
              <a:t>Bead-Stack mach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 Narrow"/>
              </a:rPr>
              <a:t>Complexity of inputting, sorting and outputting a 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76320" y="1371600"/>
            <a:ext cx="82296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b2b2b2"/>
                </a:solidFill>
                <a:uFillTx/>
                <a:latin typeface="Times New Roman"/>
              </a:rPr>
              <a:t>Inputting a list:</a:t>
            </a: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b2b2b2"/>
                </a:solidFill>
                <a:latin typeface="Times New Roman"/>
              </a:rPr>
              <a:t>Using the gadget that loads a row-of-beads, we need </a:t>
            </a:r>
            <a:r>
              <a:rPr b="0" i="1" lang="en-US" sz="1800" spc="-1" strike="noStrike">
                <a:solidFill>
                  <a:srgbClr val="b2b2b2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b2b2b2"/>
                </a:solidFill>
                <a:latin typeface="Times New Roman"/>
              </a:rPr>
              <a:t> (loading) operations to input a list of size </a:t>
            </a:r>
            <a:r>
              <a:rPr b="0" i="1" lang="en-US" sz="1800" spc="-1" strike="noStrike">
                <a:solidFill>
                  <a:srgbClr val="b2b2b2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b2b2b2"/>
                </a:solidFill>
                <a:latin typeface="Times New Roman"/>
              </a:rPr>
              <a:t> (into the frame of the Bead-Stack machine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76320" y="2894040"/>
            <a:ext cx="822960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b2b2b2"/>
                </a:solidFill>
                <a:uFillTx/>
                <a:latin typeface="Times New Roman"/>
              </a:rPr>
              <a:t>Sorting a list:</a:t>
            </a:r>
            <a:r>
              <a:rPr b="0" lang="en-US" sz="20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b2b2b2"/>
                </a:solidFill>
                <a:latin typeface="Times New Roman"/>
              </a:rPr>
              <a:t>We tilt the frame 90</a:t>
            </a:r>
            <a:r>
              <a:rPr b="0" lang="en-US" sz="1800" spc="-1" strike="noStrike" baseline="30000">
                <a:solidFill>
                  <a:srgbClr val="b2b2b2"/>
                </a:solidFill>
                <a:latin typeface="Times New Roman"/>
              </a:rPr>
              <a:t>o</a:t>
            </a:r>
            <a:r>
              <a:rPr b="0" lang="en-US" sz="1800" spc="-1" strike="noStrike">
                <a:solidFill>
                  <a:srgbClr val="b2b2b2"/>
                </a:solidFill>
                <a:latin typeface="Times New Roman"/>
              </a:rPr>
              <a:t> (a single operation, from the Bead-Stack machine’s perspective). The time taken by the falling beads to settle down is </a:t>
            </a:r>
            <a:r>
              <a:rPr b="1" lang="en-US" sz="1800" spc="-1" strike="noStrike">
                <a:solidFill>
                  <a:srgbClr val="b2b2b2"/>
                </a:solidFill>
                <a:latin typeface="Times New Roman"/>
              </a:rPr>
              <a:t>sqrt</a:t>
            </a:r>
            <a:r>
              <a:rPr b="0" lang="en-US" sz="1800" spc="-1" strike="noStrike">
                <a:solidFill>
                  <a:srgbClr val="b2b2b2"/>
                </a:solidFill>
                <a:latin typeface="Times New Roman"/>
              </a:rPr>
              <a:t>(2</a:t>
            </a:r>
            <a:r>
              <a:rPr b="0" i="1" lang="en-US" sz="1800" spc="-1" strike="noStrike">
                <a:solidFill>
                  <a:srgbClr val="b2b2b2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b2b2b2"/>
                </a:solidFill>
                <a:latin typeface="Times New Roman"/>
              </a:rPr>
              <a:t>/</a:t>
            </a:r>
            <a:r>
              <a:rPr b="0" i="1" lang="en-US" sz="1800" spc="-1" strike="noStrike">
                <a:solidFill>
                  <a:srgbClr val="b2b2b2"/>
                </a:solidFill>
                <a:latin typeface="Times New Roman"/>
              </a:rPr>
              <a:t>g</a:t>
            </a:r>
            <a:r>
              <a:rPr b="0" lang="en-US" sz="1800" spc="-1" strike="noStrike">
                <a:solidFill>
                  <a:srgbClr val="b2b2b2"/>
                </a:solidFill>
                <a:latin typeface="Times New Roman"/>
              </a:rPr>
              <a:t>), where</a:t>
            </a:r>
            <a:r>
              <a:rPr b="0" i="1" lang="en-US" sz="1800" spc="-1" strike="noStrike">
                <a:solidFill>
                  <a:srgbClr val="b2b2b2"/>
                </a:solidFill>
                <a:latin typeface="Times New Roman"/>
              </a:rPr>
              <a:t> h</a:t>
            </a:r>
            <a:r>
              <a:rPr b="0" lang="en-US" sz="1800" spc="-1" strike="noStrike">
                <a:solidFill>
                  <a:srgbClr val="b2b2b2"/>
                </a:solidFill>
                <a:latin typeface="Times New Roman"/>
              </a:rPr>
              <a:t> is the height of the rods and </a:t>
            </a:r>
            <a:r>
              <a:rPr b="0" i="1" lang="en-US" sz="1800" spc="-1" strike="noStrike">
                <a:solidFill>
                  <a:srgbClr val="b2b2b2"/>
                </a:solidFill>
                <a:latin typeface="Times New Roman"/>
              </a:rPr>
              <a:t>g</a:t>
            </a:r>
            <a:r>
              <a:rPr b="0" lang="en-US" sz="1800" spc="-1" strike="noStrike">
                <a:solidFill>
                  <a:srgbClr val="b2b2b2"/>
                </a:solidFill>
                <a:latin typeface="Times New Roman"/>
              </a:rPr>
              <a:t>, the acceleration due to gravity. If we fix the height of rods to be the same as the size (</a:t>
            </a:r>
            <a:r>
              <a:rPr b="0" i="1" lang="en-US" sz="1800" spc="-1" strike="noStrike">
                <a:solidFill>
                  <a:srgbClr val="b2b2b2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b2b2b2"/>
                </a:solidFill>
                <a:latin typeface="Times New Roman"/>
              </a:rPr>
              <a:t>) of the list, then the time taken is given </a:t>
            </a:r>
            <a:r>
              <a:rPr b="1" lang="en-US" sz="1800" spc="-1" strike="noStrike">
                <a:solidFill>
                  <a:srgbClr val="b2b2b2"/>
                </a:solidFill>
                <a:latin typeface="Times New Roman"/>
              </a:rPr>
              <a:t>sqrt</a:t>
            </a:r>
            <a:r>
              <a:rPr b="0" lang="en-US" sz="1800" spc="-1" strike="noStrike">
                <a:solidFill>
                  <a:srgbClr val="b2b2b2"/>
                </a:solidFill>
                <a:latin typeface="Times New Roman"/>
              </a:rPr>
              <a:t>(2</a:t>
            </a:r>
            <a:r>
              <a:rPr b="0" i="1" lang="en-US" sz="1800" spc="-1" strike="noStrike">
                <a:solidFill>
                  <a:srgbClr val="b2b2b2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b2b2b2"/>
                </a:solidFill>
                <a:latin typeface="Times New Roman"/>
              </a:rPr>
              <a:t>/</a:t>
            </a:r>
            <a:r>
              <a:rPr b="0" i="1" lang="en-US" sz="1800" spc="-1" strike="noStrike">
                <a:solidFill>
                  <a:srgbClr val="b2b2b2"/>
                </a:solidFill>
                <a:latin typeface="Times New Roman"/>
              </a:rPr>
              <a:t>g</a:t>
            </a:r>
            <a:r>
              <a:rPr b="0" lang="en-US" sz="1800" spc="-1" strike="noStrike">
                <a:solidFill>
                  <a:srgbClr val="b2b2b2"/>
                </a:solidFill>
                <a:latin typeface="Times New Roman"/>
              </a:rPr>
              <a:t>), i.e. </a:t>
            </a:r>
            <a:r>
              <a:rPr b="0" lang="en-US" sz="2000" spc="-1" strike="noStrike">
                <a:solidFill>
                  <a:srgbClr val="b2b2b2"/>
                </a:solidFill>
                <a:latin typeface="Times New Roman"/>
              </a:rPr>
              <a:t>O</a:t>
            </a:r>
            <a:r>
              <a:rPr b="0" lang="en-US" sz="1800" spc="-1" strike="noStrike">
                <a:solidFill>
                  <a:srgbClr val="b2b2b2"/>
                </a:solidFill>
                <a:latin typeface="Times New Roman"/>
              </a:rPr>
              <a:t>(</a:t>
            </a:r>
            <a:r>
              <a:rPr b="1" lang="en-US" sz="1800" spc="-1" strike="noStrike">
                <a:solidFill>
                  <a:srgbClr val="b2b2b2"/>
                </a:solidFill>
                <a:latin typeface="Times New Roman"/>
              </a:rPr>
              <a:t>sqrt</a:t>
            </a:r>
            <a:r>
              <a:rPr b="0" lang="en-US" sz="1800" spc="-1" strike="noStrike">
                <a:solidFill>
                  <a:srgbClr val="b2b2b2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b2b2b2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b2b2b2"/>
                </a:solidFill>
                <a:latin typeface="Times New Roman"/>
              </a:rPr>
              <a:t>)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76320" y="5059440"/>
            <a:ext cx="82296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b2b2b2"/>
                </a:solidFill>
                <a:uFillTx/>
                <a:latin typeface="Times New Roman"/>
              </a:rPr>
              <a:t>Outputting a list:</a:t>
            </a: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b2b2b2"/>
                </a:solidFill>
                <a:latin typeface="Times New Roman"/>
              </a:rPr>
              <a:t>Nothing needs to be done to explicitly output rows of beads; the user could (literally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b2b2b2"/>
                </a:solidFill>
                <a:latin typeface="Times New Roman"/>
              </a:rPr>
              <a:t>read the output (row by row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9966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86000" y="1828800"/>
            <a:ext cx="0" cy="3048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752480" y="1828800"/>
            <a:ext cx="0" cy="3048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1828800"/>
            <a:ext cx="0" cy="3048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073240" y="4114800"/>
          <a:ext cx="44136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73240" y="4114800"/>
                    <a:ext cx="4413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1523880" y="3429000"/>
          <a:ext cx="44136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3429000"/>
                    <a:ext cx="4413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1523880" y="4114800"/>
          <a:ext cx="441360" cy="4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3880" y="4114800"/>
                    <a:ext cx="4413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990720" y="3429000"/>
          <a:ext cx="441360" cy="457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90720" y="3429000"/>
                    <a:ext cx="4413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990720" y="4114800"/>
          <a:ext cx="441360" cy="457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90720" y="4114800"/>
                    <a:ext cx="4413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2819520" y="1828800"/>
            <a:ext cx="0" cy="3048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057400" y="3429000"/>
          <a:ext cx="441360" cy="457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57400" y="3429000"/>
                    <a:ext cx="4413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1447920" y="213372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1828800"/>
            <a:ext cx="0" cy="3048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5880" y="1828800"/>
            <a:ext cx="0" cy="3048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562720" y="1828800"/>
            <a:ext cx="0" cy="3048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349960" y="4114800"/>
          <a:ext cx="441360" cy="457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349960" y="4114800"/>
                    <a:ext cx="4413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5867280" y="2743200"/>
          <a:ext cx="441360" cy="457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867280" y="2743200"/>
                    <a:ext cx="4413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867280" y="3429000"/>
          <a:ext cx="441360" cy="4572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867280" y="3429000"/>
                    <a:ext cx="4413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5334120" y="2743200"/>
          <a:ext cx="441360" cy="4572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334120" y="2743200"/>
                    <a:ext cx="4413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349960" y="3429000"/>
          <a:ext cx="441360" cy="4572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349960" y="3429000"/>
                    <a:ext cx="4413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7162920" y="1828800"/>
            <a:ext cx="0" cy="3048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5867280" y="1981080"/>
          <a:ext cx="441360" cy="4572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867280" y="1981080"/>
                    <a:ext cx="4413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5334120" y="1981080"/>
          <a:ext cx="441360" cy="4572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334120" y="1981080"/>
                    <a:ext cx="4413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2606760" y="3429000"/>
          <a:ext cx="441360" cy="4572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606760" y="3429000"/>
                    <a:ext cx="4413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2606760" y="4114800"/>
          <a:ext cx="441360" cy="4572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606760" y="4114800"/>
                    <a:ext cx="4413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5867280" y="4114800"/>
          <a:ext cx="441360" cy="4572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5867280" y="4114800"/>
                    <a:ext cx="4413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6432480" y="3429000"/>
          <a:ext cx="441360" cy="45720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6432480" y="3429000"/>
                    <a:ext cx="4413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2" name=""/>
          <p:cNvGrpSpPr/>
          <p:nvPr/>
        </p:nvGrpSpPr>
        <p:grpSpPr>
          <a:xfrm>
            <a:off x="6400800" y="1981080"/>
            <a:ext cx="990720" cy="1905120"/>
            <a:chOff x="6400800" y="1981080"/>
            <a:chExt cx="990720" cy="1905120"/>
          </a:xfrm>
        </p:grpSpPr>
        <p:graphicFrame>
          <p:nvGraphicFramePr>
            <p:cNvPr id="93" name=""/>
            <p:cNvGraphicFramePr/>
            <p:nvPr/>
          </p:nvGraphicFramePr>
          <p:xfrm>
            <a:off x="6950160" y="3429000"/>
            <a:ext cx="441360" cy="45720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94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950160" y="3429000"/>
                      <a:ext cx="44136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5" name=""/>
            <p:cNvGraphicFramePr/>
            <p:nvPr/>
          </p:nvGraphicFramePr>
          <p:xfrm>
            <a:off x="6400800" y="1981080"/>
            <a:ext cx="441360" cy="457200"/>
          </p:xfrm>
          <a:graphic>
            <a:graphicData uri="http://schemas.openxmlformats.org/presentationml/2006/ole">
              <p:oleObj r:id="rId37" spid="">
                <p:embed/>
                <p:pic>
                  <p:nvPicPr>
                    <p:cNvPr id="96" name="" descr=""/>
                    <p:cNvPicPr/>
                    <p:nvPr/>
                  </p:nvPicPr>
                  <p:blipFill>
                    <a:blip r:embed="rId38"/>
                    <a:stretch/>
                  </p:blipFill>
                  <p:spPr>
                    <a:xfrm>
                      <a:off x="6400800" y="1981080"/>
                      <a:ext cx="44136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97" name=""/>
          <p:cNvGrpSpPr/>
          <p:nvPr/>
        </p:nvGrpSpPr>
        <p:grpSpPr>
          <a:xfrm>
            <a:off x="6400800" y="4114800"/>
            <a:ext cx="974880" cy="457200"/>
            <a:chOff x="6400800" y="4114800"/>
            <a:chExt cx="974880" cy="457200"/>
          </a:xfrm>
        </p:grpSpPr>
        <p:graphicFrame>
          <p:nvGraphicFramePr>
            <p:cNvPr id="98" name=""/>
            <p:cNvGraphicFramePr/>
            <p:nvPr/>
          </p:nvGraphicFramePr>
          <p:xfrm>
            <a:off x="6400800" y="4114800"/>
            <a:ext cx="441360" cy="457200"/>
          </p:xfrm>
          <a:graphic>
            <a:graphicData uri="http://schemas.openxmlformats.org/presentationml/2006/ole">
              <p:oleObj r:id="rId39" spid="">
                <p:embed/>
                <p:pic>
                  <p:nvPicPr>
                    <p:cNvPr id="99" name="" descr=""/>
                    <p:cNvPicPr/>
                    <p:nvPr/>
                  </p:nvPicPr>
                  <p:blipFill>
                    <a:blip r:embed="rId40"/>
                    <a:stretch/>
                  </p:blipFill>
                  <p:spPr>
                    <a:xfrm>
                      <a:off x="6400800" y="4114800"/>
                      <a:ext cx="44136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0" name=""/>
            <p:cNvGraphicFramePr/>
            <p:nvPr/>
          </p:nvGraphicFramePr>
          <p:xfrm>
            <a:off x="6934320" y="4114800"/>
            <a:ext cx="441360" cy="457200"/>
          </p:xfrm>
          <a:graphic>
            <a:graphicData uri="http://schemas.openxmlformats.org/presentationml/2006/ole">
              <p:oleObj r:id="rId41" spid="">
                <p:embed/>
                <p:pic>
                  <p:nvPicPr>
                    <p:cNvPr id="101" name="" descr=""/>
                    <p:cNvPicPr/>
                    <p:nvPr/>
                  </p:nvPicPr>
                  <p:blipFill>
                    <a:blip r:embed="rId42"/>
                    <a:stretch/>
                  </p:blipFill>
                  <p:spPr>
                    <a:xfrm>
                      <a:off x="6934320" y="4114800"/>
                      <a:ext cx="44136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2" name=""/>
          <p:cNvSpPr/>
          <p:nvPr/>
        </p:nvSpPr>
        <p:spPr>
          <a:xfrm>
            <a:off x="76320" y="-50760"/>
            <a:ext cx="716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Arial Narrow"/>
              </a:rPr>
              <a:t>Beads sort themselves o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9966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181480" y="1676520"/>
            <a:ext cx="0" cy="3047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648320" y="1676520"/>
            <a:ext cx="0" cy="3047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14800" y="1676520"/>
            <a:ext cx="0" cy="3047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968720" y="3962520"/>
          <a:ext cx="44136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720" y="3962520"/>
                    <a:ext cx="4413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4419720" y="3276720"/>
          <a:ext cx="44136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3276720"/>
                    <a:ext cx="4413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4419720" y="3962520"/>
          <a:ext cx="441360" cy="4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19720" y="3962520"/>
                    <a:ext cx="4413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3902040" y="2514600"/>
          <a:ext cx="441360" cy="457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02040" y="2514600"/>
                    <a:ext cx="4413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3886200" y="3276720"/>
          <a:ext cx="441360" cy="457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6200" y="3276720"/>
                    <a:ext cx="4413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3886200" y="3962520"/>
          <a:ext cx="441360" cy="457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86200" y="3962520"/>
                    <a:ext cx="4413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152280" y="114300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00"/>
                </a:solidFill>
                <a:uFillTx/>
                <a:latin typeface="Comic Sans MS"/>
              </a:rPr>
              <a:t>Sorting {2, 4, 3, 2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51460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omic Sans MS"/>
              </a:rPr>
              <a:t>2. Drop 4 b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2280" y="30481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omic Sans MS"/>
              </a:rPr>
              <a:t>3. Drop 3 b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2280" y="182880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omic Sans MS"/>
              </a:rPr>
              <a:t>1. Drop 2 b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133720"/>
            <a:ext cx="342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Comic Sans MS"/>
              </a:rPr>
              <a:t>(Remember, always from left-to-righ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86200" y="1295280"/>
            <a:ext cx="68580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03240" y="914400"/>
            <a:ext cx="482760" cy="352440"/>
          </a:xfrm>
          <a:custGeom>
            <a:avLst/>
            <a:gdLst/>
            <a:ahLst/>
            <a:rect l="l" t="t" r="r" b="b"/>
            <a:pathLst>
              <a:path w="304" h="222">
                <a:moveTo>
                  <a:pt x="0" y="123"/>
                </a:moveTo>
                <a:cubicBezTo>
                  <a:pt x="15" y="168"/>
                  <a:pt x="17" y="206"/>
                  <a:pt x="66" y="222"/>
                </a:cubicBezTo>
                <a:cubicBezTo>
                  <a:pt x="86" y="191"/>
                  <a:pt x="100" y="160"/>
                  <a:pt x="123" y="131"/>
                </a:cubicBezTo>
                <a:cubicBezTo>
                  <a:pt x="140" y="110"/>
                  <a:pt x="143" y="117"/>
                  <a:pt x="165" y="99"/>
                </a:cubicBezTo>
                <a:cubicBezTo>
                  <a:pt x="197" y="73"/>
                  <a:pt x="225" y="35"/>
                  <a:pt x="263" y="16"/>
                </a:cubicBezTo>
                <a:cubicBezTo>
                  <a:pt x="276" y="9"/>
                  <a:pt x="291" y="7"/>
                  <a:pt x="304" y="0"/>
                </a:cubicBezTo>
              </a:path>
            </a:pathLst>
          </a:custGeom>
          <a:noFill/>
          <a:ln w="2844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60440" y="914400"/>
            <a:ext cx="482760" cy="352440"/>
          </a:xfrm>
          <a:custGeom>
            <a:avLst/>
            <a:gdLst/>
            <a:ahLst/>
            <a:rect l="l" t="t" r="r" b="b"/>
            <a:pathLst>
              <a:path w="304" h="222">
                <a:moveTo>
                  <a:pt x="0" y="123"/>
                </a:moveTo>
                <a:cubicBezTo>
                  <a:pt x="15" y="168"/>
                  <a:pt x="17" y="206"/>
                  <a:pt x="66" y="222"/>
                </a:cubicBezTo>
                <a:cubicBezTo>
                  <a:pt x="86" y="191"/>
                  <a:pt x="100" y="160"/>
                  <a:pt x="123" y="131"/>
                </a:cubicBezTo>
                <a:cubicBezTo>
                  <a:pt x="140" y="110"/>
                  <a:pt x="143" y="117"/>
                  <a:pt x="165" y="99"/>
                </a:cubicBezTo>
                <a:cubicBezTo>
                  <a:pt x="197" y="73"/>
                  <a:pt x="225" y="35"/>
                  <a:pt x="263" y="16"/>
                </a:cubicBezTo>
                <a:cubicBezTo>
                  <a:pt x="276" y="9"/>
                  <a:pt x="291" y="7"/>
                  <a:pt x="304" y="0"/>
                </a:cubicBezTo>
              </a:path>
            </a:pathLst>
          </a:custGeom>
          <a:noFill/>
          <a:ln w="2844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41680" y="914400"/>
            <a:ext cx="482400" cy="352440"/>
          </a:xfrm>
          <a:custGeom>
            <a:avLst/>
            <a:gdLst/>
            <a:ahLst/>
            <a:rect l="l" t="t" r="r" b="b"/>
            <a:pathLst>
              <a:path w="304" h="222">
                <a:moveTo>
                  <a:pt x="0" y="123"/>
                </a:moveTo>
                <a:cubicBezTo>
                  <a:pt x="15" y="168"/>
                  <a:pt x="17" y="206"/>
                  <a:pt x="66" y="222"/>
                </a:cubicBezTo>
                <a:cubicBezTo>
                  <a:pt x="86" y="191"/>
                  <a:pt x="100" y="160"/>
                  <a:pt x="123" y="131"/>
                </a:cubicBezTo>
                <a:cubicBezTo>
                  <a:pt x="140" y="110"/>
                  <a:pt x="143" y="117"/>
                  <a:pt x="165" y="99"/>
                </a:cubicBezTo>
                <a:cubicBezTo>
                  <a:pt x="197" y="73"/>
                  <a:pt x="225" y="35"/>
                  <a:pt x="263" y="16"/>
                </a:cubicBezTo>
                <a:cubicBezTo>
                  <a:pt x="276" y="9"/>
                  <a:pt x="291" y="7"/>
                  <a:pt x="304" y="0"/>
                </a:cubicBezTo>
              </a:path>
            </a:pathLst>
          </a:custGeom>
          <a:noFill/>
          <a:ln w="2844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22560" y="914400"/>
            <a:ext cx="482760" cy="352440"/>
          </a:xfrm>
          <a:custGeom>
            <a:avLst/>
            <a:gdLst/>
            <a:ahLst/>
            <a:rect l="l" t="t" r="r" b="b"/>
            <a:pathLst>
              <a:path w="304" h="222">
                <a:moveTo>
                  <a:pt x="0" y="123"/>
                </a:moveTo>
                <a:cubicBezTo>
                  <a:pt x="15" y="168"/>
                  <a:pt x="17" y="206"/>
                  <a:pt x="66" y="222"/>
                </a:cubicBezTo>
                <a:cubicBezTo>
                  <a:pt x="86" y="191"/>
                  <a:pt x="100" y="160"/>
                  <a:pt x="123" y="131"/>
                </a:cubicBezTo>
                <a:cubicBezTo>
                  <a:pt x="140" y="110"/>
                  <a:pt x="143" y="117"/>
                  <a:pt x="165" y="99"/>
                </a:cubicBezTo>
                <a:cubicBezTo>
                  <a:pt x="197" y="73"/>
                  <a:pt x="225" y="35"/>
                  <a:pt x="263" y="16"/>
                </a:cubicBezTo>
                <a:cubicBezTo>
                  <a:pt x="276" y="9"/>
                  <a:pt x="291" y="7"/>
                  <a:pt x="304" y="0"/>
                </a:cubicBezTo>
              </a:path>
            </a:pathLst>
          </a:custGeom>
          <a:noFill/>
          <a:ln w="2844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1676520"/>
            <a:ext cx="0" cy="3047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502240" y="3962520"/>
          <a:ext cx="441360" cy="457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502240" y="3962520"/>
                    <a:ext cx="4413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4952880" y="3276720"/>
          <a:ext cx="441360" cy="457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952880" y="3276720"/>
                    <a:ext cx="4413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4435560" y="2514600"/>
          <a:ext cx="441360" cy="4572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435560" y="2514600"/>
                    <a:ext cx="4413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3886200" y="1828800"/>
          <a:ext cx="441360" cy="4572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886200" y="1828800"/>
                    <a:ext cx="4413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152280" y="356544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omic Sans MS"/>
              </a:rPr>
              <a:t>4. Drop 2 b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419720" y="1828800"/>
          <a:ext cx="441360" cy="4572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419720" y="1828800"/>
                    <a:ext cx="4413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0" name=""/>
          <p:cNvGrpSpPr/>
          <p:nvPr/>
        </p:nvGrpSpPr>
        <p:grpSpPr>
          <a:xfrm>
            <a:off x="3962520" y="1295280"/>
            <a:ext cx="1981080" cy="2669400"/>
            <a:chOff x="3962520" y="1295280"/>
            <a:chExt cx="1981080" cy="2669400"/>
          </a:xfrm>
        </p:grpSpPr>
        <p:sp>
          <p:nvSpPr>
            <p:cNvPr id="141" name=""/>
            <p:cNvSpPr/>
            <p:nvPr/>
          </p:nvSpPr>
          <p:spPr>
            <a:xfrm rot="16200000">
              <a:off x="4876920" y="2895120"/>
              <a:ext cx="152280" cy="198108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1480 h 1981080"/>
                <a:gd name="textAreaBottom" fmla="*/ 1929600 h 19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24280" y="350496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16200000">
              <a:off x="4419720" y="1980720"/>
              <a:ext cx="75960" cy="99036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25560 h 990360"/>
                <a:gd name="textAreaBottom" fmla="*/ 96480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8930"/>
                  </a:lnTo>
                  <a:cubicBezTo>
                    <a:pt x="10800" y="9830"/>
                    <a:pt x="16200" y="10730"/>
                    <a:pt x="21600" y="10730"/>
                  </a:cubicBezTo>
                  <a:cubicBezTo>
                    <a:pt x="16200" y="10730"/>
                    <a:pt x="10800" y="11630"/>
                    <a:pt x="10800" y="1253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16200000">
              <a:off x="4686480" y="2399760"/>
              <a:ext cx="152280" cy="16002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41400 h 1600200"/>
                <a:gd name="textAreaBottom" fmla="*/ 15588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191120" y="12952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191120" y="20570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16200000">
              <a:off x="4419360" y="1218960"/>
              <a:ext cx="76320" cy="99036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25560 h 990360"/>
                <a:gd name="textAreaBottom" fmla="*/ 96480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8930"/>
                  </a:lnTo>
                  <a:cubicBezTo>
                    <a:pt x="10800" y="9830"/>
                    <a:pt x="16200" y="10730"/>
                    <a:pt x="21600" y="10730"/>
                  </a:cubicBezTo>
                  <a:cubicBezTo>
                    <a:pt x="16200" y="10730"/>
                    <a:pt x="10800" y="11630"/>
                    <a:pt x="10800" y="1253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724280" y="281916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76320" y="-50760"/>
            <a:ext cx="541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Arial Narrow"/>
              </a:rPr>
              <a:t>Bead-Sort: illust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66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76320" y="-123840"/>
            <a:ext cx="914400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99"/>
                </a:solidFill>
                <a:latin typeface="Arial Narrow"/>
              </a:rPr>
              <a:t>Parallel implementation of Bead-So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 Narrow"/>
              </a:rPr>
              <a:t>Using a digital circu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257800" y="10666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981080" y="898560"/>
            <a:ext cx="4572000" cy="2456640"/>
            <a:chOff x="1981080" y="898560"/>
            <a:chExt cx="4572000" cy="2456640"/>
          </a:xfrm>
        </p:grpSpPr>
        <p:grpSp>
          <p:nvGrpSpPr>
            <p:cNvPr id="153" name=""/>
            <p:cNvGrpSpPr/>
            <p:nvPr/>
          </p:nvGrpSpPr>
          <p:grpSpPr>
            <a:xfrm>
              <a:off x="3962520" y="1066680"/>
              <a:ext cx="1218960" cy="685800"/>
              <a:chOff x="3962520" y="1066680"/>
              <a:chExt cx="1218960" cy="685800"/>
            </a:xfrm>
          </p:grpSpPr>
          <p:sp>
            <p:nvSpPr>
              <p:cNvPr id="154" name=""/>
              <p:cNvSpPr/>
              <p:nvPr/>
            </p:nvSpPr>
            <p:spPr>
              <a:xfrm flipH="1">
                <a:off x="3962520" y="1066680"/>
                <a:ext cx="1218960" cy="304920"/>
              </a:xfrm>
              <a:prstGeom prst="line">
                <a:avLst/>
              </a:prstGeom>
              <a:ln w="9360">
                <a:solidFill>
                  <a:srgbClr val="cc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>
                <a:off x="3962520" y="1143000"/>
                <a:ext cx="1142640" cy="609480"/>
              </a:xfrm>
              <a:prstGeom prst="line">
                <a:avLst/>
              </a:prstGeom>
              <a:ln w="9360">
                <a:solidFill>
                  <a:srgbClr val="cc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6" name=""/>
            <p:cNvSpPr/>
            <p:nvPr/>
          </p:nvSpPr>
          <p:spPr>
            <a:xfrm>
              <a:off x="5105520" y="898560"/>
              <a:ext cx="121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flip-flop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38480" y="2362320"/>
              <a:ext cx="236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presence of bead -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038480" y="1981080"/>
              <a:ext cx="251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bsence of bead -  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1981080" y="1219320"/>
              <a:ext cx="380880" cy="2116800"/>
              <a:chOff x="1981080" y="1219320"/>
              <a:chExt cx="380880" cy="2116800"/>
            </a:xfrm>
          </p:grpSpPr>
          <p:sp>
            <p:nvSpPr>
              <p:cNvPr id="160" name=""/>
              <p:cNvSpPr/>
              <p:nvPr/>
            </p:nvSpPr>
            <p:spPr>
              <a:xfrm>
                <a:off x="1981080" y="2895480"/>
                <a:ext cx="380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981080" y="2514600"/>
                <a:ext cx="380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981080" y="1219320"/>
                <a:ext cx="380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r>
                  <a:rPr b="0" i="1" lang="en-US" sz="2000" spc="-1" strike="noStrike" baseline="-25000">
                    <a:solidFill>
                      <a:srgbClr val="ffffff"/>
                    </a:solidFill>
                    <a:latin typeface="Times New Roman"/>
                  </a:rPr>
                  <a:t>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62320" y="1219320"/>
              <a:ext cx="1600200" cy="2135880"/>
              <a:chOff x="2362320" y="1219320"/>
              <a:chExt cx="1600200" cy="2135880"/>
            </a:xfrm>
          </p:grpSpPr>
          <p:grpSp>
            <p:nvGrpSpPr>
              <p:cNvPr id="164" name=""/>
              <p:cNvGrpSpPr/>
              <p:nvPr/>
            </p:nvGrpSpPr>
            <p:grpSpPr>
              <a:xfrm>
                <a:off x="2362320" y="2133720"/>
                <a:ext cx="1143000" cy="1218960"/>
                <a:chOff x="2362320" y="2133720"/>
                <a:chExt cx="1143000" cy="121896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2362320" y="2971800"/>
                  <a:ext cx="381240" cy="38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2743560" y="2971800"/>
                  <a:ext cx="380880" cy="38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3124440" y="2971800"/>
                  <a:ext cx="380880" cy="38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2362320" y="2590920"/>
                  <a:ext cx="381240" cy="38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2743560" y="2590920"/>
                  <a:ext cx="380880" cy="38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2362320" y="2133720"/>
                  <a:ext cx="381240" cy="38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2743560" y="2133720"/>
                  <a:ext cx="380880" cy="38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3124440" y="2133720"/>
                  <a:ext cx="380880" cy="38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2362320" y="1295280"/>
                <a:ext cx="1524240" cy="2057400"/>
                <a:chOff x="2362320" y="1295280"/>
                <a:chExt cx="1524240" cy="2057400"/>
              </a:xfrm>
            </p:grpSpPr>
            <p:grpSp>
              <p:nvGrpSpPr>
                <p:cNvPr id="174" name=""/>
                <p:cNvGrpSpPr/>
                <p:nvPr/>
              </p:nvGrpSpPr>
              <p:grpSpPr>
                <a:xfrm>
                  <a:off x="3503880" y="1297080"/>
                  <a:ext cx="382680" cy="2055600"/>
                  <a:chOff x="3503880" y="1297080"/>
                  <a:chExt cx="382680" cy="2055600"/>
                </a:xfrm>
              </p:grpSpPr>
              <p:sp>
                <p:nvSpPr>
                  <p:cNvPr id="175" name=""/>
                  <p:cNvSpPr/>
                  <p:nvPr/>
                </p:nvSpPr>
                <p:spPr>
                  <a:xfrm>
                    <a:off x="3503880" y="1338120"/>
                    <a:ext cx="0" cy="1981440"/>
                  </a:xfrm>
                  <a:prstGeom prst="line">
                    <a:avLst/>
                  </a:prstGeom>
                  <a:ln w="57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>
                    <a:off x="3503880" y="1724040"/>
                    <a:ext cx="1440" cy="1627200"/>
                  </a:xfrm>
                  <a:prstGeom prst="line">
                    <a:avLst/>
                  </a:prstGeom>
                  <a:ln w="57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3884760" y="1297080"/>
                    <a:ext cx="1800" cy="2054160"/>
                  </a:xfrm>
                  <a:prstGeom prst="line">
                    <a:avLst/>
                  </a:prstGeom>
                  <a:ln w="57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>
                    <a:off x="3503880" y="1297080"/>
                    <a:ext cx="1440" cy="2054160"/>
                  </a:xfrm>
                  <a:prstGeom prst="line">
                    <a:avLst/>
                  </a:prstGeom>
                  <a:ln w="57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3503880" y="1297080"/>
                    <a:ext cx="380880" cy="1440"/>
                  </a:xfrm>
                  <a:prstGeom prst="line">
                    <a:avLst/>
                  </a:prstGeom>
                  <a:ln w="57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3503880" y="2087640"/>
                    <a:ext cx="380880" cy="1440"/>
                  </a:xfrm>
                  <a:prstGeom prst="line">
                    <a:avLst/>
                  </a:prstGeom>
                  <a:ln w="284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3503880" y="2513160"/>
                    <a:ext cx="380880" cy="1440"/>
                  </a:xfrm>
                  <a:prstGeom prst="line">
                    <a:avLst/>
                  </a:prstGeom>
                  <a:ln w="284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3503880" y="2955960"/>
                    <a:ext cx="380880" cy="1440"/>
                  </a:xfrm>
                  <a:prstGeom prst="line">
                    <a:avLst/>
                  </a:prstGeom>
                  <a:ln w="284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3503880" y="3351240"/>
                    <a:ext cx="380880" cy="1440"/>
                  </a:xfrm>
                  <a:prstGeom prst="line">
                    <a:avLst/>
                  </a:prstGeom>
                  <a:ln w="57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3503880" y="1692360"/>
                    <a:ext cx="380880" cy="1440"/>
                  </a:xfrm>
                  <a:prstGeom prst="line">
                    <a:avLst/>
                  </a:prstGeom>
                  <a:ln w="284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3124440" y="1295280"/>
                  <a:ext cx="382680" cy="2055600"/>
                  <a:chOff x="3124440" y="1295280"/>
                  <a:chExt cx="382680" cy="2055600"/>
                </a:xfrm>
              </p:grpSpPr>
              <p:sp>
                <p:nvSpPr>
                  <p:cNvPr id="186" name=""/>
                  <p:cNvSpPr/>
                  <p:nvPr/>
                </p:nvSpPr>
                <p:spPr>
                  <a:xfrm>
                    <a:off x="3124440" y="1336320"/>
                    <a:ext cx="0" cy="1981440"/>
                  </a:xfrm>
                  <a:prstGeom prst="line">
                    <a:avLst/>
                  </a:prstGeom>
                  <a:ln w="57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3124440" y="1722240"/>
                    <a:ext cx="1440" cy="1627200"/>
                  </a:xfrm>
                  <a:prstGeom prst="line">
                    <a:avLst/>
                  </a:prstGeom>
                  <a:ln w="57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3505320" y="1295280"/>
                    <a:ext cx="1800" cy="2054160"/>
                  </a:xfrm>
                  <a:prstGeom prst="line">
                    <a:avLst/>
                  </a:prstGeom>
                  <a:ln w="57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3124440" y="1295280"/>
                    <a:ext cx="1440" cy="2054160"/>
                  </a:xfrm>
                  <a:prstGeom prst="line">
                    <a:avLst/>
                  </a:prstGeom>
                  <a:ln w="57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3124440" y="1295280"/>
                    <a:ext cx="380880" cy="1440"/>
                  </a:xfrm>
                  <a:prstGeom prst="line">
                    <a:avLst/>
                  </a:prstGeom>
                  <a:ln w="57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3124440" y="2085840"/>
                    <a:ext cx="380880" cy="1440"/>
                  </a:xfrm>
                  <a:prstGeom prst="line">
                    <a:avLst/>
                  </a:prstGeom>
                  <a:ln w="284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3124440" y="2511360"/>
                    <a:ext cx="380880" cy="1440"/>
                  </a:xfrm>
                  <a:prstGeom prst="line">
                    <a:avLst/>
                  </a:prstGeom>
                  <a:ln w="284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3124440" y="2954160"/>
                    <a:ext cx="380880" cy="1440"/>
                  </a:xfrm>
                  <a:prstGeom prst="line">
                    <a:avLst/>
                  </a:prstGeom>
                  <a:ln w="284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3124440" y="3349440"/>
                    <a:ext cx="380880" cy="1440"/>
                  </a:xfrm>
                  <a:prstGeom prst="line">
                    <a:avLst/>
                  </a:prstGeom>
                  <a:ln w="57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3124440" y="1690560"/>
                    <a:ext cx="380880" cy="1440"/>
                  </a:xfrm>
                  <a:prstGeom prst="line">
                    <a:avLst/>
                  </a:prstGeom>
                  <a:ln w="284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6" name=""/>
                <p:cNvGrpSpPr/>
                <p:nvPr/>
              </p:nvGrpSpPr>
              <p:grpSpPr>
                <a:xfrm>
                  <a:off x="2741760" y="1297080"/>
                  <a:ext cx="382680" cy="2055600"/>
                  <a:chOff x="2741760" y="1297080"/>
                  <a:chExt cx="382680" cy="2055600"/>
                </a:xfrm>
              </p:grpSpPr>
              <p:sp>
                <p:nvSpPr>
                  <p:cNvPr id="197" name=""/>
                  <p:cNvSpPr/>
                  <p:nvPr/>
                </p:nvSpPr>
                <p:spPr>
                  <a:xfrm>
                    <a:off x="2741760" y="1338120"/>
                    <a:ext cx="0" cy="1981440"/>
                  </a:xfrm>
                  <a:prstGeom prst="line">
                    <a:avLst/>
                  </a:prstGeom>
                  <a:ln w="57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2741760" y="1724040"/>
                    <a:ext cx="1440" cy="1627200"/>
                  </a:xfrm>
                  <a:prstGeom prst="line">
                    <a:avLst/>
                  </a:prstGeom>
                  <a:ln w="57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3122640" y="1297080"/>
                    <a:ext cx="1800" cy="2054160"/>
                  </a:xfrm>
                  <a:prstGeom prst="line">
                    <a:avLst/>
                  </a:prstGeom>
                  <a:ln w="57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2741760" y="1297080"/>
                    <a:ext cx="1440" cy="2054160"/>
                  </a:xfrm>
                  <a:prstGeom prst="line">
                    <a:avLst/>
                  </a:prstGeom>
                  <a:ln w="57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2741760" y="1297080"/>
                    <a:ext cx="380880" cy="1440"/>
                  </a:xfrm>
                  <a:prstGeom prst="line">
                    <a:avLst/>
                  </a:prstGeom>
                  <a:ln w="57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2741760" y="2087640"/>
                    <a:ext cx="380880" cy="1440"/>
                  </a:xfrm>
                  <a:prstGeom prst="line">
                    <a:avLst/>
                  </a:prstGeom>
                  <a:ln w="284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2741760" y="2513160"/>
                    <a:ext cx="380880" cy="1440"/>
                  </a:xfrm>
                  <a:prstGeom prst="line">
                    <a:avLst/>
                  </a:prstGeom>
                  <a:ln w="284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2741760" y="2955960"/>
                    <a:ext cx="380880" cy="1440"/>
                  </a:xfrm>
                  <a:prstGeom prst="line">
                    <a:avLst/>
                  </a:prstGeom>
                  <a:ln w="284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2741760" y="3351240"/>
                    <a:ext cx="380880" cy="1440"/>
                  </a:xfrm>
                  <a:prstGeom prst="line">
                    <a:avLst/>
                  </a:prstGeom>
                  <a:ln w="57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2741760" y="1692360"/>
                    <a:ext cx="380880" cy="1440"/>
                  </a:xfrm>
                  <a:prstGeom prst="line">
                    <a:avLst/>
                  </a:prstGeom>
                  <a:ln w="284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7" name=""/>
                <p:cNvGrpSpPr/>
                <p:nvPr/>
              </p:nvGrpSpPr>
              <p:grpSpPr>
                <a:xfrm>
                  <a:off x="2362320" y="1295280"/>
                  <a:ext cx="382680" cy="2055600"/>
                  <a:chOff x="2362320" y="1295280"/>
                  <a:chExt cx="382680" cy="2055600"/>
                </a:xfrm>
              </p:grpSpPr>
              <p:sp>
                <p:nvSpPr>
                  <p:cNvPr id="208" name=""/>
                  <p:cNvSpPr/>
                  <p:nvPr/>
                </p:nvSpPr>
                <p:spPr>
                  <a:xfrm>
                    <a:off x="2362320" y="1336320"/>
                    <a:ext cx="0" cy="1981440"/>
                  </a:xfrm>
                  <a:prstGeom prst="line">
                    <a:avLst/>
                  </a:prstGeom>
                  <a:ln w="57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2362320" y="1722240"/>
                    <a:ext cx="1440" cy="1627200"/>
                  </a:xfrm>
                  <a:prstGeom prst="line">
                    <a:avLst/>
                  </a:prstGeom>
                  <a:ln w="57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2743200" y="1295280"/>
                    <a:ext cx="1800" cy="2054160"/>
                  </a:xfrm>
                  <a:prstGeom prst="line">
                    <a:avLst/>
                  </a:prstGeom>
                  <a:ln w="57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2362320" y="1295280"/>
                    <a:ext cx="1440" cy="2054160"/>
                  </a:xfrm>
                  <a:prstGeom prst="line">
                    <a:avLst/>
                  </a:prstGeom>
                  <a:ln w="57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2362320" y="1295280"/>
                    <a:ext cx="380880" cy="1440"/>
                  </a:xfrm>
                  <a:prstGeom prst="line">
                    <a:avLst/>
                  </a:prstGeom>
                  <a:ln w="57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2362320" y="2085840"/>
                    <a:ext cx="380880" cy="1440"/>
                  </a:xfrm>
                  <a:prstGeom prst="line">
                    <a:avLst/>
                  </a:prstGeom>
                  <a:ln w="284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2362320" y="2511360"/>
                    <a:ext cx="380880" cy="1440"/>
                  </a:xfrm>
                  <a:prstGeom prst="line">
                    <a:avLst/>
                  </a:prstGeom>
                  <a:ln w="284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2362320" y="2954160"/>
                    <a:ext cx="380880" cy="1440"/>
                  </a:xfrm>
                  <a:prstGeom prst="line">
                    <a:avLst/>
                  </a:prstGeom>
                  <a:ln w="284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2362320" y="3349440"/>
                    <a:ext cx="380880" cy="1440"/>
                  </a:xfrm>
                  <a:prstGeom prst="line">
                    <a:avLst/>
                  </a:prstGeom>
                  <a:ln w="57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2362320" y="1690560"/>
                    <a:ext cx="380880" cy="1440"/>
                  </a:xfrm>
                  <a:prstGeom prst="line">
                    <a:avLst/>
                  </a:prstGeom>
                  <a:ln w="284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8" name=""/>
              <p:cNvGrpSpPr/>
              <p:nvPr/>
            </p:nvGrpSpPr>
            <p:grpSpPr>
              <a:xfrm>
                <a:off x="2362320" y="1219320"/>
                <a:ext cx="1600200" cy="2135880"/>
                <a:chOff x="2362320" y="1219320"/>
                <a:chExt cx="1600200" cy="213588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2362320" y="1219320"/>
                  <a:ext cx="381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808080"/>
                      </a:solidFill>
                      <a:latin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2362320" y="1676520"/>
                  <a:ext cx="381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808080"/>
                      </a:solidFill>
                      <a:latin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2819520" y="1219320"/>
                  <a:ext cx="381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808080"/>
                      </a:solidFill>
                      <a:latin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2819520" y="1676520"/>
                  <a:ext cx="381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808080"/>
                      </a:solidFill>
                      <a:latin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3200760" y="1676520"/>
                  <a:ext cx="380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808080"/>
                      </a:solidFill>
                      <a:latin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3200760" y="2514600"/>
                  <a:ext cx="380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808080"/>
                      </a:solidFill>
                      <a:latin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3581640" y="1676520"/>
                  <a:ext cx="380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808080"/>
                      </a:solidFill>
                      <a:latin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3581640" y="1219320"/>
                  <a:ext cx="380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808080"/>
                      </a:solidFill>
                      <a:latin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581640" y="2057400"/>
                  <a:ext cx="380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808080"/>
                      </a:solidFill>
                      <a:latin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200760" y="1219320"/>
                  <a:ext cx="380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808080"/>
                      </a:solidFill>
                      <a:latin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3581640" y="2514600"/>
                  <a:ext cx="380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808080"/>
                      </a:solidFill>
                      <a:latin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3581640" y="2895480"/>
                  <a:ext cx="380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808080"/>
                      </a:solidFill>
                      <a:latin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31" name=""/>
          <p:cNvGrpSpPr/>
          <p:nvPr/>
        </p:nvGrpSpPr>
        <p:grpSpPr>
          <a:xfrm>
            <a:off x="304920" y="3809880"/>
            <a:ext cx="3657600" cy="2593080"/>
            <a:chOff x="304920" y="3809880"/>
            <a:chExt cx="3657600" cy="2593080"/>
          </a:xfrm>
        </p:grpSpPr>
        <p:grpSp>
          <p:nvGrpSpPr>
            <p:cNvPr id="232" name=""/>
            <p:cNvGrpSpPr/>
            <p:nvPr/>
          </p:nvGrpSpPr>
          <p:grpSpPr>
            <a:xfrm>
              <a:off x="2360160" y="3833640"/>
              <a:ext cx="1602360" cy="385920"/>
              <a:chOff x="2360160" y="3833640"/>
              <a:chExt cx="1602360" cy="385920"/>
            </a:xfrm>
          </p:grpSpPr>
          <p:sp>
            <p:nvSpPr>
              <p:cNvPr id="233" name=""/>
              <p:cNvSpPr/>
              <p:nvPr/>
            </p:nvSpPr>
            <p:spPr>
              <a:xfrm flipH="1">
                <a:off x="2361600" y="4216680"/>
                <a:ext cx="1568520" cy="28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961800" y="3833640"/>
                <a:ext cx="720" cy="3812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504600" y="3835440"/>
                <a:ext cx="720" cy="38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123720" y="3835440"/>
                <a:ext cx="720" cy="38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741040" y="3836880"/>
                <a:ext cx="720" cy="38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360160" y="3836880"/>
                <a:ext cx="720" cy="3812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>
                <a:off x="2360520" y="3835440"/>
                <a:ext cx="1568160" cy="28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304920" y="3809880"/>
              <a:ext cx="3657600" cy="2593080"/>
              <a:chOff x="304920" y="3809880"/>
              <a:chExt cx="3657600" cy="259308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1981080" y="4267080"/>
                <a:ext cx="380880" cy="2116800"/>
                <a:chOff x="1981080" y="4267080"/>
                <a:chExt cx="380880" cy="211680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1981080" y="5943240"/>
                  <a:ext cx="38088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c</a:t>
                  </a:r>
                  <a:r>
                    <a:rPr b="0" lang="en-US" sz="2000" spc="-1" strike="noStrike" baseline="-25000">
                      <a:solidFill>
                        <a:srgbClr val="ffffff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1981080" y="5562360"/>
                  <a:ext cx="38088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c</a:t>
                  </a:r>
                  <a:r>
                    <a:rPr b="0" lang="en-US" sz="2000" spc="-1" strike="noStrike" baseline="-25000">
                      <a:solidFill>
                        <a:srgbClr val="ffffff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981080" y="4267080"/>
                  <a:ext cx="38088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c</a:t>
                  </a:r>
                  <a:r>
                    <a:rPr b="0" i="1" lang="en-US" sz="2000" spc="-1" strike="noStrike" baseline="-25000">
                      <a:solidFill>
                        <a:srgbClr val="ffffff"/>
                      </a:solidFill>
                      <a:latin typeface="Times New Roman"/>
                    </a:rPr>
                    <a:t>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2362320" y="5181480"/>
                <a:ext cx="1143000" cy="1219320"/>
                <a:chOff x="2362320" y="5181480"/>
                <a:chExt cx="1143000" cy="121932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2362320" y="6019920"/>
                  <a:ext cx="380880" cy="38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2743200" y="6019920"/>
                  <a:ext cx="380880" cy="38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124080" y="6019920"/>
                  <a:ext cx="381240" cy="38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2362320" y="563868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2743200" y="563868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2362320" y="518148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2743200" y="518148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3124080" y="5638680"/>
                  <a:ext cx="38124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2362320" y="4343400"/>
                <a:ext cx="1523160" cy="2057400"/>
                <a:chOff x="2362320" y="4343400"/>
                <a:chExt cx="1523160" cy="2057400"/>
              </a:xfrm>
            </p:grpSpPr>
            <p:grpSp>
              <p:nvGrpSpPr>
                <p:cNvPr id="255" name=""/>
                <p:cNvGrpSpPr/>
                <p:nvPr/>
              </p:nvGrpSpPr>
              <p:grpSpPr>
                <a:xfrm>
                  <a:off x="3503520" y="4345200"/>
                  <a:ext cx="381960" cy="2055600"/>
                  <a:chOff x="3503520" y="4345200"/>
                  <a:chExt cx="381960" cy="2055600"/>
                </a:xfrm>
              </p:grpSpPr>
              <p:sp>
                <p:nvSpPr>
                  <p:cNvPr id="256" name=""/>
                  <p:cNvSpPr/>
                  <p:nvPr/>
                </p:nvSpPr>
                <p:spPr>
                  <a:xfrm>
                    <a:off x="3503520" y="4386240"/>
                    <a:ext cx="0" cy="1981440"/>
                  </a:xfrm>
                  <a:prstGeom prst="line">
                    <a:avLst/>
                  </a:prstGeom>
                  <a:ln w="57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3503520" y="4772160"/>
                    <a:ext cx="1080" cy="1627200"/>
                  </a:xfrm>
                  <a:prstGeom prst="line">
                    <a:avLst/>
                  </a:prstGeom>
                  <a:ln w="57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3884040" y="4345200"/>
                    <a:ext cx="1440" cy="2054160"/>
                  </a:xfrm>
                  <a:prstGeom prst="line">
                    <a:avLst/>
                  </a:prstGeom>
                  <a:ln w="57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3503520" y="4345200"/>
                    <a:ext cx="1080" cy="2054160"/>
                  </a:xfrm>
                  <a:prstGeom prst="line">
                    <a:avLst/>
                  </a:prstGeom>
                  <a:ln w="57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3503520" y="4345200"/>
                    <a:ext cx="380520" cy="1440"/>
                  </a:xfrm>
                  <a:prstGeom prst="line">
                    <a:avLst/>
                  </a:prstGeom>
                  <a:ln w="57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3503520" y="5135760"/>
                    <a:ext cx="380520" cy="1440"/>
                  </a:xfrm>
                  <a:prstGeom prst="line">
                    <a:avLst/>
                  </a:prstGeom>
                  <a:ln w="284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503520" y="5561280"/>
                    <a:ext cx="380520" cy="1440"/>
                  </a:xfrm>
                  <a:prstGeom prst="line">
                    <a:avLst/>
                  </a:prstGeom>
                  <a:ln w="284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3503520" y="6004080"/>
                    <a:ext cx="380520" cy="1440"/>
                  </a:xfrm>
                  <a:prstGeom prst="line">
                    <a:avLst/>
                  </a:prstGeom>
                  <a:ln w="284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3503520" y="6399360"/>
                    <a:ext cx="380520" cy="1440"/>
                  </a:xfrm>
                  <a:prstGeom prst="line">
                    <a:avLst/>
                  </a:prstGeom>
                  <a:ln w="57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3503520" y="4740480"/>
                    <a:ext cx="380520" cy="1440"/>
                  </a:xfrm>
                  <a:prstGeom prst="line">
                    <a:avLst/>
                  </a:prstGeom>
                  <a:ln w="284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6" name=""/>
                <p:cNvGrpSpPr/>
                <p:nvPr/>
              </p:nvGrpSpPr>
              <p:grpSpPr>
                <a:xfrm>
                  <a:off x="3124080" y="4343400"/>
                  <a:ext cx="381960" cy="2055600"/>
                  <a:chOff x="3124080" y="4343400"/>
                  <a:chExt cx="381960" cy="205560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>
                    <a:off x="3124080" y="4384440"/>
                    <a:ext cx="0" cy="1981440"/>
                  </a:xfrm>
                  <a:prstGeom prst="line">
                    <a:avLst/>
                  </a:prstGeom>
                  <a:ln w="57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124080" y="4770360"/>
                    <a:ext cx="1080" cy="1627200"/>
                  </a:xfrm>
                  <a:prstGeom prst="line">
                    <a:avLst/>
                  </a:prstGeom>
                  <a:ln w="57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3504600" y="4343400"/>
                    <a:ext cx="1440" cy="2054160"/>
                  </a:xfrm>
                  <a:prstGeom prst="line">
                    <a:avLst/>
                  </a:prstGeom>
                  <a:ln w="57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3124080" y="4343400"/>
                    <a:ext cx="1080" cy="2054160"/>
                  </a:xfrm>
                  <a:prstGeom prst="line">
                    <a:avLst/>
                  </a:prstGeom>
                  <a:ln w="57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3124080" y="4343400"/>
                    <a:ext cx="380520" cy="1440"/>
                  </a:xfrm>
                  <a:prstGeom prst="line">
                    <a:avLst/>
                  </a:prstGeom>
                  <a:ln w="57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3124080" y="5133960"/>
                    <a:ext cx="380520" cy="1440"/>
                  </a:xfrm>
                  <a:prstGeom prst="line">
                    <a:avLst/>
                  </a:prstGeom>
                  <a:ln w="284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3124080" y="5559480"/>
                    <a:ext cx="380520" cy="1440"/>
                  </a:xfrm>
                  <a:prstGeom prst="line">
                    <a:avLst/>
                  </a:prstGeom>
                  <a:ln w="284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3124080" y="6002280"/>
                    <a:ext cx="380520" cy="1440"/>
                  </a:xfrm>
                  <a:prstGeom prst="line">
                    <a:avLst/>
                  </a:prstGeom>
                  <a:ln w="284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3124080" y="6397560"/>
                    <a:ext cx="380520" cy="1440"/>
                  </a:xfrm>
                  <a:prstGeom prst="line">
                    <a:avLst/>
                  </a:prstGeom>
                  <a:ln w="57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3124080" y="4738680"/>
                    <a:ext cx="380520" cy="1440"/>
                  </a:xfrm>
                  <a:prstGeom prst="line">
                    <a:avLst/>
                  </a:prstGeom>
                  <a:ln w="284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7" name=""/>
                <p:cNvGrpSpPr/>
                <p:nvPr/>
              </p:nvGrpSpPr>
              <p:grpSpPr>
                <a:xfrm>
                  <a:off x="2741400" y="4345200"/>
                  <a:ext cx="381960" cy="2055600"/>
                  <a:chOff x="2741400" y="4345200"/>
                  <a:chExt cx="381960" cy="2055600"/>
                </a:xfrm>
              </p:grpSpPr>
              <p:sp>
                <p:nvSpPr>
                  <p:cNvPr id="278" name=""/>
                  <p:cNvSpPr/>
                  <p:nvPr/>
                </p:nvSpPr>
                <p:spPr>
                  <a:xfrm>
                    <a:off x="2741400" y="4386240"/>
                    <a:ext cx="0" cy="1981440"/>
                  </a:xfrm>
                  <a:prstGeom prst="line">
                    <a:avLst/>
                  </a:prstGeom>
                  <a:ln w="57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741400" y="4772160"/>
                    <a:ext cx="1080" cy="1627200"/>
                  </a:xfrm>
                  <a:prstGeom prst="line">
                    <a:avLst/>
                  </a:prstGeom>
                  <a:ln w="57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3121920" y="4345200"/>
                    <a:ext cx="1440" cy="2054160"/>
                  </a:xfrm>
                  <a:prstGeom prst="line">
                    <a:avLst/>
                  </a:prstGeom>
                  <a:ln w="57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2741400" y="4345200"/>
                    <a:ext cx="1080" cy="2054160"/>
                  </a:xfrm>
                  <a:prstGeom prst="line">
                    <a:avLst/>
                  </a:prstGeom>
                  <a:ln w="57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2741400" y="4345200"/>
                    <a:ext cx="380520" cy="1440"/>
                  </a:xfrm>
                  <a:prstGeom prst="line">
                    <a:avLst/>
                  </a:prstGeom>
                  <a:ln w="57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2741400" y="5135760"/>
                    <a:ext cx="380520" cy="1440"/>
                  </a:xfrm>
                  <a:prstGeom prst="line">
                    <a:avLst/>
                  </a:prstGeom>
                  <a:ln w="284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2741400" y="5561280"/>
                    <a:ext cx="380520" cy="1440"/>
                  </a:xfrm>
                  <a:prstGeom prst="line">
                    <a:avLst/>
                  </a:prstGeom>
                  <a:ln w="284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>
                    <a:off x="2741400" y="6004080"/>
                    <a:ext cx="380520" cy="1440"/>
                  </a:xfrm>
                  <a:prstGeom prst="line">
                    <a:avLst/>
                  </a:prstGeom>
                  <a:ln w="284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2741400" y="6399360"/>
                    <a:ext cx="380520" cy="1440"/>
                  </a:xfrm>
                  <a:prstGeom prst="line">
                    <a:avLst/>
                  </a:prstGeom>
                  <a:ln w="57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2741400" y="4740480"/>
                    <a:ext cx="380520" cy="1440"/>
                  </a:xfrm>
                  <a:prstGeom prst="line">
                    <a:avLst/>
                  </a:prstGeom>
                  <a:ln w="284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8" name=""/>
                <p:cNvGrpSpPr/>
                <p:nvPr/>
              </p:nvGrpSpPr>
              <p:grpSpPr>
                <a:xfrm>
                  <a:off x="2362320" y="4343400"/>
                  <a:ext cx="381960" cy="2055600"/>
                  <a:chOff x="2362320" y="4343400"/>
                  <a:chExt cx="381960" cy="2055600"/>
                </a:xfrm>
              </p:grpSpPr>
              <p:sp>
                <p:nvSpPr>
                  <p:cNvPr id="289" name=""/>
                  <p:cNvSpPr/>
                  <p:nvPr/>
                </p:nvSpPr>
                <p:spPr>
                  <a:xfrm>
                    <a:off x="2362320" y="4384440"/>
                    <a:ext cx="0" cy="1981440"/>
                  </a:xfrm>
                  <a:prstGeom prst="line">
                    <a:avLst/>
                  </a:prstGeom>
                  <a:ln w="57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2362320" y="4770360"/>
                    <a:ext cx="1080" cy="1627200"/>
                  </a:xfrm>
                  <a:prstGeom prst="line">
                    <a:avLst/>
                  </a:prstGeom>
                  <a:ln w="57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2742840" y="4343400"/>
                    <a:ext cx="1440" cy="2054160"/>
                  </a:xfrm>
                  <a:prstGeom prst="line">
                    <a:avLst/>
                  </a:prstGeom>
                  <a:ln w="57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2362320" y="4343400"/>
                    <a:ext cx="1080" cy="2054160"/>
                  </a:xfrm>
                  <a:prstGeom prst="line">
                    <a:avLst/>
                  </a:prstGeom>
                  <a:ln w="57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2362320" y="4343400"/>
                    <a:ext cx="380520" cy="1440"/>
                  </a:xfrm>
                  <a:prstGeom prst="line">
                    <a:avLst/>
                  </a:prstGeom>
                  <a:ln w="57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2362320" y="5133960"/>
                    <a:ext cx="380520" cy="1440"/>
                  </a:xfrm>
                  <a:prstGeom prst="line">
                    <a:avLst/>
                  </a:prstGeom>
                  <a:ln w="284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2362320" y="5559480"/>
                    <a:ext cx="380520" cy="1440"/>
                  </a:xfrm>
                  <a:prstGeom prst="line">
                    <a:avLst/>
                  </a:prstGeom>
                  <a:ln w="284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2362320" y="6002280"/>
                    <a:ext cx="380520" cy="1440"/>
                  </a:xfrm>
                  <a:prstGeom prst="line">
                    <a:avLst/>
                  </a:prstGeom>
                  <a:ln w="284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2362320" y="6397560"/>
                    <a:ext cx="380520" cy="1440"/>
                  </a:xfrm>
                  <a:prstGeom prst="line">
                    <a:avLst/>
                  </a:prstGeom>
                  <a:ln w="57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2362320" y="4738680"/>
                    <a:ext cx="380520" cy="1440"/>
                  </a:xfrm>
                  <a:prstGeom prst="line">
                    <a:avLst/>
                  </a:prstGeom>
                  <a:ln w="284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9" name=""/>
              <p:cNvGrpSpPr/>
              <p:nvPr/>
            </p:nvGrpSpPr>
            <p:grpSpPr>
              <a:xfrm>
                <a:off x="2362320" y="4267080"/>
                <a:ext cx="1600200" cy="2135880"/>
                <a:chOff x="2362320" y="4267080"/>
                <a:chExt cx="1600200" cy="213588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2362320" y="4267080"/>
                  <a:ext cx="381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808080"/>
                      </a:solidFill>
                      <a:latin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2362320" y="4724280"/>
                  <a:ext cx="381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808080"/>
                      </a:solidFill>
                      <a:latin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19520" y="4267080"/>
                  <a:ext cx="381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808080"/>
                      </a:solidFill>
                      <a:latin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2819520" y="4724280"/>
                  <a:ext cx="381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808080"/>
                      </a:solidFill>
                      <a:latin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3200760" y="4724280"/>
                  <a:ext cx="380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808080"/>
                      </a:solidFill>
                      <a:latin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3200760" y="5562360"/>
                  <a:ext cx="380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808080"/>
                      </a:solidFill>
                      <a:latin typeface="Times New Roman"/>
                    </a:rPr>
                    <a:t>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3581640" y="4724280"/>
                  <a:ext cx="380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808080"/>
                      </a:solidFill>
                      <a:latin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3581640" y="4267080"/>
                  <a:ext cx="380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808080"/>
                      </a:solidFill>
                      <a:latin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3581640" y="5105160"/>
                  <a:ext cx="380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808080"/>
                      </a:solidFill>
                      <a:latin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3200760" y="4267080"/>
                  <a:ext cx="380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808080"/>
                      </a:solidFill>
                      <a:latin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3581640" y="5562360"/>
                  <a:ext cx="380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808080"/>
                      </a:solidFill>
                      <a:latin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3581640" y="5943240"/>
                  <a:ext cx="380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808080"/>
                      </a:solidFill>
                      <a:latin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2" name=""/>
              <p:cNvSpPr/>
              <p:nvPr/>
            </p:nvSpPr>
            <p:spPr>
              <a:xfrm>
                <a:off x="3581280" y="380988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80808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04920" y="3886200"/>
                <a:ext cx="1828800" cy="26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</a:rPr>
                  <a:t>Data entry regist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362320" y="38098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743200" y="38098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124080" y="3809880"/>
                <a:ext cx="381240" cy="381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200400" y="510552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80808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8" name=""/>
          <p:cNvGrpSpPr/>
          <p:nvPr/>
        </p:nvGrpSpPr>
        <p:grpSpPr>
          <a:xfrm>
            <a:off x="2209680" y="3581280"/>
            <a:ext cx="6934320" cy="2161440"/>
            <a:chOff x="2209680" y="3581280"/>
            <a:chExt cx="6934320" cy="2161440"/>
          </a:xfrm>
        </p:grpSpPr>
        <p:sp>
          <p:nvSpPr>
            <p:cNvPr id="319" name=""/>
            <p:cNvSpPr/>
            <p:nvPr/>
          </p:nvSpPr>
          <p:spPr>
            <a:xfrm>
              <a:off x="2209680" y="3581280"/>
              <a:ext cx="592200" cy="808200"/>
            </a:xfrm>
            <a:custGeom>
              <a:avLst/>
              <a:gdLst/>
              <a:ahLst/>
              <a:rect l="l" t="t" r="r" b="b"/>
              <a:pathLst>
                <a:path w="373" h="509">
                  <a:moveTo>
                    <a:pt x="198" y="0"/>
                  </a:moveTo>
                  <a:cubicBezTo>
                    <a:pt x="148" y="16"/>
                    <a:pt x="122" y="46"/>
                    <a:pt x="86" y="82"/>
                  </a:cubicBezTo>
                  <a:cubicBezTo>
                    <a:pt x="83" y="85"/>
                    <a:pt x="50" y="137"/>
                    <a:pt x="41" y="150"/>
                  </a:cubicBezTo>
                  <a:cubicBezTo>
                    <a:pt x="36" y="157"/>
                    <a:pt x="26" y="172"/>
                    <a:pt x="26" y="172"/>
                  </a:cubicBezTo>
                  <a:cubicBezTo>
                    <a:pt x="5" y="239"/>
                    <a:pt x="0" y="398"/>
                    <a:pt x="64" y="464"/>
                  </a:cubicBezTo>
                  <a:cubicBezTo>
                    <a:pt x="87" y="488"/>
                    <a:pt x="137" y="501"/>
                    <a:pt x="168" y="509"/>
                  </a:cubicBezTo>
                  <a:cubicBezTo>
                    <a:pt x="188" y="506"/>
                    <a:pt x="209" y="508"/>
                    <a:pt x="228" y="501"/>
                  </a:cubicBezTo>
                  <a:cubicBezTo>
                    <a:pt x="245" y="495"/>
                    <a:pt x="273" y="471"/>
                    <a:pt x="273" y="471"/>
                  </a:cubicBezTo>
                  <a:cubicBezTo>
                    <a:pt x="291" y="444"/>
                    <a:pt x="292" y="425"/>
                    <a:pt x="303" y="396"/>
                  </a:cubicBezTo>
                  <a:cubicBezTo>
                    <a:pt x="323" y="343"/>
                    <a:pt x="339" y="293"/>
                    <a:pt x="355" y="239"/>
                  </a:cubicBezTo>
                  <a:cubicBezTo>
                    <a:pt x="354" y="209"/>
                    <a:pt x="373" y="65"/>
                    <a:pt x="311" y="45"/>
                  </a:cubicBezTo>
                  <a:cubicBezTo>
                    <a:pt x="267" y="17"/>
                    <a:pt x="241" y="33"/>
                    <a:pt x="191" y="15"/>
                  </a:cubicBezTo>
                  <a:cubicBezTo>
                    <a:pt x="186" y="13"/>
                    <a:pt x="196" y="5"/>
                    <a:pt x="198" y="0"/>
                  </a:cubicBezTo>
                  <a:close/>
                </a:path>
              </a:pathLst>
            </a:custGeom>
            <a:noFill/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562720" y="4861080"/>
              <a:ext cx="533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lang="en-US" sz="2000" spc="-1" strike="noStrike" baseline="-25000">
                  <a:solidFill>
                    <a:srgbClr val="00cc99"/>
                  </a:solidFill>
                  <a:latin typeface="Times New Roman"/>
                </a:rPr>
                <a:t>i</a:t>
              </a:r>
              <a:r>
                <a:rPr b="0" lang="en-US" sz="2000" spc="-1" strike="noStrike" baseline="30000">
                  <a:solidFill>
                    <a:srgbClr val="00cc99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562720" y="5302080"/>
              <a:ext cx="6858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i="1" lang="en-US" sz="2000" spc="-1" strike="noStrike" baseline="-25000">
                  <a:solidFill>
                    <a:srgbClr val="00cc99"/>
                  </a:solidFill>
                  <a:latin typeface="Times New Roman"/>
                </a:rPr>
                <a:t>i</a:t>
              </a:r>
              <a:r>
                <a:rPr b="0" lang="en-US" sz="2000" spc="-1" strike="noStrike" baseline="-25000">
                  <a:solidFill>
                    <a:srgbClr val="00cc99"/>
                  </a:solidFill>
                  <a:latin typeface="Times New Roman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5943600" y="4540320"/>
              <a:ext cx="2286000" cy="1143000"/>
              <a:chOff x="5943600" y="4540320"/>
              <a:chExt cx="2286000" cy="1143000"/>
            </a:xfrm>
          </p:grpSpPr>
          <p:sp>
            <p:nvSpPr>
              <p:cNvPr id="323" name=""/>
              <p:cNvSpPr/>
              <p:nvPr/>
            </p:nvSpPr>
            <p:spPr>
              <a:xfrm>
                <a:off x="6705720" y="4844880"/>
                <a:ext cx="914400" cy="838440"/>
              </a:xfrm>
              <a:prstGeom prst="flowChartDelay">
                <a:avLst/>
              </a:prstGeom>
              <a:solidFill>
                <a:srgbClr val="808080"/>
              </a:solidFill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172200" y="4997520"/>
                <a:ext cx="533520" cy="0"/>
              </a:xfrm>
              <a:prstGeom prst="line">
                <a:avLst/>
              </a:prstGeom>
              <a:ln w="3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943600" y="5530680"/>
                <a:ext cx="762120" cy="0"/>
              </a:xfrm>
              <a:prstGeom prst="line">
                <a:avLst/>
              </a:prstGeom>
              <a:ln w="3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019920" y="4540320"/>
                <a:ext cx="0" cy="30456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019920" y="4844880"/>
                <a:ext cx="152280" cy="15264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553080" y="5149800"/>
                <a:ext cx="152640" cy="15228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943600" y="5226120"/>
                <a:ext cx="609480" cy="0"/>
              </a:xfrm>
              <a:prstGeom prst="line">
                <a:avLst/>
              </a:prstGeom>
              <a:ln w="3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620120" y="5226120"/>
                <a:ext cx="609480" cy="0"/>
              </a:xfrm>
              <a:prstGeom prst="line">
                <a:avLst/>
              </a:prstGeom>
              <a:ln w="32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1" name=""/>
            <p:cNvSpPr/>
            <p:nvPr/>
          </p:nvSpPr>
          <p:spPr>
            <a:xfrm>
              <a:off x="8305920" y="4921200"/>
              <a:ext cx="838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i="1" lang="en-US" sz="2000" spc="-1" strike="noStrike" baseline="-25000">
                  <a:solidFill>
                    <a:srgbClr val="00cc99"/>
                  </a:solidFill>
                  <a:latin typeface="Times New Roman"/>
                </a:rPr>
                <a:t>i</a:t>
              </a:r>
              <a:r>
                <a:rPr b="0" lang="en-US" sz="2000" spc="-1" strike="noStrike" baseline="30000">
                  <a:solidFill>
                    <a:srgbClr val="00cc99"/>
                  </a:solidFill>
                  <a:latin typeface="Times New Roman"/>
                </a:rPr>
                <a:t>t+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410080" y="4114800"/>
              <a:ext cx="327672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Input from corresponding cell i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4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ata entry regis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819520" y="3733920"/>
              <a:ext cx="259056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66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" y="3048120"/>
            <a:ext cx="2133720" cy="15361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Calculating </a:t>
            </a: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cur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Resistor chain 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1 = V1/R = 3/(1+2+3) = 1/2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Resistor chain 2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2 = V2/R = 2/(1+2+3) = 1/3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Resistor chain 3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3 = V3/R = 1/(1+2+3) = 1/6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62120" y="21337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0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no.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62120" y="17524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0 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(no.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62120" y="1371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1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no. 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533520" y="2590920"/>
            <a:ext cx="1371600" cy="459720"/>
            <a:chOff x="533520" y="2590920"/>
            <a:chExt cx="1371600" cy="459720"/>
          </a:xfrm>
        </p:grpSpPr>
        <p:sp>
          <p:nvSpPr>
            <p:cNvPr id="339" name=""/>
            <p:cNvSpPr/>
            <p:nvPr/>
          </p:nvSpPr>
          <p:spPr>
            <a:xfrm>
              <a:off x="533520" y="259092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62120" y="259092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3 2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228600" y="4572000"/>
            <a:ext cx="2133720" cy="1280160"/>
            <a:chOff x="228600" y="4572000"/>
            <a:chExt cx="2133720" cy="1280160"/>
          </a:xfrm>
        </p:grpSpPr>
        <p:sp>
          <p:nvSpPr>
            <p:cNvPr id="342" name=""/>
            <p:cNvSpPr/>
            <p:nvPr/>
          </p:nvSpPr>
          <p:spPr>
            <a:xfrm>
              <a:off x="228600" y="4572000"/>
              <a:ext cx="2133720" cy="128016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‘</a:t>
              </a: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Trim’ Voltage 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Trim( v ) =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1 if  v &gt;=  0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0 otherwi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295280" y="5257800"/>
              <a:ext cx="228600" cy="53352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3680 h 533520"/>
                <a:gd name="textAreaBottom" fmla="*/ 51984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3959280" y="1366560"/>
            <a:ext cx="1045440" cy="3536280"/>
            <a:chOff x="3959280" y="1366560"/>
            <a:chExt cx="1045440" cy="3536280"/>
          </a:xfrm>
        </p:grpSpPr>
        <p:cxnSp>
          <p:nvCxnSpPr>
            <p:cNvPr id="345" name=""/>
            <p:cNvCxnSpPr/>
            <p:nvPr/>
          </p:nvCxnSpPr>
          <p:spPr>
            <a:xfrm flipH="1" flipV="1" rot="5400000">
              <a:off x="3801600" y="1748880"/>
              <a:ext cx="1512000" cy="756360"/>
            </a:xfrm>
            <a:prstGeom prst="curvedConnector5">
              <a:avLst>
                <a:gd name="adj1" fmla="val 100309"/>
                <a:gd name="adj2" fmla="val 50000"/>
                <a:gd name="adj3" fmla="val 100309"/>
              </a:avLst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</p:cxnSp>
        <p:cxnSp>
          <p:nvCxnSpPr>
            <p:cNvPr id="346" name=""/>
            <p:cNvCxnSpPr/>
            <p:nvPr/>
          </p:nvCxnSpPr>
          <p:spPr>
            <a:xfrm flipH="1" rot="16200000">
              <a:off x="3837600" y="3642840"/>
              <a:ext cx="1508760" cy="826200"/>
            </a:xfrm>
            <a:prstGeom prst="curvedConnector5">
              <a:avLst>
                <a:gd name="adj1" fmla="val 106157"/>
                <a:gd name="adj2" fmla="val 50000"/>
                <a:gd name="adj3" fmla="val 106157"/>
              </a:avLst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</p:cxnSp>
        <p:sp>
          <p:nvSpPr>
            <p:cNvPr id="347" name=""/>
            <p:cNvSpPr/>
            <p:nvPr/>
          </p:nvSpPr>
          <p:spPr>
            <a:xfrm>
              <a:off x="3959280" y="2941560"/>
              <a:ext cx="46512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Times New Roman"/>
                </a:rPr>
                <a:t>V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2971800" y="1371240"/>
            <a:ext cx="999360" cy="3428280"/>
            <a:chOff x="2971800" y="1371240"/>
            <a:chExt cx="999360" cy="3428280"/>
          </a:xfrm>
        </p:grpSpPr>
        <p:cxnSp>
          <p:nvCxnSpPr>
            <p:cNvPr id="349" name=""/>
            <p:cNvCxnSpPr/>
            <p:nvPr/>
          </p:nvCxnSpPr>
          <p:spPr>
            <a:xfrm flipH="1" flipV="1" rot="5400000">
              <a:off x="2768040" y="1748880"/>
              <a:ext cx="1512000" cy="756360"/>
            </a:xfrm>
            <a:prstGeom prst="curvedConnector5">
              <a:avLst>
                <a:gd name="adj1" fmla="val 49988"/>
                <a:gd name="adj2" fmla="val 50000"/>
                <a:gd name="adj3" fmla="val 49988"/>
              </a:avLst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</p:cxnSp>
        <p:sp>
          <p:nvSpPr>
            <p:cNvPr id="350" name=""/>
            <p:cNvSpPr/>
            <p:nvPr/>
          </p:nvSpPr>
          <p:spPr>
            <a:xfrm>
              <a:off x="2971800" y="2941560"/>
              <a:ext cx="465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Times New Roman"/>
                </a:rPr>
                <a:t>V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51" name=""/>
            <p:cNvCxnSpPr/>
            <p:nvPr/>
          </p:nvCxnSpPr>
          <p:spPr>
            <a:xfrm flipH="1" rot="16200000">
              <a:off x="2804040" y="3632040"/>
              <a:ext cx="1509120" cy="826200"/>
            </a:xfrm>
            <a:prstGeom prst="curvedConnector5">
              <a:avLst>
                <a:gd name="adj1" fmla="val 49988"/>
                <a:gd name="adj2" fmla="val 50000"/>
                <a:gd name="adj3" fmla="val 49988"/>
              </a:avLst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</p:cxnSp>
      </p:grpSp>
      <p:grpSp>
        <p:nvGrpSpPr>
          <p:cNvPr id="352" name=""/>
          <p:cNvGrpSpPr/>
          <p:nvPr/>
        </p:nvGrpSpPr>
        <p:grpSpPr>
          <a:xfrm>
            <a:off x="5064120" y="1366560"/>
            <a:ext cx="1045440" cy="3536280"/>
            <a:chOff x="5064120" y="1366560"/>
            <a:chExt cx="1045440" cy="3536280"/>
          </a:xfrm>
        </p:grpSpPr>
        <p:cxnSp>
          <p:nvCxnSpPr>
            <p:cNvPr id="353" name=""/>
            <p:cNvCxnSpPr/>
            <p:nvPr/>
          </p:nvCxnSpPr>
          <p:spPr>
            <a:xfrm flipH="1" flipV="1" rot="5400000">
              <a:off x="4906440" y="1748880"/>
              <a:ext cx="1512000" cy="756360"/>
            </a:xfrm>
            <a:prstGeom prst="curvedConnector5">
              <a:avLst>
                <a:gd name="adj1" fmla="val 100309"/>
                <a:gd name="adj2" fmla="val 50000"/>
                <a:gd name="adj3" fmla="val 100309"/>
              </a:avLst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</p:cxnSp>
        <p:cxnSp>
          <p:nvCxnSpPr>
            <p:cNvPr id="354" name=""/>
            <p:cNvCxnSpPr/>
            <p:nvPr/>
          </p:nvCxnSpPr>
          <p:spPr>
            <a:xfrm flipH="1" rot="16200000">
              <a:off x="4942440" y="3642840"/>
              <a:ext cx="1508760" cy="826200"/>
            </a:xfrm>
            <a:prstGeom prst="curvedConnector5">
              <a:avLst>
                <a:gd name="adj1" fmla="val 106157"/>
                <a:gd name="adj2" fmla="val 50000"/>
                <a:gd name="adj3" fmla="val 106157"/>
              </a:avLst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</p:cxnSp>
        <p:sp>
          <p:nvSpPr>
            <p:cNvPr id="355" name=""/>
            <p:cNvSpPr/>
            <p:nvPr/>
          </p:nvSpPr>
          <p:spPr>
            <a:xfrm>
              <a:off x="5064120" y="2941560"/>
              <a:ext cx="46512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Times New Roman"/>
                </a:rPr>
                <a:t>V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4191120" y="1295280"/>
            <a:ext cx="609480" cy="3810240"/>
            <a:chOff x="4191120" y="1295280"/>
            <a:chExt cx="609480" cy="3810240"/>
          </a:xfrm>
        </p:grpSpPr>
        <p:sp>
          <p:nvSpPr>
            <p:cNvPr id="357" name=""/>
            <p:cNvSpPr/>
            <p:nvPr/>
          </p:nvSpPr>
          <p:spPr>
            <a:xfrm>
              <a:off x="4267080" y="1295280"/>
              <a:ext cx="457200" cy="12193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cc99"/>
                  </a:solidFill>
                  <a:latin typeface="Arial"/>
                </a:rPr>
                <a:t>Tri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724280" y="1447920"/>
              <a:ext cx="76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724280" y="2438280"/>
              <a:ext cx="76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191120" y="2438280"/>
              <a:ext cx="759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191120" y="1447920"/>
              <a:ext cx="759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267080" y="2590920"/>
              <a:ext cx="457200" cy="121896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cc99"/>
                  </a:solidFill>
                  <a:latin typeface="Arial"/>
                </a:rPr>
                <a:t>Tri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724280" y="2666880"/>
              <a:ext cx="76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724280" y="3733920"/>
              <a:ext cx="76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91120" y="3733920"/>
              <a:ext cx="759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191120" y="2666880"/>
              <a:ext cx="759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267080" y="3886200"/>
              <a:ext cx="457200" cy="12193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cc99"/>
                  </a:solidFill>
                  <a:latin typeface="Arial"/>
                </a:rPr>
                <a:t>Tri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724280" y="3962520"/>
              <a:ext cx="76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24280" y="5029200"/>
              <a:ext cx="76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191120" y="5029200"/>
              <a:ext cx="759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191120" y="3962520"/>
              <a:ext cx="759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5257800" y="1295280"/>
            <a:ext cx="609480" cy="3810240"/>
            <a:chOff x="5257800" y="1295280"/>
            <a:chExt cx="609480" cy="3810240"/>
          </a:xfrm>
        </p:grpSpPr>
        <p:sp>
          <p:nvSpPr>
            <p:cNvPr id="373" name=""/>
            <p:cNvSpPr/>
            <p:nvPr/>
          </p:nvSpPr>
          <p:spPr>
            <a:xfrm>
              <a:off x="5333760" y="1295280"/>
              <a:ext cx="457200" cy="12193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cc99"/>
                  </a:solidFill>
                  <a:latin typeface="Arial"/>
                </a:rPr>
                <a:t>Tri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790960" y="1447920"/>
              <a:ext cx="76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790960" y="2438280"/>
              <a:ext cx="76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257800" y="2438280"/>
              <a:ext cx="759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257800" y="1447920"/>
              <a:ext cx="759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333760" y="2590920"/>
              <a:ext cx="457200" cy="121896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cc99"/>
                  </a:solidFill>
                  <a:latin typeface="Arial"/>
                </a:rPr>
                <a:t>Tri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790960" y="2666880"/>
              <a:ext cx="76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790960" y="3733920"/>
              <a:ext cx="76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257800" y="3733920"/>
              <a:ext cx="759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257800" y="2666880"/>
              <a:ext cx="759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333760" y="3886200"/>
              <a:ext cx="457200" cy="12193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cc99"/>
                  </a:solidFill>
                  <a:latin typeface="Arial"/>
                </a:rPr>
                <a:t>Tri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790960" y="3962520"/>
              <a:ext cx="76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790960" y="5029200"/>
              <a:ext cx="76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257800" y="5029200"/>
              <a:ext cx="759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257800" y="3962520"/>
              <a:ext cx="759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6400800" y="1295280"/>
            <a:ext cx="609480" cy="3810240"/>
            <a:chOff x="6400800" y="1295280"/>
            <a:chExt cx="609480" cy="3810240"/>
          </a:xfrm>
        </p:grpSpPr>
        <p:sp>
          <p:nvSpPr>
            <p:cNvPr id="389" name=""/>
            <p:cNvSpPr/>
            <p:nvPr/>
          </p:nvSpPr>
          <p:spPr>
            <a:xfrm>
              <a:off x="6476760" y="1295280"/>
              <a:ext cx="457200" cy="12193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cc99"/>
                  </a:solidFill>
                  <a:latin typeface="Arial"/>
                </a:rPr>
                <a:t>Tri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933960" y="1447920"/>
              <a:ext cx="76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933960" y="2438280"/>
              <a:ext cx="76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400800" y="2438280"/>
              <a:ext cx="759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400800" y="1447920"/>
              <a:ext cx="759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476760" y="2590920"/>
              <a:ext cx="457200" cy="121896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cc99"/>
                  </a:solidFill>
                  <a:latin typeface="Arial"/>
                </a:rPr>
                <a:t>Tri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933960" y="2666880"/>
              <a:ext cx="76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933960" y="3733920"/>
              <a:ext cx="76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400800" y="3733920"/>
              <a:ext cx="759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400800" y="2666880"/>
              <a:ext cx="759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476760" y="3886200"/>
              <a:ext cx="457200" cy="12193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cc99"/>
                  </a:solidFill>
                  <a:latin typeface="Arial"/>
                </a:rPr>
                <a:t>Tri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933960" y="3962520"/>
              <a:ext cx="76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933960" y="5029200"/>
              <a:ext cx="76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400800" y="5029200"/>
              <a:ext cx="759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400800" y="3962520"/>
              <a:ext cx="759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7790040" y="1353960"/>
            <a:ext cx="515880" cy="3522960"/>
            <a:chOff x="7790040" y="1353960"/>
            <a:chExt cx="515880" cy="3522960"/>
          </a:xfrm>
        </p:grpSpPr>
        <p:sp>
          <p:nvSpPr>
            <p:cNvPr id="405" name=""/>
            <p:cNvSpPr/>
            <p:nvPr/>
          </p:nvSpPr>
          <p:spPr>
            <a:xfrm>
              <a:off x="7924680" y="1676520"/>
              <a:ext cx="3812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Times New Roman"/>
                </a:rPr>
                <a:t>v</a:t>
              </a:r>
              <a:r>
                <a:rPr b="1" lang="en-US" sz="1600" spc="-1" strike="noStrike" baseline="-25000">
                  <a:solidFill>
                    <a:srgbClr val="8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924680" y="2863800"/>
              <a:ext cx="3812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Times New Roman"/>
                </a:rPr>
                <a:t>v</a:t>
              </a:r>
              <a:r>
                <a:rPr b="1" lang="en-US" sz="1600" spc="-1" strike="noStrike" baseline="-25000">
                  <a:solidFill>
                    <a:srgbClr val="8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924680" y="4006800"/>
              <a:ext cx="3812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Times New Roman"/>
                </a:rPr>
                <a:t>v</a:t>
              </a:r>
              <a:r>
                <a:rPr b="1" lang="en-US" sz="1600" spc="-1" strike="noStrike" baseline="-25000">
                  <a:solidFill>
                    <a:srgbClr val="8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790040" y="1353960"/>
              <a:ext cx="261720" cy="416160"/>
            </a:xfrm>
            <a:custGeom>
              <a:avLst/>
              <a:gdLst/>
              <a:ahLst/>
              <a:rect l="l" t="t" r="r" b="b"/>
              <a:pathLst>
                <a:path w="165" h="262">
                  <a:moveTo>
                    <a:pt x="0" y="0"/>
                  </a:moveTo>
                  <a:cubicBezTo>
                    <a:pt x="25" y="8"/>
                    <a:pt x="68" y="37"/>
                    <a:pt x="68" y="37"/>
                  </a:cubicBezTo>
                  <a:cubicBezTo>
                    <a:pt x="102" y="90"/>
                    <a:pt x="82" y="72"/>
                    <a:pt x="120" y="97"/>
                  </a:cubicBezTo>
                  <a:cubicBezTo>
                    <a:pt x="125" y="113"/>
                    <a:pt x="136" y="145"/>
                    <a:pt x="142" y="164"/>
                  </a:cubicBezTo>
                  <a:cubicBezTo>
                    <a:pt x="145" y="172"/>
                    <a:pt x="150" y="187"/>
                    <a:pt x="150" y="187"/>
                  </a:cubicBezTo>
                  <a:cubicBezTo>
                    <a:pt x="152" y="202"/>
                    <a:pt x="154" y="217"/>
                    <a:pt x="157" y="232"/>
                  </a:cubicBezTo>
                  <a:cubicBezTo>
                    <a:pt x="159" y="242"/>
                    <a:pt x="165" y="262"/>
                    <a:pt x="165" y="262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837560" y="2101680"/>
              <a:ext cx="237960" cy="427320"/>
            </a:xfrm>
            <a:custGeom>
              <a:avLst/>
              <a:gdLst/>
              <a:ahLst/>
              <a:rect l="l" t="t" r="r" b="b"/>
              <a:pathLst>
                <a:path w="150" h="269">
                  <a:moveTo>
                    <a:pt x="150" y="0"/>
                  </a:moveTo>
                  <a:cubicBezTo>
                    <a:pt x="140" y="78"/>
                    <a:pt x="114" y="163"/>
                    <a:pt x="45" y="210"/>
                  </a:cubicBezTo>
                  <a:cubicBezTo>
                    <a:pt x="11" y="260"/>
                    <a:pt x="28" y="241"/>
                    <a:pt x="0" y="269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791480" y="2558880"/>
              <a:ext cx="262080" cy="416160"/>
            </a:xfrm>
            <a:custGeom>
              <a:avLst/>
              <a:gdLst/>
              <a:ahLst/>
              <a:rect l="l" t="t" r="r" b="b"/>
              <a:pathLst>
                <a:path w="165" h="262">
                  <a:moveTo>
                    <a:pt x="0" y="0"/>
                  </a:moveTo>
                  <a:cubicBezTo>
                    <a:pt x="25" y="8"/>
                    <a:pt x="68" y="37"/>
                    <a:pt x="68" y="37"/>
                  </a:cubicBezTo>
                  <a:cubicBezTo>
                    <a:pt x="102" y="90"/>
                    <a:pt x="82" y="72"/>
                    <a:pt x="120" y="97"/>
                  </a:cubicBezTo>
                  <a:cubicBezTo>
                    <a:pt x="125" y="113"/>
                    <a:pt x="136" y="145"/>
                    <a:pt x="142" y="164"/>
                  </a:cubicBezTo>
                  <a:cubicBezTo>
                    <a:pt x="145" y="172"/>
                    <a:pt x="150" y="187"/>
                    <a:pt x="150" y="187"/>
                  </a:cubicBezTo>
                  <a:cubicBezTo>
                    <a:pt x="152" y="202"/>
                    <a:pt x="154" y="217"/>
                    <a:pt x="157" y="232"/>
                  </a:cubicBezTo>
                  <a:cubicBezTo>
                    <a:pt x="159" y="242"/>
                    <a:pt x="165" y="262"/>
                    <a:pt x="165" y="262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839000" y="3306600"/>
              <a:ext cx="238320" cy="427320"/>
            </a:xfrm>
            <a:custGeom>
              <a:avLst/>
              <a:gdLst/>
              <a:ahLst/>
              <a:rect l="l" t="t" r="r" b="b"/>
              <a:pathLst>
                <a:path w="150" h="269">
                  <a:moveTo>
                    <a:pt x="150" y="0"/>
                  </a:moveTo>
                  <a:cubicBezTo>
                    <a:pt x="140" y="78"/>
                    <a:pt x="114" y="163"/>
                    <a:pt x="45" y="210"/>
                  </a:cubicBezTo>
                  <a:cubicBezTo>
                    <a:pt x="11" y="260"/>
                    <a:pt x="28" y="241"/>
                    <a:pt x="0" y="269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848720" y="3774960"/>
              <a:ext cx="261720" cy="416160"/>
            </a:xfrm>
            <a:custGeom>
              <a:avLst/>
              <a:gdLst/>
              <a:ahLst/>
              <a:rect l="l" t="t" r="r" b="b"/>
              <a:pathLst>
                <a:path w="165" h="262">
                  <a:moveTo>
                    <a:pt x="0" y="0"/>
                  </a:moveTo>
                  <a:cubicBezTo>
                    <a:pt x="25" y="8"/>
                    <a:pt x="68" y="37"/>
                    <a:pt x="68" y="37"/>
                  </a:cubicBezTo>
                  <a:cubicBezTo>
                    <a:pt x="102" y="90"/>
                    <a:pt x="82" y="72"/>
                    <a:pt x="120" y="97"/>
                  </a:cubicBezTo>
                  <a:cubicBezTo>
                    <a:pt x="125" y="113"/>
                    <a:pt x="136" y="145"/>
                    <a:pt x="142" y="164"/>
                  </a:cubicBezTo>
                  <a:cubicBezTo>
                    <a:pt x="145" y="172"/>
                    <a:pt x="150" y="187"/>
                    <a:pt x="150" y="187"/>
                  </a:cubicBezTo>
                  <a:cubicBezTo>
                    <a:pt x="152" y="202"/>
                    <a:pt x="154" y="217"/>
                    <a:pt x="157" y="232"/>
                  </a:cubicBezTo>
                  <a:cubicBezTo>
                    <a:pt x="159" y="242"/>
                    <a:pt x="165" y="262"/>
                    <a:pt x="165" y="262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915320" y="4449600"/>
              <a:ext cx="237960" cy="427320"/>
            </a:xfrm>
            <a:custGeom>
              <a:avLst/>
              <a:gdLst/>
              <a:ahLst/>
              <a:rect l="l" t="t" r="r" b="b"/>
              <a:pathLst>
                <a:path w="150" h="269">
                  <a:moveTo>
                    <a:pt x="150" y="0"/>
                  </a:moveTo>
                  <a:cubicBezTo>
                    <a:pt x="140" y="78"/>
                    <a:pt x="114" y="163"/>
                    <a:pt x="45" y="210"/>
                  </a:cubicBezTo>
                  <a:cubicBezTo>
                    <a:pt x="11" y="260"/>
                    <a:pt x="28" y="241"/>
                    <a:pt x="0" y="269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962520" y="1371600"/>
            <a:ext cx="3809880" cy="3429000"/>
            <a:chOff x="3962520" y="1371600"/>
            <a:chExt cx="3809880" cy="3429000"/>
          </a:xfrm>
        </p:grpSpPr>
        <p:sp>
          <p:nvSpPr>
            <p:cNvPr id="415" name=""/>
            <p:cNvSpPr/>
            <p:nvPr/>
          </p:nvSpPr>
          <p:spPr>
            <a:xfrm>
              <a:off x="3962520" y="1371600"/>
              <a:ext cx="3809880" cy="0"/>
            </a:xfrm>
            <a:prstGeom prst="line">
              <a:avLst/>
            </a:prstGeom>
            <a:ln w="9360">
              <a:solidFill>
                <a:srgbClr val="00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962520" y="2514600"/>
              <a:ext cx="3809880" cy="0"/>
            </a:xfrm>
            <a:prstGeom prst="line">
              <a:avLst/>
            </a:prstGeom>
            <a:ln w="9360">
              <a:solidFill>
                <a:srgbClr val="00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962520" y="3657600"/>
              <a:ext cx="3809880" cy="0"/>
            </a:xfrm>
            <a:prstGeom prst="line">
              <a:avLst/>
            </a:prstGeom>
            <a:ln w="9360">
              <a:solidFill>
                <a:srgbClr val="00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962520" y="4800600"/>
              <a:ext cx="3809880" cy="0"/>
            </a:xfrm>
            <a:prstGeom prst="line">
              <a:avLst/>
            </a:prstGeom>
            <a:ln w="9360">
              <a:solidFill>
                <a:srgbClr val="00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048120" y="5867280"/>
            <a:ext cx="3657600" cy="4572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3352680" y="1430280"/>
            <a:ext cx="2979360" cy="4351320"/>
            <a:chOff x="3352680" y="1430280"/>
            <a:chExt cx="2979360" cy="4351320"/>
          </a:xfrm>
        </p:grpSpPr>
        <p:grpSp>
          <p:nvGrpSpPr>
            <p:cNvPr id="421" name=""/>
            <p:cNvGrpSpPr/>
            <p:nvPr/>
          </p:nvGrpSpPr>
          <p:grpSpPr>
            <a:xfrm>
              <a:off x="3352680" y="1430280"/>
              <a:ext cx="896760" cy="4329000"/>
              <a:chOff x="3352680" y="1430280"/>
              <a:chExt cx="896760" cy="4329000"/>
            </a:xfrm>
          </p:grpSpPr>
          <p:sp>
            <p:nvSpPr>
              <p:cNvPr id="422" name=""/>
              <p:cNvSpPr/>
              <p:nvPr/>
            </p:nvSpPr>
            <p:spPr>
              <a:xfrm>
                <a:off x="3352680" y="1836720"/>
                <a:ext cx="621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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3352680" y="2952720"/>
                <a:ext cx="54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2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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352680" y="4173480"/>
                <a:ext cx="621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3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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5" name=""/>
              <p:cNvGrpSpPr/>
              <p:nvPr/>
            </p:nvGrpSpPr>
            <p:grpSpPr>
              <a:xfrm>
                <a:off x="3782880" y="1430280"/>
                <a:ext cx="466560" cy="4329000"/>
                <a:chOff x="3782880" y="1430280"/>
                <a:chExt cx="466560" cy="4329000"/>
              </a:xfrm>
            </p:grpSpPr>
            <p:grpSp>
              <p:nvGrpSpPr>
                <p:cNvPr id="426" name=""/>
                <p:cNvGrpSpPr/>
                <p:nvPr/>
              </p:nvGrpSpPr>
              <p:grpSpPr>
                <a:xfrm>
                  <a:off x="3785760" y="1430280"/>
                  <a:ext cx="463680" cy="3371400"/>
                  <a:chOff x="3785760" y="1430280"/>
                  <a:chExt cx="463680" cy="3371400"/>
                </a:xfrm>
              </p:grpSpPr>
              <p:grpSp>
                <p:nvGrpSpPr>
                  <p:cNvPr id="427" name=""/>
                  <p:cNvGrpSpPr/>
                  <p:nvPr/>
                </p:nvGrpSpPr>
                <p:grpSpPr>
                  <a:xfrm>
                    <a:off x="3785760" y="3697200"/>
                    <a:ext cx="463680" cy="1104480"/>
                    <a:chOff x="3785760" y="3697200"/>
                    <a:chExt cx="463680" cy="1104480"/>
                  </a:xfrm>
                </p:grpSpPr>
                <p:sp>
                  <p:nvSpPr>
                    <p:cNvPr id="428" name=""/>
                    <p:cNvSpPr/>
                    <p:nvPr/>
                  </p:nvSpPr>
                  <p:spPr>
                    <a:xfrm>
                      <a:off x="3971160" y="3835080"/>
                      <a:ext cx="277920" cy="68760"/>
                    </a:xfrm>
                    <a:prstGeom prst="line">
                      <a:avLst/>
                    </a:prstGeom>
                    <a:ln w="19080">
                      <a:solidFill>
                        <a:srgbClr val="00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960" bIns="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9" name=""/>
                    <p:cNvSpPr/>
                    <p:nvPr/>
                  </p:nvSpPr>
                  <p:spPr>
                    <a:xfrm flipH="1">
                      <a:off x="3785760" y="3904200"/>
                      <a:ext cx="463320" cy="137880"/>
                    </a:xfrm>
                    <a:prstGeom prst="line">
                      <a:avLst/>
                    </a:prstGeom>
                    <a:ln w="19080">
                      <a:solidFill>
                        <a:srgbClr val="00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3786120" y="4042440"/>
                      <a:ext cx="463320" cy="103320"/>
                    </a:xfrm>
                    <a:prstGeom prst="line">
                      <a:avLst/>
                    </a:prstGeom>
                    <a:ln w="19080">
                      <a:solidFill>
                        <a:srgbClr val="00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1" name=""/>
                    <p:cNvSpPr/>
                    <p:nvPr/>
                  </p:nvSpPr>
                  <p:spPr>
                    <a:xfrm flipH="1">
                      <a:off x="3785760" y="4146120"/>
                      <a:ext cx="463320" cy="103320"/>
                    </a:xfrm>
                    <a:prstGeom prst="line">
                      <a:avLst/>
                    </a:prstGeom>
                    <a:ln w="19080">
                      <a:solidFill>
                        <a:srgbClr val="00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3786120" y="4249440"/>
                      <a:ext cx="463320" cy="103320"/>
                    </a:xfrm>
                    <a:prstGeom prst="line">
                      <a:avLst/>
                    </a:prstGeom>
                    <a:ln w="19080">
                      <a:solidFill>
                        <a:srgbClr val="00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3971160" y="4663800"/>
                      <a:ext cx="0" cy="137880"/>
                    </a:xfrm>
                    <a:prstGeom prst="line">
                      <a:avLst/>
                    </a:prstGeom>
                    <a:ln w="19080">
                      <a:solidFill>
                        <a:srgbClr val="00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4" name=""/>
                    <p:cNvSpPr/>
                    <p:nvPr/>
                  </p:nvSpPr>
                  <p:spPr>
                    <a:xfrm>
                      <a:off x="3971160" y="3697200"/>
                      <a:ext cx="0" cy="137880"/>
                    </a:xfrm>
                    <a:prstGeom prst="line">
                      <a:avLst/>
                    </a:prstGeom>
                    <a:ln w="19080">
                      <a:solidFill>
                        <a:srgbClr val="00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5" name=""/>
                    <p:cNvSpPr/>
                    <p:nvPr/>
                  </p:nvSpPr>
                  <p:spPr>
                    <a:xfrm flipH="1">
                      <a:off x="3785760" y="4353120"/>
                      <a:ext cx="463320" cy="103320"/>
                    </a:xfrm>
                    <a:prstGeom prst="line">
                      <a:avLst/>
                    </a:prstGeom>
                    <a:ln w="19080">
                      <a:solidFill>
                        <a:srgbClr val="00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6" name=""/>
                    <p:cNvSpPr/>
                    <p:nvPr/>
                  </p:nvSpPr>
                  <p:spPr>
                    <a:xfrm>
                      <a:off x="3786120" y="4456800"/>
                      <a:ext cx="463320" cy="103320"/>
                    </a:xfrm>
                    <a:prstGeom prst="line">
                      <a:avLst/>
                    </a:prstGeom>
                    <a:ln w="19080">
                      <a:solidFill>
                        <a:srgbClr val="00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7" name=""/>
                    <p:cNvSpPr/>
                    <p:nvPr/>
                  </p:nvSpPr>
                  <p:spPr>
                    <a:xfrm flipV="1">
                      <a:off x="3971160" y="4559760"/>
                      <a:ext cx="277920" cy="103320"/>
                    </a:xfrm>
                    <a:prstGeom prst="line">
                      <a:avLst/>
                    </a:prstGeom>
                    <a:ln w="19080">
                      <a:solidFill>
                        <a:srgbClr val="00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8" name=""/>
                  <p:cNvGrpSpPr/>
                  <p:nvPr/>
                </p:nvGrpSpPr>
                <p:grpSpPr>
                  <a:xfrm>
                    <a:off x="3843000" y="2535120"/>
                    <a:ext cx="290880" cy="1104480"/>
                    <a:chOff x="3843000" y="2535120"/>
                    <a:chExt cx="290880" cy="1104480"/>
                  </a:xfrm>
                </p:grpSpPr>
                <p:sp>
                  <p:nvSpPr>
                    <p:cNvPr id="439" name=""/>
                    <p:cNvSpPr/>
                    <p:nvPr/>
                  </p:nvSpPr>
                  <p:spPr>
                    <a:xfrm>
                      <a:off x="3959280" y="2673000"/>
                      <a:ext cx="174240" cy="68760"/>
                    </a:xfrm>
                    <a:prstGeom prst="line">
                      <a:avLst/>
                    </a:prstGeom>
                    <a:ln w="19080">
                      <a:solidFill>
                        <a:srgbClr val="00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960" bIns="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0" name=""/>
                    <p:cNvSpPr/>
                    <p:nvPr/>
                  </p:nvSpPr>
                  <p:spPr>
                    <a:xfrm flipH="1">
                      <a:off x="3843000" y="2742120"/>
                      <a:ext cx="290520" cy="137880"/>
                    </a:xfrm>
                    <a:prstGeom prst="line">
                      <a:avLst/>
                    </a:prstGeom>
                    <a:ln w="19080">
                      <a:solidFill>
                        <a:srgbClr val="00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1" name=""/>
                    <p:cNvSpPr/>
                    <p:nvPr/>
                  </p:nvSpPr>
                  <p:spPr>
                    <a:xfrm>
                      <a:off x="3843360" y="2880360"/>
                      <a:ext cx="290520" cy="103320"/>
                    </a:xfrm>
                    <a:prstGeom prst="line">
                      <a:avLst/>
                    </a:prstGeom>
                    <a:ln w="19080">
                      <a:solidFill>
                        <a:srgbClr val="00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2" name=""/>
                    <p:cNvSpPr/>
                    <p:nvPr/>
                  </p:nvSpPr>
                  <p:spPr>
                    <a:xfrm flipH="1">
                      <a:off x="3843000" y="2984040"/>
                      <a:ext cx="290520" cy="103320"/>
                    </a:xfrm>
                    <a:prstGeom prst="line">
                      <a:avLst/>
                    </a:prstGeom>
                    <a:ln w="19080">
                      <a:solidFill>
                        <a:srgbClr val="00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3" name=""/>
                    <p:cNvSpPr/>
                    <p:nvPr/>
                  </p:nvSpPr>
                  <p:spPr>
                    <a:xfrm>
                      <a:off x="3843360" y="3087360"/>
                      <a:ext cx="290520" cy="103320"/>
                    </a:xfrm>
                    <a:prstGeom prst="line">
                      <a:avLst/>
                    </a:prstGeom>
                    <a:ln w="19080">
                      <a:solidFill>
                        <a:srgbClr val="00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4" name=""/>
                    <p:cNvSpPr/>
                    <p:nvPr/>
                  </p:nvSpPr>
                  <p:spPr>
                    <a:xfrm>
                      <a:off x="3959280" y="3501720"/>
                      <a:ext cx="0" cy="137880"/>
                    </a:xfrm>
                    <a:prstGeom prst="line">
                      <a:avLst/>
                    </a:prstGeom>
                    <a:ln w="19080">
                      <a:solidFill>
                        <a:srgbClr val="00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5" name=""/>
                    <p:cNvSpPr/>
                    <p:nvPr/>
                  </p:nvSpPr>
                  <p:spPr>
                    <a:xfrm>
                      <a:off x="3959280" y="2535120"/>
                      <a:ext cx="0" cy="137880"/>
                    </a:xfrm>
                    <a:prstGeom prst="line">
                      <a:avLst/>
                    </a:prstGeom>
                    <a:ln w="19080">
                      <a:solidFill>
                        <a:srgbClr val="00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6" name=""/>
                    <p:cNvSpPr/>
                    <p:nvPr/>
                  </p:nvSpPr>
                  <p:spPr>
                    <a:xfrm flipH="1">
                      <a:off x="3843000" y="3191040"/>
                      <a:ext cx="290520" cy="103320"/>
                    </a:xfrm>
                    <a:prstGeom prst="line">
                      <a:avLst/>
                    </a:prstGeom>
                    <a:ln w="19080">
                      <a:solidFill>
                        <a:srgbClr val="00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7" name=""/>
                    <p:cNvSpPr/>
                    <p:nvPr/>
                  </p:nvSpPr>
                  <p:spPr>
                    <a:xfrm>
                      <a:off x="3843360" y="3294720"/>
                      <a:ext cx="290520" cy="103320"/>
                    </a:xfrm>
                    <a:prstGeom prst="line">
                      <a:avLst/>
                    </a:prstGeom>
                    <a:ln w="19080">
                      <a:solidFill>
                        <a:srgbClr val="00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8" name=""/>
                    <p:cNvSpPr/>
                    <p:nvPr/>
                  </p:nvSpPr>
                  <p:spPr>
                    <a:xfrm flipV="1">
                      <a:off x="3959280" y="3397680"/>
                      <a:ext cx="174240" cy="103320"/>
                    </a:xfrm>
                    <a:prstGeom prst="line">
                      <a:avLst/>
                    </a:prstGeom>
                    <a:ln w="19080">
                      <a:solidFill>
                        <a:srgbClr val="00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49" name=""/>
                  <p:cNvGrpSpPr/>
                  <p:nvPr/>
                </p:nvGrpSpPr>
                <p:grpSpPr>
                  <a:xfrm>
                    <a:off x="3902040" y="1430280"/>
                    <a:ext cx="115920" cy="1046160"/>
                    <a:chOff x="3902040" y="1430280"/>
                    <a:chExt cx="115920" cy="1046160"/>
                  </a:xfrm>
                </p:grpSpPr>
                <p:sp>
                  <p:nvSpPr>
                    <p:cNvPr id="450" name=""/>
                    <p:cNvSpPr/>
                    <p:nvPr/>
                  </p:nvSpPr>
                  <p:spPr>
                    <a:xfrm>
                      <a:off x="3948480" y="1560960"/>
                      <a:ext cx="69480" cy="65160"/>
                    </a:xfrm>
                    <a:prstGeom prst="line">
                      <a:avLst/>
                    </a:prstGeom>
                    <a:ln w="19080">
                      <a:solidFill>
                        <a:srgbClr val="00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360" bIns="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1" name=""/>
                    <p:cNvSpPr/>
                    <p:nvPr/>
                  </p:nvSpPr>
                  <p:spPr>
                    <a:xfrm flipH="1">
                      <a:off x="3902040" y="1626120"/>
                      <a:ext cx="115920" cy="130680"/>
                    </a:xfrm>
                    <a:prstGeom prst="line">
                      <a:avLst/>
                    </a:prstGeom>
                    <a:ln w="19080">
                      <a:solidFill>
                        <a:srgbClr val="00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2" name=""/>
                    <p:cNvSpPr/>
                    <p:nvPr/>
                  </p:nvSpPr>
                  <p:spPr>
                    <a:xfrm>
                      <a:off x="3902040" y="1757160"/>
                      <a:ext cx="115920" cy="97920"/>
                    </a:xfrm>
                    <a:prstGeom prst="line">
                      <a:avLst/>
                    </a:prstGeom>
                    <a:ln w="19080">
                      <a:solidFill>
                        <a:srgbClr val="00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3" name=""/>
                    <p:cNvSpPr/>
                    <p:nvPr/>
                  </p:nvSpPr>
                  <p:spPr>
                    <a:xfrm flipH="1">
                      <a:off x="3902040" y="1855080"/>
                      <a:ext cx="115920" cy="97920"/>
                    </a:xfrm>
                    <a:prstGeom prst="line">
                      <a:avLst/>
                    </a:prstGeom>
                    <a:ln w="19080">
                      <a:solidFill>
                        <a:srgbClr val="00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4" name=""/>
                    <p:cNvSpPr/>
                    <p:nvPr/>
                  </p:nvSpPr>
                  <p:spPr>
                    <a:xfrm>
                      <a:off x="3902040" y="1953360"/>
                      <a:ext cx="115920" cy="97920"/>
                    </a:xfrm>
                    <a:prstGeom prst="line">
                      <a:avLst/>
                    </a:prstGeom>
                    <a:ln w="19080">
                      <a:solidFill>
                        <a:srgbClr val="00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5" name=""/>
                    <p:cNvSpPr/>
                    <p:nvPr/>
                  </p:nvSpPr>
                  <p:spPr>
                    <a:xfrm>
                      <a:off x="3948480" y="2345760"/>
                      <a:ext cx="0" cy="130680"/>
                    </a:xfrm>
                    <a:prstGeom prst="line">
                      <a:avLst/>
                    </a:prstGeom>
                    <a:ln w="19080">
                      <a:solidFill>
                        <a:srgbClr val="00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6" name=""/>
                    <p:cNvSpPr/>
                    <p:nvPr/>
                  </p:nvSpPr>
                  <p:spPr>
                    <a:xfrm>
                      <a:off x="3948480" y="1430280"/>
                      <a:ext cx="0" cy="130680"/>
                    </a:xfrm>
                    <a:prstGeom prst="line">
                      <a:avLst/>
                    </a:prstGeom>
                    <a:ln w="19080">
                      <a:solidFill>
                        <a:srgbClr val="00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7" name=""/>
                    <p:cNvSpPr/>
                    <p:nvPr/>
                  </p:nvSpPr>
                  <p:spPr>
                    <a:xfrm flipH="1">
                      <a:off x="3902040" y="2051280"/>
                      <a:ext cx="115920" cy="97920"/>
                    </a:xfrm>
                    <a:prstGeom prst="line">
                      <a:avLst/>
                    </a:prstGeom>
                    <a:ln w="19080">
                      <a:solidFill>
                        <a:srgbClr val="00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8" name=""/>
                    <p:cNvSpPr/>
                    <p:nvPr/>
                  </p:nvSpPr>
                  <p:spPr>
                    <a:xfrm>
                      <a:off x="3902040" y="2149560"/>
                      <a:ext cx="115920" cy="97920"/>
                    </a:xfrm>
                    <a:prstGeom prst="line">
                      <a:avLst/>
                    </a:prstGeom>
                    <a:ln w="19080">
                      <a:solidFill>
                        <a:srgbClr val="00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9" name=""/>
                    <p:cNvSpPr/>
                    <p:nvPr/>
                  </p:nvSpPr>
                  <p:spPr>
                    <a:xfrm flipV="1">
                      <a:off x="3948480" y="2247480"/>
                      <a:ext cx="69480" cy="97920"/>
                    </a:xfrm>
                    <a:prstGeom prst="line">
                      <a:avLst/>
                    </a:prstGeom>
                    <a:ln w="19080">
                      <a:solidFill>
                        <a:srgbClr val="00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60" name=""/>
                <p:cNvSpPr/>
                <p:nvPr/>
              </p:nvSpPr>
              <p:spPr>
                <a:xfrm>
                  <a:off x="3782880" y="4729320"/>
                  <a:ext cx="358920" cy="1029960"/>
                </a:xfrm>
                <a:custGeom>
                  <a:avLst/>
                  <a:gdLst/>
                  <a:ahLst/>
                  <a:rect l="l" t="t" r="r" b="b"/>
                  <a:pathLst>
                    <a:path w="226" h="649">
                      <a:moveTo>
                        <a:pt x="101" y="649"/>
                      </a:moveTo>
                      <a:cubicBezTo>
                        <a:pt x="88" y="612"/>
                        <a:pt x="76" y="574"/>
                        <a:pt x="63" y="537"/>
                      </a:cubicBezTo>
                      <a:cubicBezTo>
                        <a:pt x="64" y="524"/>
                        <a:pt x="54" y="372"/>
                        <a:pt x="108" y="455"/>
                      </a:cubicBezTo>
                      <a:cubicBezTo>
                        <a:pt x="74" y="478"/>
                        <a:pt x="73" y="469"/>
                        <a:pt x="41" y="447"/>
                      </a:cubicBezTo>
                      <a:cubicBezTo>
                        <a:pt x="0" y="386"/>
                        <a:pt x="11" y="336"/>
                        <a:pt x="71" y="297"/>
                      </a:cubicBezTo>
                      <a:cubicBezTo>
                        <a:pt x="226" y="314"/>
                        <a:pt x="99" y="317"/>
                        <a:pt x="56" y="312"/>
                      </a:cubicBezTo>
                      <a:cubicBezTo>
                        <a:pt x="26" y="283"/>
                        <a:pt x="17" y="261"/>
                        <a:pt x="3" y="223"/>
                      </a:cubicBezTo>
                      <a:cubicBezTo>
                        <a:pt x="8" y="153"/>
                        <a:pt x="3" y="106"/>
                        <a:pt x="41" y="51"/>
                      </a:cubicBezTo>
                      <a:cubicBezTo>
                        <a:pt x="51" y="20"/>
                        <a:pt x="63" y="23"/>
                        <a:pt x="93" y="13"/>
                      </a:cubicBezTo>
                      <a:cubicBezTo>
                        <a:pt x="100" y="11"/>
                        <a:pt x="110" y="0"/>
                        <a:pt x="115" y="6"/>
                      </a:cubicBezTo>
                      <a:cubicBezTo>
                        <a:pt x="122" y="13"/>
                        <a:pt x="115" y="26"/>
                        <a:pt x="115" y="36"/>
                      </a:cubicBezTo>
                    </a:path>
                  </a:pathLst>
                </a:custGeom>
                <a:noFill/>
                <a:ln w="936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61" name=""/>
            <p:cNvGrpSpPr/>
            <p:nvPr/>
          </p:nvGrpSpPr>
          <p:grpSpPr>
            <a:xfrm>
              <a:off x="4648320" y="1430280"/>
              <a:ext cx="647280" cy="4351320"/>
              <a:chOff x="4648320" y="1430280"/>
              <a:chExt cx="647280" cy="4351320"/>
            </a:xfrm>
          </p:grpSpPr>
          <p:sp>
            <p:nvSpPr>
              <p:cNvPr id="462" name=""/>
              <p:cNvSpPr/>
              <p:nvPr/>
            </p:nvSpPr>
            <p:spPr>
              <a:xfrm>
                <a:off x="4648320" y="1836720"/>
                <a:ext cx="231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648320" y="2825640"/>
                <a:ext cx="231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648320" y="4114800"/>
                <a:ext cx="231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5" name=""/>
              <p:cNvGrpSpPr/>
              <p:nvPr/>
            </p:nvGrpSpPr>
            <p:grpSpPr>
              <a:xfrm>
                <a:off x="4759200" y="1430280"/>
                <a:ext cx="536400" cy="4351320"/>
                <a:chOff x="4759200" y="1430280"/>
                <a:chExt cx="536400" cy="4351320"/>
              </a:xfrm>
            </p:grpSpPr>
            <p:grpSp>
              <p:nvGrpSpPr>
                <p:cNvPr id="466" name=""/>
                <p:cNvGrpSpPr/>
                <p:nvPr/>
              </p:nvGrpSpPr>
              <p:grpSpPr>
                <a:xfrm>
                  <a:off x="4831920" y="1430280"/>
                  <a:ext cx="463680" cy="3371400"/>
                  <a:chOff x="4831920" y="1430280"/>
                  <a:chExt cx="463680" cy="3371400"/>
                </a:xfrm>
              </p:grpSpPr>
              <p:grpSp>
                <p:nvGrpSpPr>
                  <p:cNvPr id="467" name=""/>
                  <p:cNvGrpSpPr/>
                  <p:nvPr/>
                </p:nvGrpSpPr>
                <p:grpSpPr>
                  <a:xfrm>
                    <a:off x="4831920" y="3697200"/>
                    <a:ext cx="463680" cy="1104480"/>
                    <a:chOff x="4831920" y="3697200"/>
                    <a:chExt cx="463680" cy="1104480"/>
                  </a:xfrm>
                </p:grpSpPr>
                <p:sp>
                  <p:nvSpPr>
                    <p:cNvPr id="468" name=""/>
                    <p:cNvSpPr/>
                    <p:nvPr/>
                  </p:nvSpPr>
                  <p:spPr>
                    <a:xfrm>
                      <a:off x="5017320" y="3835080"/>
                      <a:ext cx="277920" cy="68760"/>
                    </a:xfrm>
                    <a:prstGeom prst="line">
                      <a:avLst/>
                    </a:prstGeom>
                    <a:ln w="19080">
                      <a:solidFill>
                        <a:srgbClr val="00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960" bIns="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9" name=""/>
                    <p:cNvSpPr/>
                    <p:nvPr/>
                  </p:nvSpPr>
                  <p:spPr>
                    <a:xfrm flipH="1">
                      <a:off x="4831920" y="3904200"/>
                      <a:ext cx="463320" cy="137880"/>
                    </a:xfrm>
                    <a:prstGeom prst="line">
                      <a:avLst/>
                    </a:prstGeom>
                    <a:ln w="19080">
                      <a:solidFill>
                        <a:srgbClr val="00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0" name=""/>
                    <p:cNvSpPr/>
                    <p:nvPr/>
                  </p:nvSpPr>
                  <p:spPr>
                    <a:xfrm>
                      <a:off x="4832280" y="4042440"/>
                      <a:ext cx="463320" cy="103320"/>
                    </a:xfrm>
                    <a:prstGeom prst="line">
                      <a:avLst/>
                    </a:prstGeom>
                    <a:ln w="19080">
                      <a:solidFill>
                        <a:srgbClr val="00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1" name=""/>
                    <p:cNvSpPr/>
                    <p:nvPr/>
                  </p:nvSpPr>
                  <p:spPr>
                    <a:xfrm flipH="1">
                      <a:off x="4831920" y="4146120"/>
                      <a:ext cx="463320" cy="103320"/>
                    </a:xfrm>
                    <a:prstGeom prst="line">
                      <a:avLst/>
                    </a:prstGeom>
                    <a:ln w="19080">
                      <a:solidFill>
                        <a:srgbClr val="00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2" name=""/>
                    <p:cNvSpPr/>
                    <p:nvPr/>
                  </p:nvSpPr>
                  <p:spPr>
                    <a:xfrm>
                      <a:off x="4832280" y="4249440"/>
                      <a:ext cx="463320" cy="103320"/>
                    </a:xfrm>
                    <a:prstGeom prst="line">
                      <a:avLst/>
                    </a:prstGeom>
                    <a:ln w="19080">
                      <a:solidFill>
                        <a:srgbClr val="00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3" name=""/>
                    <p:cNvSpPr/>
                    <p:nvPr/>
                  </p:nvSpPr>
                  <p:spPr>
                    <a:xfrm>
                      <a:off x="5017320" y="4663800"/>
                      <a:ext cx="0" cy="137880"/>
                    </a:xfrm>
                    <a:prstGeom prst="line">
                      <a:avLst/>
                    </a:prstGeom>
                    <a:ln w="19080">
                      <a:solidFill>
                        <a:srgbClr val="00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4" name=""/>
                    <p:cNvSpPr/>
                    <p:nvPr/>
                  </p:nvSpPr>
                  <p:spPr>
                    <a:xfrm>
                      <a:off x="5017320" y="3697200"/>
                      <a:ext cx="0" cy="137880"/>
                    </a:xfrm>
                    <a:prstGeom prst="line">
                      <a:avLst/>
                    </a:prstGeom>
                    <a:ln w="19080">
                      <a:solidFill>
                        <a:srgbClr val="00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5" name=""/>
                    <p:cNvSpPr/>
                    <p:nvPr/>
                  </p:nvSpPr>
                  <p:spPr>
                    <a:xfrm flipH="1">
                      <a:off x="4831920" y="4353120"/>
                      <a:ext cx="463320" cy="103320"/>
                    </a:xfrm>
                    <a:prstGeom prst="line">
                      <a:avLst/>
                    </a:prstGeom>
                    <a:ln w="19080">
                      <a:solidFill>
                        <a:srgbClr val="00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6" name=""/>
                    <p:cNvSpPr/>
                    <p:nvPr/>
                  </p:nvSpPr>
                  <p:spPr>
                    <a:xfrm>
                      <a:off x="4832280" y="4456800"/>
                      <a:ext cx="463320" cy="103320"/>
                    </a:xfrm>
                    <a:prstGeom prst="line">
                      <a:avLst/>
                    </a:prstGeom>
                    <a:ln w="19080">
                      <a:solidFill>
                        <a:srgbClr val="00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7" name=""/>
                    <p:cNvSpPr/>
                    <p:nvPr/>
                  </p:nvSpPr>
                  <p:spPr>
                    <a:xfrm flipV="1">
                      <a:off x="5017320" y="4559760"/>
                      <a:ext cx="277920" cy="103320"/>
                    </a:xfrm>
                    <a:prstGeom prst="line">
                      <a:avLst/>
                    </a:prstGeom>
                    <a:ln w="19080">
                      <a:solidFill>
                        <a:srgbClr val="00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78" name=""/>
                  <p:cNvGrpSpPr/>
                  <p:nvPr/>
                </p:nvGrpSpPr>
                <p:grpSpPr>
                  <a:xfrm>
                    <a:off x="4889160" y="2535120"/>
                    <a:ext cx="290880" cy="1104480"/>
                    <a:chOff x="4889160" y="2535120"/>
                    <a:chExt cx="290880" cy="1104480"/>
                  </a:xfrm>
                </p:grpSpPr>
                <p:sp>
                  <p:nvSpPr>
                    <p:cNvPr id="479" name=""/>
                    <p:cNvSpPr/>
                    <p:nvPr/>
                  </p:nvSpPr>
                  <p:spPr>
                    <a:xfrm>
                      <a:off x="5005440" y="2673000"/>
                      <a:ext cx="174240" cy="68760"/>
                    </a:xfrm>
                    <a:prstGeom prst="line">
                      <a:avLst/>
                    </a:prstGeom>
                    <a:ln w="19080">
                      <a:solidFill>
                        <a:srgbClr val="00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960" bIns="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0" name=""/>
                    <p:cNvSpPr/>
                    <p:nvPr/>
                  </p:nvSpPr>
                  <p:spPr>
                    <a:xfrm flipH="1">
                      <a:off x="4889160" y="2742120"/>
                      <a:ext cx="290520" cy="137880"/>
                    </a:xfrm>
                    <a:prstGeom prst="line">
                      <a:avLst/>
                    </a:prstGeom>
                    <a:ln w="19080">
                      <a:solidFill>
                        <a:srgbClr val="00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1" name=""/>
                    <p:cNvSpPr/>
                    <p:nvPr/>
                  </p:nvSpPr>
                  <p:spPr>
                    <a:xfrm>
                      <a:off x="4889520" y="2880360"/>
                      <a:ext cx="290520" cy="103320"/>
                    </a:xfrm>
                    <a:prstGeom prst="line">
                      <a:avLst/>
                    </a:prstGeom>
                    <a:ln w="19080">
                      <a:solidFill>
                        <a:srgbClr val="00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2" name=""/>
                    <p:cNvSpPr/>
                    <p:nvPr/>
                  </p:nvSpPr>
                  <p:spPr>
                    <a:xfrm flipH="1">
                      <a:off x="4889160" y="2984040"/>
                      <a:ext cx="290520" cy="103320"/>
                    </a:xfrm>
                    <a:prstGeom prst="line">
                      <a:avLst/>
                    </a:prstGeom>
                    <a:ln w="19080">
                      <a:solidFill>
                        <a:srgbClr val="00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3" name=""/>
                    <p:cNvSpPr/>
                    <p:nvPr/>
                  </p:nvSpPr>
                  <p:spPr>
                    <a:xfrm>
                      <a:off x="4889520" y="3087360"/>
                      <a:ext cx="290520" cy="103320"/>
                    </a:xfrm>
                    <a:prstGeom prst="line">
                      <a:avLst/>
                    </a:prstGeom>
                    <a:ln w="19080">
                      <a:solidFill>
                        <a:srgbClr val="00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4" name=""/>
                    <p:cNvSpPr/>
                    <p:nvPr/>
                  </p:nvSpPr>
                  <p:spPr>
                    <a:xfrm>
                      <a:off x="5005440" y="3501720"/>
                      <a:ext cx="0" cy="137880"/>
                    </a:xfrm>
                    <a:prstGeom prst="line">
                      <a:avLst/>
                    </a:prstGeom>
                    <a:ln w="19080">
                      <a:solidFill>
                        <a:srgbClr val="00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5" name=""/>
                    <p:cNvSpPr/>
                    <p:nvPr/>
                  </p:nvSpPr>
                  <p:spPr>
                    <a:xfrm>
                      <a:off x="5005440" y="2535120"/>
                      <a:ext cx="0" cy="137880"/>
                    </a:xfrm>
                    <a:prstGeom prst="line">
                      <a:avLst/>
                    </a:prstGeom>
                    <a:ln w="19080">
                      <a:solidFill>
                        <a:srgbClr val="00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6" name=""/>
                    <p:cNvSpPr/>
                    <p:nvPr/>
                  </p:nvSpPr>
                  <p:spPr>
                    <a:xfrm flipH="1">
                      <a:off x="4889160" y="3191040"/>
                      <a:ext cx="290520" cy="103320"/>
                    </a:xfrm>
                    <a:prstGeom prst="line">
                      <a:avLst/>
                    </a:prstGeom>
                    <a:ln w="19080">
                      <a:solidFill>
                        <a:srgbClr val="00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7" name=""/>
                    <p:cNvSpPr/>
                    <p:nvPr/>
                  </p:nvSpPr>
                  <p:spPr>
                    <a:xfrm>
                      <a:off x="4889520" y="3294720"/>
                      <a:ext cx="290520" cy="103320"/>
                    </a:xfrm>
                    <a:prstGeom prst="line">
                      <a:avLst/>
                    </a:prstGeom>
                    <a:ln w="19080">
                      <a:solidFill>
                        <a:srgbClr val="00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8" name=""/>
                    <p:cNvSpPr/>
                    <p:nvPr/>
                  </p:nvSpPr>
                  <p:spPr>
                    <a:xfrm flipV="1">
                      <a:off x="5005440" y="3397680"/>
                      <a:ext cx="174240" cy="103320"/>
                    </a:xfrm>
                    <a:prstGeom prst="line">
                      <a:avLst/>
                    </a:prstGeom>
                    <a:ln w="19080">
                      <a:solidFill>
                        <a:srgbClr val="00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89" name=""/>
                  <p:cNvGrpSpPr/>
                  <p:nvPr/>
                </p:nvGrpSpPr>
                <p:grpSpPr>
                  <a:xfrm>
                    <a:off x="4948200" y="1430280"/>
                    <a:ext cx="115920" cy="1046160"/>
                    <a:chOff x="4948200" y="1430280"/>
                    <a:chExt cx="115920" cy="1046160"/>
                  </a:xfrm>
                </p:grpSpPr>
                <p:sp>
                  <p:nvSpPr>
                    <p:cNvPr id="490" name=""/>
                    <p:cNvSpPr/>
                    <p:nvPr/>
                  </p:nvSpPr>
                  <p:spPr>
                    <a:xfrm>
                      <a:off x="4994640" y="1560960"/>
                      <a:ext cx="69480" cy="65160"/>
                    </a:xfrm>
                    <a:prstGeom prst="line">
                      <a:avLst/>
                    </a:prstGeom>
                    <a:ln w="19080">
                      <a:solidFill>
                        <a:srgbClr val="00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360" bIns="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1" name=""/>
                    <p:cNvSpPr/>
                    <p:nvPr/>
                  </p:nvSpPr>
                  <p:spPr>
                    <a:xfrm flipH="1">
                      <a:off x="4948200" y="1626120"/>
                      <a:ext cx="115920" cy="130680"/>
                    </a:xfrm>
                    <a:prstGeom prst="line">
                      <a:avLst/>
                    </a:prstGeom>
                    <a:ln w="19080">
                      <a:solidFill>
                        <a:srgbClr val="00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2" name=""/>
                    <p:cNvSpPr/>
                    <p:nvPr/>
                  </p:nvSpPr>
                  <p:spPr>
                    <a:xfrm>
                      <a:off x="4948200" y="1757160"/>
                      <a:ext cx="115920" cy="97920"/>
                    </a:xfrm>
                    <a:prstGeom prst="line">
                      <a:avLst/>
                    </a:prstGeom>
                    <a:ln w="19080">
                      <a:solidFill>
                        <a:srgbClr val="00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3" name=""/>
                    <p:cNvSpPr/>
                    <p:nvPr/>
                  </p:nvSpPr>
                  <p:spPr>
                    <a:xfrm flipH="1">
                      <a:off x="4948200" y="1855080"/>
                      <a:ext cx="115920" cy="97920"/>
                    </a:xfrm>
                    <a:prstGeom prst="line">
                      <a:avLst/>
                    </a:prstGeom>
                    <a:ln w="19080">
                      <a:solidFill>
                        <a:srgbClr val="00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4" name=""/>
                    <p:cNvSpPr/>
                    <p:nvPr/>
                  </p:nvSpPr>
                  <p:spPr>
                    <a:xfrm>
                      <a:off x="4948200" y="1953360"/>
                      <a:ext cx="115920" cy="97920"/>
                    </a:xfrm>
                    <a:prstGeom prst="line">
                      <a:avLst/>
                    </a:prstGeom>
                    <a:ln w="19080">
                      <a:solidFill>
                        <a:srgbClr val="00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5" name=""/>
                    <p:cNvSpPr/>
                    <p:nvPr/>
                  </p:nvSpPr>
                  <p:spPr>
                    <a:xfrm>
                      <a:off x="4994640" y="2345760"/>
                      <a:ext cx="0" cy="130680"/>
                    </a:xfrm>
                    <a:prstGeom prst="line">
                      <a:avLst/>
                    </a:prstGeom>
                    <a:ln w="19080">
                      <a:solidFill>
                        <a:srgbClr val="00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6" name=""/>
                    <p:cNvSpPr/>
                    <p:nvPr/>
                  </p:nvSpPr>
                  <p:spPr>
                    <a:xfrm>
                      <a:off x="4994640" y="1430280"/>
                      <a:ext cx="0" cy="130680"/>
                    </a:xfrm>
                    <a:prstGeom prst="line">
                      <a:avLst/>
                    </a:prstGeom>
                    <a:ln w="19080">
                      <a:solidFill>
                        <a:srgbClr val="00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7" name=""/>
                    <p:cNvSpPr/>
                    <p:nvPr/>
                  </p:nvSpPr>
                  <p:spPr>
                    <a:xfrm flipH="1">
                      <a:off x="4948200" y="2051280"/>
                      <a:ext cx="115920" cy="97920"/>
                    </a:xfrm>
                    <a:prstGeom prst="line">
                      <a:avLst/>
                    </a:prstGeom>
                    <a:ln w="19080">
                      <a:solidFill>
                        <a:srgbClr val="00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8" name=""/>
                    <p:cNvSpPr/>
                    <p:nvPr/>
                  </p:nvSpPr>
                  <p:spPr>
                    <a:xfrm>
                      <a:off x="4948200" y="2149560"/>
                      <a:ext cx="115920" cy="97920"/>
                    </a:xfrm>
                    <a:prstGeom prst="line">
                      <a:avLst/>
                    </a:prstGeom>
                    <a:ln w="19080">
                      <a:solidFill>
                        <a:srgbClr val="00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9" name=""/>
                    <p:cNvSpPr/>
                    <p:nvPr/>
                  </p:nvSpPr>
                  <p:spPr>
                    <a:xfrm flipV="1">
                      <a:off x="4994640" y="2247480"/>
                      <a:ext cx="69480" cy="97920"/>
                    </a:xfrm>
                    <a:prstGeom prst="line">
                      <a:avLst/>
                    </a:prstGeom>
                    <a:ln w="19080">
                      <a:solidFill>
                        <a:srgbClr val="00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500" name=""/>
                <p:cNvSpPr/>
                <p:nvPr/>
              </p:nvSpPr>
              <p:spPr>
                <a:xfrm>
                  <a:off x="4759200" y="4746600"/>
                  <a:ext cx="300240" cy="1035000"/>
                </a:xfrm>
                <a:custGeom>
                  <a:avLst/>
                  <a:gdLst/>
                  <a:ahLst/>
                  <a:rect l="l" t="t" r="r" b="b"/>
                  <a:pathLst>
                    <a:path w="189" h="652">
                      <a:moveTo>
                        <a:pt x="129" y="646"/>
                      </a:moveTo>
                      <a:cubicBezTo>
                        <a:pt x="111" y="595"/>
                        <a:pt x="136" y="652"/>
                        <a:pt x="91" y="601"/>
                      </a:cubicBezTo>
                      <a:cubicBezTo>
                        <a:pt x="57" y="562"/>
                        <a:pt x="43" y="515"/>
                        <a:pt x="32" y="466"/>
                      </a:cubicBezTo>
                      <a:cubicBezTo>
                        <a:pt x="34" y="446"/>
                        <a:pt x="22" y="417"/>
                        <a:pt x="39" y="406"/>
                      </a:cubicBezTo>
                      <a:cubicBezTo>
                        <a:pt x="105" y="364"/>
                        <a:pt x="111" y="406"/>
                        <a:pt x="121" y="436"/>
                      </a:cubicBezTo>
                      <a:cubicBezTo>
                        <a:pt x="86" y="473"/>
                        <a:pt x="62" y="473"/>
                        <a:pt x="32" y="429"/>
                      </a:cubicBezTo>
                      <a:cubicBezTo>
                        <a:pt x="22" y="391"/>
                        <a:pt x="9" y="362"/>
                        <a:pt x="54" y="346"/>
                      </a:cubicBezTo>
                      <a:cubicBezTo>
                        <a:pt x="76" y="349"/>
                        <a:pt x="102" y="342"/>
                        <a:pt x="121" y="354"/>
                      </a:cubicBezTo>
                      <a:cubicBezTo>
                        <a:pt x="130" y="360"/>
                        <a:pt x="102" y="368"/>
                        <a:pt x="91" y="369"/>
                      </a:cubicBezTo>
                      <a:cubicBezTo>
                        <a:pt x="81" y="370"/>
                        <a:pt x="72" y="364"/>
                        <a:pt x="62" y="361"/>
                      </a:cubicBezTo>
                      <a:cubicBezTo>
                        <a:pt x="0" y="320"/>
                        <a:pt x="16" y="259"/>
                        <a:pt x="32" y="182"/>
                      </a:cubicBezTo>
                      <a:cubicBezTo>
                        <a:pt x="32" y="181"/>
                        <a:pt x="75" y="167"/>
                        <a:pt x="76" y="167"/>
                      </a:cubicBezTo>
                      <a:cubicBezTo>
                        <a:pt x="121" y="181"/>
                        <a:pt x="119" y="187"/>
                        <a:pt x="99" y="227"/>
                      </a:cubicBezTo>
                      <a:cubicBezTo>
                        <a:pt x="79" y="224"/>
                        <a:pt x="52" y="234"/>
                        <a:pt x="39" y="219"/>
                      </a:cubicBezTo>
                      <a:cubicBezTo>
                        <a:pt x="14" y="190"/>
                        <a:pt x="73" y="124"/>
                        <a:pt x="99" y="107"/>
                      </a:cubicBezTo>
                      <a:cubicBezTo>
                        <a:pt x="114" y="85"/>
                        <a:pt x="122" y="55"/>
                        <a:pt x="144" y="40"/>
                      </a:cubicBezTo>
                      <a:cubicBezTo>
                        <a:pt x="159" y="30"/>
                        <a:pt x="189" y="10"/>
                        <a:pt x="189" y="10"/>
                      </a:cubicBezTo>
                      <a:cubicBezTo>
                        <a:pt x="161" y="0"/>
                        <a:pt x="174" y="2"/>
                        <a:pt x="151" y="2"/>
                      </a:cubicBezTo>
                    </a:path>
                  </a:pathLst>
                </a:custGeom>
                <a:noFill/>
                <a:ln w="936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01" name=""/>
            <p:cNvGrpSpPr/>
            <p:nvPr/>
          </p:nvGrpSpPr>
          <p:grpSpPr>
            <a:xfrm>
              <a:off x="5715000" y="1430280"/>
              <a:ext cx="617040" cy="4343400"/>
              <a:chOff x="5715000" y="1430280"/>
              <a:chExt cx="617040" cy="4343400"/>
            </a:xfrm>
          </p:grpSpPr>
          <p:sp>
            <p:nvSpPr>
              <p:cNvPr id="502" name=""/>
              <p:cNvSpPr/>
              <p:nvPr/>
            </p:nvSpPr>
            <p:spPr>
              <a:xfrm>
                <a:off x="5715000" y="1851120"/>
                <a:ext cx="231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715000" y="2840040"/>
                <a:ext cx="231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715000" y="4129200"/>
                <a:ext cx="231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5" name=""/>
              <p:cNvGrpSpPr/>
              <p:nvPr/>
            </p:nvGrpSpPr>
            <p:grpSpPr>
              <a:xfrm>
                <a:off x="5865840" y="1430280"/>
                <a:ext cx="466200" cy="4343400"/>
                <a:chOff x="5865840" y="1430280"/>
                <a:chExt cx="466200" cy="4343400"/>
              </a:xfrm>
            </p:grpSpPr>
            <p:grpSp>
              <p:nvGrpSpPr>
                <p:cNvPr id="506" name=""/>
                <p:cNvGrpSpPr/>
                <p:nvPr/>
              </p:nvGrpSpPr>
              <p:grpSpPr>
                <a:xfrm>
                  <a:off x="5866920" y="1430280"/>
                  <a:ext cx="465120" cy="3331800"/>
                  <a:chOff x="5866920" y="1430280"/>
                  <a:chExt cx="465120" cy="3331800"/>
                </a:xfrm>
              </p:grpSpPr>
              <p:grpSp>
                <p:nvGrpSpPr>
                  <p:cNvPr id="507" name=""/>
                  <p:cNvGrpSpPr/>
                  <p:nvPr/>
                </p:nvGrpSpPr>
                <p:grpSpPr>
                  <a:xfrm>
                    <a:off x="5866920" y="3657600"/>
                    <a:ext cx="465120" cy="1104480"/>
                    <a:chOff x="5866920" y="3657600"/>
                    <a:chExt cx="465120" cy="1104480"/>
                  </a:xfrm>
                </p:grpSpPr>
                <p:sp>
                  <p:nvSpPr>
                    <p:cNvPr id="508" name=""/>
                    <p:cNvSpPr/>
                    <p:nvPr/>
                  </p:nvSpPr>
                  <p:spPr>
                    <a:xfrm>
                      <a:off x="6053040" y="3795480"/>
                      <a:ext cx="279000" cy="68760"/>
                    </a:xfrm>
                    <a:prstGeom prst="line">
                      <a:avLst/>
                    </a:prstGeom>
                    <a:ln w="19080">
                      <a:solidFill>
                        <a:srgbClr val="00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960" bIns="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9" name=""/>
                    <p:cNvSpPr/>
                    <p:nvPr/>
                  </p:nvSpPr>
                  <p:spPr>
                    <a:xfrm flipH="1">
                      <a:off x="5866920" y="3864600"/>
                      <a:ext cx="464760" cy="137880"/>
                    </a:xfrm>
                    <a:prstGeom prst="line">
                      <a:avLst/>
                    </a:prstGeom>
                    <a:ln w="19080">
                      <a:solidFill>
                        <a:srgbClr val="00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0" name=""/>
                    <p:cNvSpPr/>
                    <p:nvPr/>
                  </p:nvSpPr>
                  <p:spPr>
                    <a:xfrm>
                      <a:off x="5867280" y="4002840"/>
                      <a:ext cx="464760" cy="103320"/>
                    </a:xfrm>
                    <a:prstGeom prst="line">
                      <a:avLst/>
                    </a:prstGeom>
                    <a:ln w="19080">
                      <a:solidFill>
                        <a:srgbClr val="00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1" name=""/>
                    <p:cNvSpPr/>
                    <p:nvPr/>
                  </p:nvSpPr>
                  <p:spPr>
                    <a:xfrm flipH="1">
                      <a:off x="5866920" y="4106520"/>
                      <a:ext cx="464760" cy="103320"/>
                    </a:xfrm>
                    <a:prstGeom prst="line">
                      <a:avLst/>
                    </a:prstGeom>
                    <a:ln w="19080">
                      <a:solidFill>
                        <a:srgbClr val="00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2" name=""/>
                    <p:cNvSpPr/>
                    <p:nvPr/>
                  </p:nvSpPr>
                  <p:spPr>
                    <a:xfrm>
                      <a:off x="5867280" y="4209840"/>
                      <a:ext cx="464760" cy="103320"/>
                    </a:xfrm>
                    <a:prstGeom prst="line">
                      <a:avLst/>
                    </a:prstGeom>
                    <a:ln w="19080">
                      <a:solidFill>
                        <a:srgbClr val="00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3" name=""/>
                    <p:cNvSpPr/>
                    <p:nvPr/>
                  </p:nvSpPr>
                  <p:spPr>
                    <a:xfrm>
                      <a:off x="6053040" y="4624200"/>
                      <a:ext cx="0" cy="137880"/>
                    </a:xfrm>
                    <a:prstGeom prst="line">
                      <a:avLst/>
                    </a:prstGeom>
                    <a:ln w="19080">
                      <a:solidFill>
                        <a:srgbClr val="00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4" name=""/>
                    <p:cNvSpPr/>
                    <p:nvPr/>
                  </p:nvSpPr>
                  <p:spPr>
                    <a:xfrm>
                      <a:off x="6053040" y="3657600"/>
                      <a:ext cx="0" cy="137880"/>
                    </a:xfrm>
                    <a:prstGeom prst="line">
                      <a:avLst/>
                    </a:prstGeom>
                    <a:ln w="19080">
                      <a:solidFill>
                        <a:srgbClr val="00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5" name=""/>
                    <p:cNvSpPr/>
                    <p:nvPr/>
                  </p:nvSpPr>
                  <p:spPr>
                    <a:xfrm flipH="1">
                      <a:off x="5866920" y="4313520"/>
                      <a:ext cx="464760" cy="103320"/>
                    </a:xfrm>
                    <a:prstGeom prst="line">
                      <a:avLst/>
                    </a:prstGeom>
                    <a:ln w="19080">
                      <a:solidFill>
                        <a:srgbClr val="00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6" name=""/>
                    <p:cNvSpPr/>
                    <p:nvPr/>
                  </p:nvSpPr>
                  <p:spPr>
                    <a:xfrm>
                      <a:off x="5867280" y="4417200"/>
                      <a:ext cx="464760" cy="103320"/>
                    </a:xfrm>
                    <a:prstGeom prst="line">
                      <a:avLst/>
                    </a:prstGeom>
                    <a:ln w="19080">
                      <a:solidFill>
                        <a:srgbClr val="00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7" name=""/>
                    <p:cNvSpPr/>
                    <p:nvPr/>
                  </p:nvSpPr>
                  <p:spPr>
                    <a:xfrm flipV="1">
                      <a:off x="6053040" y="4520160"/>
                      <a:ext cx="279000" cy="103320"/>
                    </a:xfrm>
                    <a:prstGeom prst="line">
                      <a:avLst/>
                    </a:prstGeom>
                    <a:ln w="19080">
                      <a:solidFill>
                        <a:srgbClr val="00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18" name=""/>
                  <p:cNvGrpSpPr/>
                  <p:nvPr/>
                </p:nvGrpSpPr>
                <p:grpSpPr>
                  <a:xfrm>
                    <a:off x="5957640" y="2476440"/>
                    <a:ext cx="290880" cy="1104480"/>
                    <a:chOff x="5957640" y="2476440"/>
                    <a:chExt cx="290880" cy="1104480"/>
                  </a:xfrm>
                </p:grpSpPr>
                <p:sp>
                  <p:nvSpPr>
                    <p:cNvPr id="519" name=""/>
                    <p:cNvSpPr/>
                    <p:nvPr/>
                  </p:nvSpPr>
                  <p:spPr>
                    <a:xfrm>
                      <a:off x="6073920" y="2614320"/>
                      <a:ext cx="174240" cy="68760"/>
                    </a:xfrm>
                    <a:prstGeom prst="line">
                      <a:avLst/>
                    </a:prstGeom>
                    <a:ln w="19080">
                      <a:solidFill>
                        <a:srgbClr val="00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960" bIns="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0" name=""/>
                    <p:cNvSpPr/>
                    <p:nvPr/>
                  </p:nvSpPr>
                  <p:spPr>
                    <a:xfrm flipH="1">
                      <a:off x="5957640" y="2683440"/>
                      <a:ext cx="290520" cy="137880"/>
                    </a:xfrm>
                    <a:prstGeom prst="line">
                      <a:avLst/>
                    </a:prstGeom>
                    <a:ln w="19080">
                      <a:solidFill>
                        <a:srgbClr val="00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1" name=""/>
                    <p:cNvSpPr/>
                    <p:nvPr/>
                  </p:nvSpPr>
                  <p:spPr>
                    <a:xfrm>
                      <a:off x="5958000" y="2821680"/>
                      <a:ext cx="290520" cy="103320"/>
                    </a:xfrm>
                    <a:prstGeom prst="line">
                      <a:avLst/>
                    </a:prstGeom>
                    <a:ln w="19080">
                      <a:solidFill>
                        <a:srgbClr val="00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2" name=""/>
                    <p:cNvSpPr/>
                    <p:nvPr/>
                  </p:nvSpPr>
                  <p:spPr>
                    <a:xfrm flipH="1">
                      <a:off x="5957640" y="2925360"/>
                      <a:ext cx="290520" cy="103320"/>
                    </a:xfrm>
                    <a:prstGeom prst="line">
                      <a:avLst/>
                    </a:prstGeom>
                    <a:ln w="19080">
                      <a:solidFill>
                        <a:srgbClr val="00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3" name=""/>
                    <p:cNvSpPr/>
                    <p:nvPr/>
                  </p:nvSpPr>
                  <p:spPr>
                    <a:xfrm>
                      <a:off x="5958000" y="3028680"/>
                      <a:ext cx="290520" cy="103320"/>
                    </a:xfrm>
                    <a:prstGeom prst="line">
                      <a:avLst/>
                    </a:prstGeom>
                    <a:ln w="19080">
                      <a:solidFill>
                        <a:srgbClr val="00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4" name=""/>
                    <p:cNvSpPr/>
                    <p:nvPr/>
                  </p:nvSpPr>
                  <p:spPr>
                    <a:xfrm>
                      <a:off x="6073920" y="3443040"/>
                      <a:ext cx="0" cy="137880"/>
                    </a:xfrm>
                    <a:prstGeom prst="line">
                      <a:avLst/>
                    </a:prstGeom>
                    <a:ln w="19080">
                      <a:solidFill>
                        <a:srgbClr val="00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5" name=""/>
                    <p:cNvSpPr/>
                    <p:nvPr/>
                  </p:nvSpPr>
                  <p:spPr>
                    <a:xfrm>
                      <a:off x="6073920" y="2476440"/>
                      <a:ext cx="0" cy="137880"/>
                    </a:xfrm>
                    <a:prstGeom prst="line">
                      <a:avLst/>
                    </a:prstGeom>
                    <a:ln w="19080">
                      <a:solidFill>
                        <a:srgbClr val="00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6" name=""/>
                    <p:cNvSpPr/>
                    <p:nvPr/>
                  </p:nvSpPr>
                  <p:spPr>
                    <a:xfrm flipH="1">
                      <a:off x="5957640" y="3132360"/>
                      <a:ext cx="290520" cy="103320"/>
                    </a:xfrm>
                    <a:prstGeom prst="line">
                      <a:avLst/>
                    </a:prstGeom>
                    <a:ln w="19080">
                      <a:solidFill>
                        <a:srgbClr val="00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>
                      <a:off x="5958000" y="3236040"/>
                      <a:ext cx="290520" cy="103320"/>
                    </a:xfrm>
                    <a:prstGeom prst="line">
                      <a:avLst/>
                    </a:prstGeom>
                    <a:ln w="19080">
                      <a:solidFill>
                        <a:srgbClr val="00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8" name=""/>
                    <p:cNvSpPr/>
                    <p:nvPr/>
                  </p:nvSpPr>
                  <p:spPr>
                    <a:xfrm flipV="1">
                      <a:off x="6073920" y="3339000"/>
                      <a:ext cx="174240" cy="103320"/>
                    </a:xfrm>
                    <a:prstGeom prst="line">
                      <a:avLst/>
                    </a:prstGeom>
                    <a:ln w="19080">
                      <a:solidFill>
                        <a:srgbClr val="00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29" name=""/>
                  <p:cNvGrpSpPr/>
                  <p:nvPr/>
                </p:nvGrpSpPr>
                <p:grpSpPr>
                  <a:xfrm>
                    <a:off x="6051600" y="1430280"/>
                    <a:ext cx="117360" cy="1046160"/>
                    <a:chOff x="6051600" y="1430280"/>
                    <a:chExt cx="117360" cy="1046160"/>
                  </a:xfrm>
                </p:grpSpPr>
                <p:sp>
                  <p:nvSpPr>
                    <p:cNvPr id="530" name=""/>
                    <p:cNvSpPr/>
                    <p:nvPr/>
                  </p:nvSpPr>
                  <p:spPr>
                    <a:xfrm>
                      <a:off x="6098400" y="1560960"/>
                      <a:ext cx="70560" cy="65160"/>
                    </a:xfrm>
                    <a:prstGeom prst="line">
                      <a:avLst/>
                    </a:prstGeom>
                    <a:ln w="19080">
                      <a:solidFill>
                        <a:srgbClr val="00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360" bIns="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1" name=""/>
                    <p:cNvSpPr/>
                    <p:nvPr/>
                  </p:nvSpPr>
                  <p:spPr>
                    <a:xfrm flipH="1">
                      <a:off x="6051600" y="1626120"/>
                      <a:ext cx="117360" cy="130680"/>
                    </a:xfrm>
                    <a:prstGeom prst="line">
                      <a:avLst/>
                    </a:prstGeom>
                    <a:ln w="19080">
                      <a:solidFill>
                        <a:srgbClr val="00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2" name=""/>
                    <p:cNvSpPr/>
                    <p:nvPr/>
                  </p:nvSpPr>
                  <p:spPr>
                    <a:xfrm>
                      <a:off x="6051600" y="1757160"/>
                      <a:ext cx="117360" cy="97920"/>
                    </a:xfrm>
                    <a:prstGeom prst="line">
                      <a:avLst/>
                    </a:prstGeom>
                    <a:ln w="19080">
                      <a:solidFill>
                        <a:srgbClr val="00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3" name=""/>
                    <p:cNvSpPr/>
                    <p:nvPr/>
                  </p:nvSpPr>
                  <p:spPr>
                    <a:xfrm flipH="1">
                      <a:off x="6051600" y="1855080"/>
                      <a:ext cx="117360" cy="97920"/>
                    </a:xfrm>
                    <a:prstGeom prst="line">
                      <a:avLst/>
                    </a:prstGeom>
                    <a:ln w="19080">
                      <a:solidFill>
                        <a:srgbClr val="00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4" name=""/>
                    <p:cNvSpPr/>
                    <p:nvPr/>
                  </p:nvSpPr>
                  <p:spPr>
                    <a:xfrm>
                      <a:off x="6051600" y="1953360"/>
                      <a:ext cx="117360" cy="97920"/>
                    </a:xfrm>
                    <a:prstGeom prst="line">
                      <a:avLst/>
                    </a:prstGeom>
                    <a:ln w="19080">
                      <a:solidFill>
                        <a:srgbClr val="00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5" name=""/>
                    <p:cNvSpPr/>
                    <p:nvPr/>
                  </p:nvSpPr>
                  <p:spPr>
                    <a:xfrm>
                      <a:off x="6098400" y="2345760"/>
                      <a:ext cx="0" cy="130680"/>
                    </a:xfrm>
                    <a:prstGeom prst="line">
                      <a:avLst/>
                    </a:prstGeom>
                    <a:ln w="19080">
                      <a:solidFill>
                        <a:srgbClr val="00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6" name=""/>
                    <p:cNvSpPr/>
                    <p:nvPr/>
                  </p:nvSpPr>
                  <p:spPr>
                    <a:xfrm>
                      <a:off x="6098400" y="1430280"/>
                      <a:ext cx="0" cy="130680"/>
                    </a:xfrm>
                    <a:prstGeom prst="line">
                      <a:avLst/>
                    </a:prstGeom>
                    <a:ln w="19080">
                      <a:solidFill>
                        <a:srgbClr val="00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7" name=""/>
                    <p:cNvSpPr/>
                    <p:nvPr/>
                  </p:nvSpPr>
                  <p:spPr>
                    <a:xfrm flipH="1">
                      <a:off x="6051600" y="2051280"/>
                      <a:ext cx="117360" cy="97920"/>
                    </a:xfrm>
                    <a:prstGeom prst="line">
                      <a:avLst/>
                    </a:prstGeom>
                    <a:ln w="19080">
                      <a:solidFill>
                        <a:srgbClr val="00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8" name=""/>
                    <p:cNvSpPr/>
                    <p:nvPr/>
                  </p:nvSpPr>
                  <p:spPr>
                    <a:xfrm>
                      <a:off x="6051600" y="2149560"/>
                      <a:ext cx="117360" cy="97920"/>
                    </a:xfrm>
                    <a:prstGeom prst="line">
                      <a:avLst/>
                    </a:prstGeom>
                    <a:ln w="19080">
                      <a:solidFill>
                        <a:srgbClr val="00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9" name=""/>
                    <p:cNvSpPr/>
                    <p:nvPr/>
                  </p:nvSpPr>
                  <p:spPr>
                    <a:xfrm flipV="1">
                      <a:off x="6098400" y="2247480"/>
                      <a:ext cx="70560" cy="97920"/>
                    </a:xfrm>
                    <a:prstGeom prst="line">
                      <a:avLst/>
                    </a:prstGeom>
                    <a:ln w="19080">
                      <a:solidFill>
                        <a:srgbClr val="00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540" name=""/>
                <p:cNvSpPr/>
                <p:nvPr/>
              </p:nvSpPr>
              <p:spPr>
                <a:xfrm>
                  <a:off x="5865840" y="4749840"/>
                  <a:ext cx="396720" cy="1023840"/>
                </a:xfrm>
                <a:custGeom>
                  <a:avLst/>
                  <a:gdLst/>
                  <a:ahLst/>
                  <a:rect l="l" t="t" r="r" b="b"/>
                  <a:pathLst>
                    <a:path w="250" h="645">
                      <a:moveTo>
                        <a:pt x="0" y="629"/>
                      </a:moveTo>
                      <a:cubicBezTo>
                        <a:pt x="39" y="638"/>
                        <a:pt x="49" y="645"/>
                        <a:pt x="90" y="636"/>
                      </a:cubicBezTo>
                      <a:cubicBezTo>
                        <a:pt x="125" y="584"/>
                        <a:pt x="110" y="606"/>
                        <a:pt x="135" y="569"/>
                      </a:cubicBezTo>
                      <a:cubicBezTo>
                        <a:pt x="149" y="549"/>
                        <a:pt x="176" y="538"/>
                        <a:pt x="187" y="516"/>
                      </a:cubicBezTo>
                      <a:cubicBezTo>
                        <a:pt x="192" y="506"/>
                        <a:pt x="197" y="496"/>
                        <a:pt x="202" y="486"/>
                      </a:cubicBezTo>
                      <a:cubicBezTo>
                        <a:pt x="188" y="445"/>
                        <a:pt x="184" y="425"/>
                        <a:pt x="143" y="412"/>
                      </a:cubicBezTo>
                      <a:cubicBezTo>
                        <a:pt x="128" y="414"/>
                        <a:pt x="111" y="412"/>
                        <a:pt x="98" y="419"/>
                      </a:cubicBezTo>
                      <a:cubicBezTo>
                        <a:pt x="81" y="429"/>
                        <a:pt x="97" y="484"/>
                        <a:pt x="98" y="486"/>
                      </a:cubicBezTo>
                      <a:cubicBezTo>
                        <a:pt x="102" y="494"/>
                        <a:pt x="113" y="496"/>
                        <a:pt x="120" y="501"/>
                      </a:cubicBezTo>
                      <a:cubicBezTo>
                        <a:pt x="140" y="499"/>
                        <a:pt x="161" y="501"/>
                        <a:pt x="180" y="494"/>
                      </a:cubicBezTo>
                      <a:cubicBezTo>
                        <a:pt x="196" y="488"/>
                        <a:pt x="205" y="441"/>
                        <a:pt x="210" y="427"/>
                      </a:cubicBezTo>
                      <a:cubicBezTo>
                        <a:pt x="201" y="368"/>
                        <a:pt x="204" y="365"/>
                        <a:pt x="150" y="352"/>
                      </a:cubicBezTo>
                      <a:cubicBezTo>
                        <a:pt x="179" y="394"/>
                        <a:pt x="201" y="381"/>
                        <a:pt x="225" y="344"/>
                      </a:cubicBezTo>
                      <a:cubicBezTo>
                        <a:pt x="250" y="270"/>
                        <a:pt x="240" y="232"/>
                        <a:pt x="172" y="187"/>
                      </a:cubicBezTo>
                      <a:cubicBezTo>
                        <a:pt x="167" y="160"/>
                        <a:pt x="162" y="132"/>
                        <a:pt x="157" y="105"/>
                      </a:cubicBezTo>
                      <a:cubicBezTo>
                        <a:pt x="151" y="74"/>
                        <a:pt x="144" y="0"/>
                        <a:pt x="105" y="0"/>
                      </a:cubicBezTo>
                    </a:path>
                  </a:pathLst>
                </a:custGeom>
                <a:noFill/>
                <a:ln w="936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41" name=""/>
          <p:cNvSpPr/>
          <p:nvPr/>
        </p:nvSpPr>
        <p:spPr>
          <a:xfrm>
            <a:off x="3048120" y="6324480"/>
            <a:ext cx="373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crease voltage by 1 unit every time a ‘1’ is s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886200" y="5334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876920" y="5334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172200" y="5334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429000" y="601992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strings of 1’s similar to bal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886200" y="5715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809880" y="4724280"/>
            <a:ext cx="243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1                   1                  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809880" y="4952880"/>
            <a:ext cx="243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2                   1                  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809880" y="5181480"/>
            <a:ext cx="243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3                   2                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4381560" y="228600"/>
            <a:ext cx="3162240" cy="1041480"/>
            <a:chOff x="4381560" y="228600"/>
            <a:chExt cx="3162240" cy="1041480"/>
          </a:xfrm>
        </p:grpSpPr>
        <p:grpSp>
          <p:nvGrpSpPr>
            <p:cNvPr id="551" name=""/>
            <p:cNvGrpSpPr/>
            <p:nvPr/>
          </p:nvGrpSpPr>
          <p:grpSpPr>
            <a:xfrm>
              <a:off x="6286680" y="403200"/>
              <a:ext cx="723600" cy="866880"/>
              <a:chOff x="6286680" y="403200"/>
              <a:chExt cx="723600" cy="866880"/>
            </a:xfrm>
          </p:grpSpPr>
          <p:sp>
            <p:nvSpPr>
              <p:cNvPr id="552" name=""/>
              <p:cNvSpPr/>
              <p:nvPr/>
            </p:nvSpPr>
            <p:spPr>
              <a:xfrm>
                <a:off x="6286680" y="403200"/>
                <a:ext cx="723600" cy="866880"/>
              </a:xfrm>
              <a:custGeom>
                <a:avLst/>
                <a:gdLst/>
                <a:ahLst/>
                <a:rect l="l" t="t" r="r" b="b"/>
                <a:pathLst>
                  <a:path w="456" h="546">
                    <a:moveTo>
                      <a:pt x="456" y="0"/>
                    </a:moveTo>
                    <a:cubicBezTo>
                      <a:pt x="394" y="5"/>
                      <a:pt x="360" y="6"/>
                      <a:pt x="306" y="23"/>
                    </a:cubicBezTo>
                    <a:cubicBezTo>
                      <a:pt x="291" y="28"/>
                      <a:pt x="276" y="33"/>
                      <a:pt x="261" y="38"/>
                    </a:cubicBezTo>
                    <a:cubicBezTo>
                      <a:pt x="254" y="40"/>
                      <a:pt x="239" y="45"/>
                      <a:pt x="239" y="45"/>
                    </a:cubicBezTo>
                    <a:cubicBezTo>
                      <a:pt x="205" y="79"/>
                      <a:pt x="181" y="123"/>
                      <a:pt x="142" y="150"/>
                    </a:cubicBezTo>
                    <a:cubicBezTo>
                      <a:pt x="117" y="187"/>
                      <a:pt x="100" y="222"/>
                      <a:pt x="82" y="262"/>
                    </a:cubicBezTo>
                    <a:cubicBezTo>
                      <a:pt x="67" y="296"/>
                      <a:pt x="64" y="321"/>
                      <a:pt x="44" y="352"/>
                    </a:cubicBezTo>
                    <a:cubicBezTo>
                      <a:pt x="30" y="393"/>
                      <a:pt x="24" y="430"/>
                      <a:pt x="14" y="472"/>
                    </a:cubicBezTo>
                    <a:cubicBezTo>
                      <a:pt x="10" y="487"/>
                      <a:pt x="0" y="516"/>
                      <a:pt x="0" y="516"/>
                    </a:cubicBezTo>
                    <a:cubicBezTo>
                      <a:pt x="8" y="541"/>
                      <a:pt x="7" y="531"/>
                      <a:pt x="7" y="546"/>
                    </a:cubicBezTo>
                  </a:path>
                </a:pathLst>
              </a:custGeom>
              <a:noFill/>
              <a:ln w="93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6427800" y="498600"/>
                <a:ext cx="71280" cy="249120"/>
              </a:xfrm>
              <a:custGeom>
                <a:avLst/>
                <a:gdLst/>
                <a:ahLst/>
                <a:rect l="l" t="t" r="r" b="b"/>
                <a:pathLst>
                  <a:path w="45" h="157">
                    <a:moveTo>
                      <a:pt x="0" y="157"/>
                    </a:moveTo>
                    <a:cubicBezTo>
                      <a:pt x="23" y="124"/>
                      <a:pt x="22" y="92"/>
                      <a:pt x="30" y="53"/>
                    </a:cubicBezTo>
                    <a:cubicBezTo>
                      <a:pt x="32" y="43"/>
                      <a:pt x="35" y="33"/>
                      <a:pt x="38" y="23"/>
                    </a:cubicBezTo>
                    <a:cubicBezTo>
                      <a:pt x="40" y="15"/>
                      <a:pt x="45" y="0"/>
                      <a:pt x="45" y="0"/>
                    </a:cubicBezTo>
                  </a:path>
                </a:pathLst>
              </a:custGeom>
              <a:noFill/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6378480" y="628560"/>
                <a:ext cx="263520" cy="149400"/>
              </a:xfrm>
              <a:custGeom>
                <a:avLst/>
                <a:gdLst/>
                <a:ahLst/>
                <a:rect l="l" t="t" r="r" b="b"/>
                <a:pathLst>
                  <a:path w="166" h="94">
                    <a:moveTo>
                      <a:pt x="46" y="68"/>
                    </a:moveTo>
                    <a:cubicBezTo>
                      <a:pt x="123" y="18"/>
                      <a:pt x="0" y="94"/>
                      <a:pt x="106" y="45"/>
                    </a:cubicBezTo>
                    <a:cubicBezTo>
                      <a:pt x="138" y="30"/>
                      <a:pt x="146" y="20"/>
                      <a:pt x="166" y="0"/>
                    </a:cubicBezTo>
                  </a:path>
                </a:pathLst>
              </a:custGeom>
              <a:noFill/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5" name=""/>
            <p:cNvGrpSpPr/>
            <p:nvPr/>
          </p:nvGrpSpPr>
          <p:grpSpPr>
            <a:xfrm>
              <a:off x="5295960" y="380880"/>
              <a:ext cx="723600" cy="866880"/>
              <a:chOff x="5295960" y="380880"/>
              <a:chExt cx="723600" cy="866880"/>
            </a:xfrm>
          </p:grpSpPr>
          <p:sp>
            <p:nvSpPr>
              <p:cNvPr id="556" name=""/>
              <p:cNvSpPr/>
              <p:nvPr/>
            </p:nvSpPr>
            <p:spPr>
              <a:xfrm>
                <a:off x="5295960" y="380880"/>
                <a:ext cx="723600" cy="866880"/>
              </a:xfrm>
              <a:custGeom>
                <a:avLst/>
                <a:gdLst/>
                <a:ahLst/>
                <a:rect l="l" t="t" r="r" b="b"/>
                <a:pathLst>
                  <a:path w="456" h="546">
                    <a:moveTo>
                      <a:pt x="456" y="0"/>
                    </a:moveTo>
                    <a:cubicBezTo>
                      <a:pt x="394" y="5"/>
                      <a:pt x="360" y="6"/>
                      <a:pt x="306" y="23"/>
                    </a:cubicBezTo>
                    <a:cubicBezTo>
                      <a:pt x="291" y="28"/>
                      <a:pt x="276" y="33"/>
                      <a:pt x="261" y="38"/>
                    </a:cubicBezTo>
                    <a:cubicBezTo>
                      <a:pt x="254" y="40"/>
                      <a:pt x="239" y="45"/>
                      <a:pt x="239" y="45"/>
                    </a:cubicBezTo>
                    <a:cubicBezTo>
                      <a:pt x="205" y="79"/>
                      <a:pt x="181" y="123"/>
                      <a:pt x="142" y="150"/>
                    </a:cubicBezTo>
                    <a:cubicBezTo>
                      <a:pt x="117" y="187"/>
                      <a:pt x="100" y="222"/>
                      <a:pt x="82" y="262"/>
                    </a:cubicBezTo>
                    <a:cubicBezTo>
                      <a:pt x="67" y="296"/>
                      <a:pt x="64" y="321"/>
                      <a:pt x="44" y="352"/>
                    </a:cubicBezTo>
                    <a:cubicBezTo>
                      <a:pt x="30" y="393"/>
                      <a:pt x="24" y="430"/>
                      <a:pt x="14" y="472"/>
                    </a:cubicBezTo>
                    <a:cubicBezTo>
                      <a:pt x="10" y="487"/>
                      <a:pt x="0" y="516"/>
                      <a:pt x="0" y="516"/>
                    </a:cubicBezTo>
                    <a:cubicBezTo>
                      <a:pt x="8" y="541"/>
                      <a:pt x="7" y="531"/>
                      <a:pt x="7" y="546"/>
                    </a:cubicBezTo>
                  </a:path>
                </a:pathLst>
              </a:custGeom>
              <a:noFill/>
              <a:ln w="93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5437080" y="476280"/>
                <a:ext cx="71280" cy="249120"/>
              </a:xfrm>
              <a:custGeom>
                <a:avLst/>
                <a:gdLst/>
                <a:ahLst/>
                <a:rect l="l" t="t" r="r" b="b"/>
                <a:pathLst>
                  <a:path w="45" h="157">
                    <a:moveTo>
                      <a:pt x="0" y="157"/>
                    </a:moveTo>
                    <a:cubicBezTo>
                      <a:pt x="23" y="124"/>
                      <a:pt x="22" y="92"/>
                      <a:pt x="30" y="53"/>
                    </a:cubicBezTo>
                    <a:cubicBezTo>
                      <a:pt x="32" y="43"/>
                      <a:pt x="35" y="33"/>
                      <a:pt x="38" y="23"/>
                    </a:cubicBezTo>
                    <a:cubicBezTo>
                      <a:pt x="40" y="15"/>
                      <a:pt x="45" y="0"/>
                      <a:pt x="45" y="0"/>
                    </a:cubicBezTo>
                  </a:path>
                </a:pathLst>
              </a:custGeom>
              <a:noFill/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387760" y="606240"/>
                <a:ext cx="263520" cy="149400"/>
              </a:xfrm>
              <a:custGeom>
                <a:avLst/>
                <a:gdLst/>
                <a:ahLst/>
                <a:rect l="l" t="t" r="r" b="b"/>
                <a:pathLst>
                  <a:path w="166" h="94">
                    <a:moveTo>
                      <a:pt x="46" y="68"/>
                    </a:moveTo>
                    <a:cubicBezTo>
                      <a:pt x="123" y="18"/>
                      <a:pt x="0" y="94"/>
                      <a:pt x="106" y="45"/>
                    </a:cubicBezTo>
                    <a:cubicBezTo>
                      <a:pt x="138" y="30"/>
                      <a:pt x="146" y="20"/>
                      <a:pt x="166" y="0"/>
                    </a:cubicBezTo>
                  </a:path>
                </a:pathLst>
              </a:custGeom>
              <a:noFill/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9" name=""/>
            <p:cNvGrpSpPr/>
            <p:nvPr/>
          </p:nvGrpSpPr>
          <p:grpSpPr>
            <a:xfrm>
              <a:off x="4381560" y="380880"/>
              <a:ext cx="723600" cy="866880"/>
              <a:chOff x="4381560" y="380880"/>
              <a:chExt cx="723600" cy="866880"/>
            </a:xfrm>
          </p:grpSpPr>
          <p:sp>
            <p:nvSpPr>
              <p:cNvPr id="560" name=""/>
              <p:cNvSpPr/>
              <p:nvPr/>
            </p:nvSpPr>
            <p:spPr>
              <a:xfrm>
                <a:off x="4381560" y="380880"/>
                <a:ext cx="723600" cy="866880"/>
              </a:xfrm>
              <a:custGeom>
                <a:avLst/>
                <a:gdLst/>
                <a:ahLst/>
                <a:rect l="l" t="t" r="r" b="b"/>
                <a:pathLst>
                  <a:path w="456" h="546">
                    <a:moveTo>
                      <a:pt x="456" y="0"/>
                    </a:moveTo>
                    <a:cubicBezTo>
                      <a:pt x="394" y="5"/>
                      <a:pt x="360" y="6"/>
                      <a:pt x="306" y="23"/>
                    </a:cubicBezTo>
                    <a:cubicBezTo>
                      <a:pt x="291" y="28"/>
                      <a:pt x="276" y="33"/>
                      <a:pt x="261" y="38"/>
                    </a:cubicBezTo>
                    <a:cubicBezTo>
                      <a:pt x="254" y="40"/>
                      <a:pt x="239" y="45"/>
                      <a:pt x="239" y="45"/>
                    </a:cubicBezTo>
                    <a:cubicBezTo>
                      <a:pt x="205" y="79"/>
                      <a:pt x="181" y="123"/>
                      <a:pt x="142" y="150"/>
                    </a:cubicBezTo>
                    <a:cubicBezTo>
                      <a:pt x="117" y="187"/>
                      <a:pt x="100" y="222"/>
                      <a:pt x="82" y="262"/>
                    </a:cubicBezTo>
                    <a:cubicBezTo>
                      <a:pt x="67" y="296"/>
                      <a:pt x="64" y="321"/>
                      <a:pt x="44" y="352"/>
                    </a:cubicBezTo>
                    <a:cubicBezTo>
                      <a:pt x="30" y="393"/>
                      <a:pt x="24" y="430"/>
                      <a:pt x="14" y="472"/>
                    </a:cubicBezTo>
                    <a:cubicBezTo>
                      <a:pt x="10" y="487"/>
                      <a:pt x="0" y="516"/>
                      <a:pt x="0" y="516"/>
                    </a:cubicBezTo>
                    <a:cubicBezTo>
                      <a:pt x="8" y="541"/>
                      <a:pt x="7" y="531"/>
                      <a:pt x="7" y="546"/>
                    </a:cubicBezTo>
                  </a:path>
                </a:pathLst>
              </a:custGeom>
              <a:noFill/>
              <a:ln w="93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4522680" y="476280"/>
                <a:ext cx="71280" cy="249120"/>
              </a:xfrm>
              <a:custGeom>
                <a:avLst/>
                <a:gdLst/>
                <a:ahLst/>
                <a:rect l="l" t="t" r="r" b="b"/>
                <a:pathLst>
                  <a:path w="45" h="157">
                    <a:moveTo>
                      <a:pt x="0" y="157"/>
                    </a:moveTo>
                    <a:cubicBezTo>
                      <a:pt x="23" y="124"/>
                      <a:pt x="22" y="92"/>
                      <a:pt x="30" y="53"/>
                    </a:cubicBezTo>
                    <a:cubicBezTo>
                      <a:pt x="32" y="43"/>
                      <a:pt x="35" y="33"/>
                      <a:pt x="38" y="23"/>
                    </a:cubicBezTo>
                    <a:cubicBezTo>
                      <a:pt x="40" y="15"/>
                      <a:pt x="45" y="0"/>
                      <a:pt x="45" y="0"/>
                    </a:cubicBezTo>
                  </a:path>
                </a:pathLst>
              </a:custGeom>
              <a:noFill/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4473360" y="606240"/>
                <a:ext cx="263520" cy="149400"/>
              </a:xfrm>
              <a:custGeom>
                <a:avLst/>
                <a:gdLst/>
                <a:ahLst/>
                <a:rect l="l" t="t" r="r" b="b"/>
                <a:pathLst>
                  <a:path w="166" h="94">
                    <a:moveTo>
                      <a:pt x="46" y="68"/>
                    </a:moveTo>
                    <a:cubicBezTo>
                      <a:pt x="123" y="18"/>
                      <a:pt x="0" y="94"/>
                      <a:pt x="106" y="45"/>
                    </a:cubicBezTo>
                    <a:cubicBezTo>
                      <a:pt x="138" y="30"/>
                      <a:pt x="146" y="20"/>
                      <a:pt x="166" y="0"/>
                    </a:cubicBezTo>
                  </a:path>
                </a:pathLst>
              </a:custGeom>
              <a:noFill/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3" name=""/>
            <p:cNvSpPr/>
            <p:nvPr/>
          </p:nvSpPr>
          <p:spPr>
            <a:xfrm>
              <a:off x="5105520" y="228600"/>
              <a:ext cx="53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Times New Roman"/>
                </a:rPr>
                <a:t>1/2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019920" y="228600"/>
              <a:ext cx="53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Times New Roman"/>
                </a:rPr>
                <a:t>1/3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010280" y="228600"/>
              <a:ext cx="53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Times New Roman"/>
                </a:rPr>
                <a:t>1/6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3429000" y="2133720"/>
            <a:ext cx="533520" cy="2592360"/>
            <a:chOff x="3429000" y="2133720"/>
            <a:chExt cx="533520" cy="2592360"/>
          </a:xfrm>
        </p:grpSpPr>
        <p:sp>
          <p:nvSpPr>
            <p:cNvPr id="567" name=""/>
            <p:cNvSpPr/>
            <p:nvPr/>
          </p:nvSpPr>
          <p:spPr>
            <a:xfrm>
              <a:off x="3429000" y="2133720"/>
              <a:ext cx="53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Times New Roman"/>
                </a:rPr>
                <a:t>0.5 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429000" y="3230640"/>
              <a:ext cx="53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Times New Roman"/>
                </a:rPr>
                <a:t>1 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429000" y="4449600"/>
              <a:ext cx="53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Times New Roman"/>
                </a:rPr>
                <a:t>1.5 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4572000" y="2133720"/>
            <a:ext cx="533520" cy="2592360"/>
            <a:chOff x="4572000" y="2133720"/>
            <a:chExt cx="533520" cy="2592360"/>
          </a:xfrm>
        </p:grpSpPr>
        <p:sp>
          <p:nvSpPr>
            <p:cNvPr id="571" name=""/>
            <p:cNvSpPr/>
            <p:nvPr/>
          </p:nvSpPr>
          <p:spPr>
            <a:xfrm>
              <a:off x="4572000" y="2133720"/>
              <a:ext cx="53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Times New Roman"/>
                </a:rPr>
                <a:t>0.3 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572000" y="3230640"/>
              <a:ext cx="53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Times New Roman"/>
                </a:rPr>
                <a:t>0.7 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572000" y="4449600"/>
              <a:ext cx="53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Times New Roman"/>
                </a:rPr>
                <a:t>1 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5638680" y="2133720"/>
            <a:ext cx="533520" cy="2592360"/>
            <a:chOff x="5638680" y="2133720"/>
            <a:chExt cx="533520" cy="2592360"/>
          </a:xfrm>
        </p:grpSpPr>
        <p:sp>
          <p:nvSpPr>
            <p:cNvPr id="575" name=""/>
            <p:cNvSpPr/>
            <p:nvPr/>
          </p:nvSpPr>
          <p:spPr>
            <a:xfrm>
              <a:off x="5638680" y="2133720"/>
              <a:ext cx="53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Times New Roman"/>
                </a:rPr>
                <a:t>0.2 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638680" y="3230640"/>
              <a:ext cx="53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Times New Roman"/>
                </a:rPr>
                <a:t>0.3 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638680" y="4449600"/>
              <a:ext cx="53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Times New Roman"/>
                </a:rPr>
                <a:t>0.5 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7391520" y="762120"/>
            <a:ext cx="1752480" cy="3583080"/>
            <a:chOff x="7391520" y="762120"/>
            <a:chExt cx="1752480" cy="3583080"/>
          </a:xfrm>
        </p:grpSpPr>
        <p:grpSp>
          <p:nvGrpSpPr>
            <p:cNvPr id="579" name=""/>
            <p:cNvGrpSpPr/>
            <p:nvPr/>
          </p:nvGrpSpPr>
          <p:grpSpPr>
            <a:xfrm>
              <a:off x="8153280" y="1752480"/>
              <a:ext cx="609840" cy="2592720"/>
              <a:chOff x="8153280" y="1752480"/>
              <a:chExt cx="609840" cy="2592720"/>
            </a:xfrm>
          </p:grpSpPr>
          <p:sp>
            <p:nvSpPr>
              <p:cNvPr id="580" name=""/>
              <p:cNvSpPr/>
              <p:nvPr/>
            </p:nvSpPr>
            <p:spPr>
              <a:xfrm>
                <a:off x="8153280" y="1752480"/>
                <a:ext cx="533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cc99"/>
                    </a:solidFill>
                    <a:latin typeface="Times New Roman"/>
                  </a:rPr>
                  <a:t>1 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229600" y="2925720"/>
                <a:ext cx="533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cc99"/>
                    </a:solidFill>
                    <a:latin typeface="Times New Roman"/>
                  </a:rPr>
                  <a:t>2 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229600" y="4068720"/>
                <a:ext cx="533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cc99"/>
                    </a:solidFill>
                    <a:latin typeface="Times New Roman"/>
                  </a:rPr>
                  <a:t>3 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3" name=""/>
            <p:cNvSpPr/>
            <p:nvPr/>
          </p:nvSpPr>
          <p:spPr>
            <a:xfrm>
              <a:off x="7391520" y="76212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sorted 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596440" y="1187280"/>
              <a:ext cx="144360" cy="927360"/>
            </a:xfrm>
            <a:custGeom>
              <a:avLst/>
              <a:gdLst/>
              <a:ahLst/>
              <a:rect l="l" t="t" r="r" b="b"/>
              <a:pathLst>
                <a:path w="91" h="584">
                  <a:moveTo>
                    <a:pt x="61" y="0"/>
                  </a:moveTo>
                  <a:cubicBezTo>
                    <a:pt x="80" y="28"/>
                    <a:pt x="84" y="49"/>
                    <a:pt x="91" y="82"/>
                  </a:cubicBezTo>
                  <a:cubicBezTo>
                    <a:pt x="88" y="167"/>
                    <a:pt x="87" y="252"/>
                    <a:pt x="83" y="337"/>
                  </a:cubicBezTo>
                  <a:cubicBezTo>
                    <a:pt x="81" y="377"/>
                    <a:pt x="65" y="412"/>
                    <a:pt x="53" y="449"/>
                  </a:cubicBezTo>
                  <a:cubicBezTo>
                    <a:pt x="48" y="464"/>
                    <a:pt x="38" y="494"/>
                    <a:pt x="38" y="494"/>
                  </a:cubicBezTo>
                  <a:cubicBezTo>
                    <a:pt x="38" y="497"/>
                    <a:pt x="26" y="584"/>
                    <a:pt x="8" y="584"/>
                  </a:cubicBezTo>
                  <a:cubicBezTo>
                    <a:pt x="0" y="584"/>
                    <a:pt x="14" y="569"/>
                    <a:pt x="16" y="561"/>
                  </a:cubicBezTo>
                  <a:cubicBezTo>
                    <a:pt x="35" y="487"/>
                    <a:pt x="31" y="509"/>
                    <a:pt x="31" y="441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8632800" y="1947960"/>
              <a:ext cx="119160" cy="142920"/>
            </a:xfrm>
            <a:custGeom>
              <a:avLst/>
              <a:gdLst/>
              <a:ahLst/>
              <a:rect l="l" t="t" r="r" b="b"/>
              <a:pathLst>
                <a:path w="75" h="90">
                  <a:moveTo>
                    <a:pt x="0" y="90"/>
                  </a:moveTo>
                  <a:cubicBezTo>
                    <a:pt x="36" y="54"/>
                    <a:pt x="17" y="76"/>
                    <a:pt x="53" y="22"/>
                  </a:cubicBezTo>
                  <a:cubicBezTo>
                    <a:pt x="59" y="13"/>
                    <a:pt x="75" y="0"/>
                    <a:pt x="75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76320" y="-123840"/>
            <a:ext cx="48765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99"/>
                </a:solidFill>
                <a:latin typeface="Arial Narrow"/>
              </a:rPr>
              <a:t>Parallel implement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 Narrow"/>
              </a:rPr>
              <a:t>Using an analog circu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66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7" name=""/>
          <p:cNvGrpSpPr/>
          <p:nvPr/>
        </p:nvGrpSpPr>
        <p:grpSpPr>
          <a:xfrm>
            <a:off x="0" y="1523880"/>
            <a:ext cx="3276720" cy="2279160"/>
            <a:chOff x="0" y="1523880"/>
            <a:chExt cx="3276720" cy="2279160"/>
          </a:xfrm>
        </p:grpSpPr>
        <p:sp>
          <p:nvSpPr>
            <p:cNvPr id="588" name=""/>
            <p:cNvSpPr/>
            <p:nvPr/>
          </p:nvSpPr>
          <p:spPr>
            <a:xfrm>
              <a:off x="1447920" y="1981080"/>
              <a:ext cx="18288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447920" y="2514600"/>
              <a:ext cx="18288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447920" y="3124080"/>
              <a:ext cx="18288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447920" y="3657600"/>
              <a:ext cx="18288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447920" y="1523880"/>
              <a:ext cx="182880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276720" y="1523880"/>
              <a:ext cx="0" cy="213372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447920" y="1523880"/>
              <a:ext cx="0" cy="213372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666880" y="1523880"/>
              <a:ext cx="0" cy="213372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057400" y="1523880"/>
              <a:ext cx="0" cy="213372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819520" y="1523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133720" y="1523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600200" y="1523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438280" y="2438280"/>
              <a:ext cx="152640" cy="381240"/>
            </a:xfrm>
            <a:custGeom>
              <a:avLst/>
              <a:gdLst>
                <a:gd name="textAreaLeft" fmla="*/ 20160 w 152640"/>
                <a:gd name="textAreaRight" fmla="*/ 132480 w 152640"/>
                <a:gd name="textAreaTop" fmla="*/ 66600 h 381240"/>
                <a:gd name="textAreaBottom" fmla="*/ 2764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124080" y="2971800"/>
              <a:ext cx="152640" cy="380880"/>
            </a:xfrm>
            <a:custGeom>
              <a:avLst/>
              <a:gdLst>
                <a:gd name="textAreaLeft" fmla="*/ 20160 w 152640"/>
                <a:gd name="textAreaRight" fmla="*/ 132480 w 152640"/>
                <a:gd name="textAreaTop" fmla="*/ 66600 h 380880"/>
                <a:gd name="textAreaBottom" fmla="*/ 2761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0" y="2743200"/>
              <a:ext cx="152388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99"/>
                  </a:solidFill>
                  <a:latin typeface="Times New Roman"/>
                </a:rPr>
                <a:t>initial configu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99"/>
                  </a:solidFill>
                  <a:latin typeface="Times New Roman"/>
                </a:rPr>
                <a:t>{2,1,3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124080" y="2362320"/>
              <a:ext cx="152640" cy="380880"/>
            </a:xfrm>
            <a:custGeom>
              <a:avLst/>
              <a:gdLst>
                <a:gd name="textAreaLeft" fmla="*/ 20160 w 152640"/>
                <a:gd name="textAreaRight" fmla="*/ 132480 w 152640"/>
                <a:gd name="textAreaTop" fmla="*/ 66600 h 380880"/>
                <a:gd name="textAreaBottom" fmla="*/ 2761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447920" y="1981080"/>
              <a:ext cx="533160" cy="53352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057400" y="1981080"/>
              <a:ext cx="533520" cy="53352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666880" y="1981080"/>
              <a:ext cx="533520" cy="53352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447920" y="2590920"/>
              <a:ext cx="533160" cy="53316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057400" y="3124080"/>
              <a:ext cx="533520" cy="53352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447920" y="3124080"/>
              <a:ext cx="533160" cy="53352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133720" y="2590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819520" y="2590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819520" y="3124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4191120" y="1523880"/>
            <a:ext cx="5029200" cy="2279160"/>
            <a:chOff x="4191120" y="1523880"/>
            <a:chExt cx="5029200" cy="2279160"/>
          </a:xfrm>
        </p:grpSpPr>
        <p:sp>
          <p:nvSpPr>
            <p:cNvPr id="614" name=""/>
            <p:cNvSpPr/>
            <p:nvPr/>
          </p:nvSpPr>
          <p:spPr>
            <a:xfrm>
              <a:off x="7696080" y="2743200"/>
              <a:ext cx="152424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99"/>
                  </a:solidFill>
                  <a:latin typeface="Times New Roman"/>
                </a:rPr>
                <a:t>final configu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99"/>
                  </a:solidFill>
                  <a:latin typeface="Times New Roman"/>
                </a:rPr>
                <a:t>{1,2,3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191120" y="2133720"/>
              <a:ext cx="761760" cy="685800"/>
            </a:xfrm>
            <a:prstGeom prst="rightArrow">
              <a:avLst>
                <a:gd name="adj1" fmla="val 50000"/>
                <a:gd name="adj2" fmla="val 27769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638680" y="1981080"/>
              <a:ext cx="18288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638680" y="2514600"/>
              <a:ext cx="18288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638680" y="3124080"/>
              <a:ext cx="18288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638680" y="3657600"/>
              <a:ext cx="18288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638680" y="1523880"/>
              <a:ext cx="182880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467480" y="1523880"/>
              <a:ext cx="0" cy="213372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638680" y="1523880"/>
              <a:ext cx="0" cy="213372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858000" y="1523880"/>
              <a:ext cx="0" cy="213372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248520" y="1523880"/>
              <a:ext cx="0" cy="213372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010280" y="1523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324480" y="1523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791320" y="1523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638680" y="1981080"/>
              <a:ext cx="533520" cy="53352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248520" y="2590920"/>
              <a:ext cx="533160" cy="53316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858000" y="3124080"/>
              <a:ext cx="533520" cy="53352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638680" y="2590920"/>
              <a:ext cx="533520" cy="53316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248520" y="3124080"/>
              <a:ext cx="533160" cy="53352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638680" y="3124080"/>
              <a:ext cx="533520" cy="53352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010280" y="25909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010280" y="1981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324480" y="1981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76320" y="4419720"/>
            <a:ext cx="8991360" cy="1830240"/>
            <a:chOff x="76320" y="4419720"/>
            <a:chExt cx="8991360" cy="1830240"/>
          </a:xfrm>
        </p:grpSpPr>
        <p:sp>
          <p:nvSpPr>
            <p:cNvPr id="638" name=""/>
            <p:cNvSpPr/>
            <p:nvPr/>
          </p:nvSpPr>
          <p:spPr>
            <a:xfrm>
              <a:off x="76320" y="4419720"/>
              <a:ext cx="30456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6320" y="4800600"/>
              <a:ext cx="30456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57200" y="4800600"/>
              <a:ext cx="30492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6320" y="5181480"/>
              <a:ext cx="30456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219320" y="4419720"/>
              <a:ext cx="304560" cy="304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219320" y="4800600"/>
              <a:ext cx="30456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600200" y="4800600"/>
              <a:ext cx="304920" cy="304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219320" y="5181480"/>
              <a:ext cx="30456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724280" y="4419720"/>
              <a:ext cx="30492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724280" y="4800600"/>
              <a:ext cx="30492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105520" y="4800600"/>
              <a:ext cx="30456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724280" y="5181480"/>
              <a:ext cx="304920" cy="304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943600" y="4419720"/>
              <a:ext cx="304920" cy="304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943600" y="4800600"/>
              <a:ext cx="30492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324480" y="4800600"/>
              <a:ext cx="304920" cy="304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943600" y="5181480"/>
              <a:ext cx="304920" cy="304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362320" y="4419720"/>
              <a:ext cx="30456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362320" y="4800600"/>
              <a:ext cx="304560" cy="304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743200" y="4800600"/>
              <a:ext cx="30492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362320" y="5181480"/>
              <a:ext cx="30456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505320" y="4419720"/>
              <a:ext cx="304560" cy="304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505320" y="4800600"/>
              <a:ext cx="304560" cy="304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886200" y="4800600"/>
              <a:ext cx="30492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505320" y="5181480"/>
              <a:ext cx="30456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086600" y="4419720"/>
              <a:ext cx="30492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086600" y="4800600"/>
              <a:ext cx="304920" cy="304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467480" y="4800600"/>
              <a:ext cx="304920" cy="304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086600" y="5181480"/>
              <a:ext cx="304920" cy="304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8381880" y="4419720"/>
              <a:ext cx="304920" cy="304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8381880" y="4800600"/>
              <a:ext cx="304920" cy="304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763120" y="4800600"/>
              <a:ext cx="304560" cy="304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381880" y="5181480"/>
              <a:ext cx="304920" cy="304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6320" y="55627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219320" y="55627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362320" y="55627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505320" y="55627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724280" y="55627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943600" y="55627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086600" y="55627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381880" y="55627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276720" y="588168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CA rules for Bead-Sort 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" name=""/>
          <p:cNvSpPr/>
          <p:nvPr/>
        </p:nvSpPr>
        <p:spPr>
          <a:xfrm>
            <a:off x="76320" y="-123840"/>
            <a:ext cx="51051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99"/>
                </a:solidFill>
                <a:latin typeface="Arial Narrow"/>
              </a:rPr>
              <a:t>Parallel simul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 Narrow"/>
              </a:rPr>
              <a:t>Using a cellular automaton (C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9966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76320" y="-76320"/>
            <a:ext cx="51051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00"/>
                </a:solidFill>
                <a:latin typeface="Arial Narrow"/>
              </a:rPr>
              <a:t>Bead-Stack mach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 Narrow"/>
              </a:rPr>
              <a:t>Loading the input (bea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1066680" y="1523880"/>
            <a:ext cx="1676520" cy="1067040"/>
            <a:chOff x="1066680" y="1523880"/>
            <a:chExt cx="1676520" cy="1067040"/>
          </a:xfrm>
        </p:grpSpPr>
        <p:grpSp>
          <p:nvGrpSpPr>
            <p:cNvPr id="682" name=""/>
            <p:cNvGrpSpPr/>
            <p:nvPr/>
          </p:nvGrpSpPr>
          <p:grpSpPr>
            <a:xfrm>
              <a:off x="1066680" y="2286000"/>
              <a:ext cx="1676520" cy="304920"/>
              <a:chOff x="1066680" y="2286000"/>
              <a:chExt cx="1676520" cy="304920"/>
            </a:xfrm>
          </p:grpSpPr>
          <p:sp>
            <p:nvSpPr>
              <p:cNvPr id="683" name=""/>
              <p:cNvSpPr/>
              <p:nvPr/>
            </p:nvSpPr>
            <p:spPr>
              <a:xfrm>
                <a:off x="1066680" y="2286000"/>
                <a:ext cx="838440" cy="1526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 Narrow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1905120" y="2438640"/>
                <a:ext cx="838080" cy="1522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5" name=""/>
            <p:cNvSpPr/>
            <p:nvPr/>
          </p:nvSpPr>
          <p:spPr>
            <a:xfrm>
              <a:off x="1523880" y="1523880"/>
              <a:ext cx="76320" cy="762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6" name=""/>
          <p:cNvGrpSpPr/>
          <p:nvPr/>
        </p:nvGrpSpPr>
        <p:grpSpPr>
          <a:xfrm>
            <a:off x="1905120" y="1523880"/>
            <a:ext cx="1676160" cy="1067040"/>
            <a:chOff x="1905120" y="1523880"/>
            <a:chExt cx="1676160" cy="1067040"/>
          </a:xfrm>
        </p:grpSpPr>
        <p:grpSp>
          <p:nvGrpSpPr>
            <p:cNvPr id="687" name=""/>
            <p:cNvGrpSpPr/>
            <p:nvPr/>
          </p:nvGrpSpPr>
          <p:grpSpPr>
            <a:xfrm>
              <a:off x="1905120" y="2286000"/>
              <a:ext cx="1676160" cy="304920"/>
              <a:chOff x="1905120" y="2286000"/>
              <a:chExt cx="1676160" cy="304920"/>
            </a:xfrm>
          </p:grpSpPr>
          <p:sp>
            <p:nvSpPr>
              <p:cNvPr id="688" name=""/>
              <p:cNvSpPr/>
              <p:nvPr/>
            </p:nvSpPr>
            <p:spPr>
              <a:xfrm>
                <a:off x="1905120" y="2286000"/>
                <a:ext cx="83808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 Narrow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2743200" y="2438640"/>
                <a:ext cx="838080" cy="1522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0" name=""/>
            <p:cNvSpPr/>
            <p:nvPr/>
          </p:nvSpPr>
          <p:spPr>
            <a:xfrm>
              <a:off x="2286000" y="1523880"/>
              <a:ext cx="76320" cy="7621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1" name=""/>
          <p:cNvGrpSpPr/>
          <p:nvPr/>
        </p:nvGrpSpPr>
        <p:grpSpPr>
          <a:xfrm>
            <a:off x="2743200" y="1523880"/>
            <a:ext cx="1676520" cy="1067040"/>
            <a:chOff x="2743200" y="1523880"/>
            <a:chExt cx="1676520" cy="1067040"/>
          </a:xfrm>
        </p:grpSpPr>
        <p:grpSp>
          <p:nvGrpSpPr>
            <p:cNvPr id="692" name=""/>
            <p:cNvGrpSpPr/>
            <p:nvPr/>
          </p:nvGrpSpPr>
          <p:grpSpPr>
            <a:xfrm>
              <a:off x="2743200" y="2286000"/>
              <a:ext cx="1676520" cy="304920"/>
              <a:chOff x="2743200" y="2286000"/>
              <a:chExt cx="1676520" cy="304920"/>
            </a:xfrm>
          </p:grpSpPr>
          <p:sp>
            <p:nvSpPr>
              <p:cNvPr id="693" name=""/>
              <p:cNvSpPr/>
              <p:nvPr/>
            </p:nvSpPr>
            <p:spPr>
              <a:xfrm>
                <a:off x="2743200" y="2286000"/>
                <a:ext cx="838080" cy="152640"/>
              </a:xfrm>
              <a:prstGeom prst="rect">
                <a:avLst/>
              </a:prstGeom>
              <a:solidFill>
                <a:srgbClr val="cc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 Narrow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3581280" y="2438640"/>
                <a:ext cx="838440" cy="152280"/>
              </a:xfrm>
              <a:prstGeom prst="rect">
                <a:avLst/>
              </a:prstGeom>
              <a:solidFill>
                <a:srgbClr val="cc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5" name=""/>
            <p:cNvSpPr/>
            <p:nvPr/>
          </p:nvSpPr>
          <p:spPr>
            <a:xfrm>
              <a:off x="3124080" y="1523880"/>
              <a:ext cx="76320" cy="7621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3581280" y="1523880"/>
            <a:ext cx="1676520" cy="1067040"/>
            <a:chOff x="3581280" y="1523880"/>
            <a:chExt cx="1676520" cy="1067040"/>
          </a:xfrm>
        </p:grpSpPr>
        <p:grpSp>
          <p:nvGrpSpPr>
            <p:cNvPr id="697" name=""/>
            <p:cNvGrpSpPr/>
            <p:nvPr/>
          </p:nvGrpSpPr>
          <p:grpSpPr>
            <a:xfrm>
              <a:off x="3581280" y="2286000"/>
              <a:ext cx="1676520" cy="304920"/>
              <a:chOff x="3581280" y="2286000"/>
              <a:chExt cx="1676520" cy="304920"/>
            </a:xfrm>
          </p:grpSpPr>
          <p:sp>
            <p:nvSpPr>
              <p:cNvPr id="698" name=""/>
              <p:cNvSpPr/>
              <p:nvPr/>
            </p:nvSpPr>
            <p:spPr>
              <a:xfrm>
                <a:off x="3581280" y="2286000"/>
                <a:ext cx="838440" cy="15264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 Narrow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419720" y="2438640"/>
                <a:ext cx="838080" cy="15228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0" name=""/>
            <p:cNvSpPr/>
            <p:nvPr/>
          </p:nvSpPr>
          <p:spPr>
            <a:xfrm>
              <a:off x="3962520" y="1523880"/>
              <a:ext cx="75960" cy="762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3809880" y="2590920"/>
            <a:ext cx="441360" cy="3886200"/>
            <a:chOff x="3809880" y="2590920"/>
            <a:chExt cx="441360" cy="3886200"/>
          </a:xfrm>
        </p:grpSpPr>
        <p:sp>
          <p:nvSpPr>
            <p:cNvPr id="702" name=""/>
            <p:cNvSpPr/>
            <p:nvPr/>
          </p:nvSpPr>
          <p:spPr>
            <a:xfrm>
              <a:off x="3962520" y="2590920"/>
              <a:ext cx="75960" cy="228600"/>
            </a:xfrm>
            <a:prstGeom prst="ca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03" name=""/>
            <p:cNvGraphicFramePr/>
            <p:nvPr/>
          </p:nvGraphicFramePr>
          <p:xfrm>
            <a:off x="3809880" y="2819520"/>
            <a:ext cx="441360" cy="457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0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09880" y="2819520"/>
                      <a:ext cx="44136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05" name=""/>
            <p:cNvSpPr/>
            <p:nvPr/>
          </p:nvSpPr>
          <p:spPr>
            <a:xfrm>
              <a:off x="4038480" y="3429000"/>
              <a:ext cx="0" cy="3048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6" name=""/>
          <p:cNvGrpSpPr/>
          <p:nvPr/>
        </p:nvGrpSpPr>
        <p:grpSpPr>
          <a:xfrm>
            <a:off x="2971800" y="2590920"/>
            <a:ext cx="441360" cy="3886200"/>
            <a:chOff x="2971800" y="2590920"/>
            <a:chExt cx="441360" cy="3886200"/>
          </a:xfrm>
        </p:grpSpPr>
        <p:sp>
          <p:nvSpPr>
            <p:cNvPr id="707" name=""/>
            <p:cNvSpPr/>
            <p:nvPr/>
          </p:nvSpPr>
          <p:spPr>
            <a:xfrm>
              <a:off x="3124080" y="2590920"/>
              <a:ext cx="76320" cy="228600"/>
            </a:xfrm>
            <a:prstGeom prst="ca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08" name=""/>
            <p:cNvGraphicFramePr/>
            <p:nvPr/>
          </p:nvGraphicFramePr>
          <p:xfrm>
            <a:off x="2971800" y="2819520"/>
            <a:ext cx="441360" cy="457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0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971800" y="2819520"/>
                      <a:ext cx="44136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10" name=""/>
            <p:cNvSpPr/>
            <p:nvPr/>
          </p:nvSpPr>
          <p:spPr>
            <a:xfrm>
              <a:off x="3200400" y="3429000"/>
              <a:ext cx="0" cy="3048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2133720" y="2590920"/>
            <a:ext cx="441360" cy="3886200"/>
            <a:chOff x="2133720" y="2590920"/>
            <a:chExt cx="441360" cy="3886200"/>
          </a:xfrm>
        </p:grpSpPr>
        <p:sp>
          <p:nvSpPr>
            <p:cNvPr id="712" name=""/>
            <p:cNvSpPr/>
            <p:nvPr/>
          </p:nvSpPr>
          <p:spPr>
            <a:xfrm>
              <a:off x="2286000" y="2590920"/>
              <a:ext cx="76320" cy="228600"/>
            </a:xfrm>
            <a:prstGeom prst="ca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13" name=""/>
            <p:cNvGraphicFramePr/>
            <p:nvPr/>
          </p:nvGraphicFramePr>
          <p:xfrm>
            <a:off x="2133720" y="2819520"/>
            <a:ext cx="441360" cy="457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1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133720" y="2819520"/>
                      <a:ext cx="44136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15" name=""/>
            <p:cNvSpPr/>
            <p:nvPr/>
          </p:nvSpPr>
          <p:spPr>
            <a:xfrm>
              <a:off x="2362320" y="3429000"/>
              <a:ext cx="0" cy="3048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4648320" y="2590920"/>
            <a:ext cx="441360" cy="3886200"/>
            <a:chOff x="4648320" y="2590920"/>
            <a:chExt cx="441360" cy="3886200"/>
          </a:xfrm>
        </p:grpSpPr>
        <p:sp>
          <p:nvSpPr>
            <p:cNvPr id="717" name=""/>
            <p:cNvSpPr/>
            <p:nvPr/>
          </p:nvSpPr>
          <p:spPr>
            <a:xfrm>
              <a:off x="4800600" y="2590920"/>
              <a:ext cx="76320" cy="228600"/>
            </a:xfrm>
            <a:prstGeom prst="ca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18" name=""/>
            <p:cNvGraphicFramePr/>
            <p:nvPr/>
          </p:nvGraphicFramePr>
          <p:xfrm>
            <a:off x="4648320" y="2819520"/>
            <a:ext cx="441360" cy="457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1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648320" y="2819520"/>
                      <a:ext cx="44136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20" name=""/>
            <p:cNvSpPr/>
            <p:nvPr/>
          </p:nvSpPr>
          <p:spPr>
            <a:xfrm>
              <a:off x="4876920" y="3429000"/>
              <a:ext cx="0" cy="3048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1" name=""/>
          <p:cNvSpPr/>
          <p:nvPr/>
        </p:nvSpPr>
        <p:spPr>
          <a:xfrm>
            <a:off x="5334120" y="3200400"/>
            <a:ext cx="3809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ushing button-1 will make one bead to drop down, pushing button-2 will make two beads to drop down (in parallel), and so 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9966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2" name=""/>
          <p:cNvGrpSpPr/>
          <p:nvPr/>
        </p:nvGrpSpPr>
        <p:grpSpPr>
          <a:xfrm>
            <a:off x="2590920" y="3657600"/>
            <a:ext cx="3352320" cy="685800"/>
            <a:chOff x="2590920" y="3657600"/>
            <a:chExt cx="3352320" cy="685800"/>
          </a:xfrm>
        </p:grpSpPr>
        <p:sp>
          <p:nvSpPr>
            <p:cNvPr id="723" name=""/>
            <p:cNvSpPr/>
            <p:nvPr/>
          </p:nvSpPr>
          <p:spPr>
            <a:xfrm flipH="1">
              <a:off x="2895120" y="3810240"/>
              <a:ext cx="3048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24" name=""/>
            <p:cNvGraphicFramePr/>
            <p:nvPr/>
          </p:nvGraphicFramePr>
          <p:xfrm>
            <a:off x="3741840" y="3657600"/>
            <a:ext cx="220680" cy="228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2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41840" y="3657600"/>
                      <a:ext cx="220680" cy="22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26" name=""/>
            <p:cNvSpPr/>
            <p:nvPr/>
          </p:nvSpPr>
          <p:spPr>
            <a:xfrm flipH="1">
              <a:off x="2819520" y="3962520"/>
              <a:ext cx="3047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27" name=""/>
            <p:cNvGraphicFramePr/>
            <p:nvPr/>
          </p:nvGraphicFramePr>
          <p:xfrm>
            <a:off x="2971800" y="3810240"/>
            <a:ext cx="220680" cy="228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2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971800" y="3810240"/>
                      <a:ext cx="220680" cy="22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29" name=""/>
            <p:cNvSpPr/>
            <p:nvPr/>
          </p:nvSpPr>
          <p:spPr>
            <a:xfrm flipH="1">
              <a:off x="2742840" y="4114800"/>
              <a:ext cx="3048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>
              <a:off x="2590920" y="4267440"/>
              <a:ext cx="3047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31" name=""/>
            <p:cNvGraphicFramePr/>
            <p:nvPr/>
          </p:nvGraphicFramePr>
          <p:xfrm>
            <a:off x="3132000" y="4114800"/>
            <a:ext cx="220680" cy="228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3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132000" y="4114800"/>
                      <a:ext cx="220680" cy="22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33" name=""/>
            <p:cNvGraphicFramePr/>
            <p:nvPr/>
          </p:nvGraphicFramePr>
          <p:xfrm>
            <a:off x="2895480" y="3962520"/>
            <a:ext cx="220680" cy="2286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3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895480" y="3962520"/>
                      <a:ext cx="220680" cy="22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35" name=""/>
            <p:cNvGraphicFramePr/>
            <p:nvPr/>
          </p:nvGraphicFramePr>
          <p:xfrm>
            <a:off x="2819520" y="4114800"/>
            <a:ext cx="220680" cy="2286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73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819520" y="4114800"/>
                      <a:ext cx="220680" cy="22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37" name=""/>
            <p:cNvGraphicFramePr/>
            <p:nvPr/>
          </p:nvGraphicFramePr>
          <p:xfrm>
            <a:off x="3200400" y="3962520"/>
            <a:ext cx="220680" cy="2286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738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200400" y="3962520"/>
                      <a:ext cx="220680" cy="22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39" name=""/>
            <p:cNvGraphicFramePr/>
            <p:nvPr/>
          </p:nvGraphicFramePr>
          <p:xfrm>
            <a:off x="3665520" y="3810240"/>
            <a:ext cx="220680" cy="2286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740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665520" y="3810240"/>
                      <a:ext cx="220680" cy="22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1" name=""/>
            <p:cNvGraphicFramePr/>
            <p:nvPr/>
          </p:nvGraphicFramePr>
          <p:xfrm>
            <a:off x="3589200" y="3962520"/>
            <a:ext cx="220680" cy="2286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742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3589200" y="3962520"/>
                      <a:ext cx="220680" cy="22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3" name=""/>
            <p:cNvGraphicFramePr/>
            <p:nvPr/>
          </p:nvGraphicFramePr>
          <p:xfrm>
            <a:off x="3513240" y="4114800"/>
            <a:ext cx="220680" cy="2286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44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513240" y="4114800"/>
                      <a:ext cx="220680" cy="22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45" name=""/>
          <p:cNvGrpSpPr/>
          <p:nvPr/>
        </p:nvGrpSpPr>
        <p:grpSpPr>
          <a:xfrm>
            <a:off x="5791320" y="1066680"/>
            <a:ext cx="677880" cy="3200400"/>
            <a:chOff x="5791320" y="1066680"/>
            <a:chExt cx="677880" cy="3200400"/>
          </a:xfrm>
        </p:grpSpPr>
        <p:sp>
          <p:nvSpPr>
            <p:cNvPr id="746" name=""/>
            <p:cNvSpPr/>
            <p:nvPr/>
          </p:nvSpPr>
          <p:spPr>
            <a:xfrm flipV="1">
              <a:off x="6324480" y="1447920"/>
              <a:ext cx="0" cy="2133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V="1">
              <a:off x="6172200" y="1294920"/>
              <a:ext cx="0" cy="2514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V="1">
              <a:off x="6019920" y="1218960"/>
              <a:ext cx="0" cy="2819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V="1">
              <a:off x="5867280" y="1066680"/>
              <a:ext cx="0" cy="3200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50" name=""/>
            <p:cNvGraphicFramePr/>
            <p:nvPr/>
          </p:nvGraphicFramePr>
          <p:xfrm>
            <a:off x="5799240" y="3962520"/>
            <a:ext cx="220680" cy="22860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51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5799240" y="3962520"/>
                      <a:ext cx="220680" cy="22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52" name=""/>
            <p:cNvGraphicFramePr/>
            <p:nvPr/>
          </p:nvGraphicFramePr>
          <p:xfrm>
            <a:off x="6095880" y="3657600"/>
            <a:ext cx="220680" cy="22860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3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6095880" y="3657600"/>
                      <a:ext cx="220680" cy="22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54" name=""/>
            <p:cNvGraphicFramePr/>
            <p:nvPr/>
          </p:nvGraphicFramePr>
          <p:xfrm>
            <a:off x="6248520" y="3505320"/>
            <a:ext cx="220680" cy="22860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55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6248520" y="3505320"/>
                      <a:ext cx="220680" cy="22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56" name=""/>
            <p:cNvGraphicFramePr/>
            <p:nvPr/>
          </p:nvGraphicFramePr>
          <p:xfrm>
            <a:off x="5943600" y="3581280"/>
            <a:ext cx="220680" cy="22860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57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5943600" y="3581280"/>
                      <a:ext cx="220680" cy="22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58" name=""/>
            <p:cNvGraphicFramePr/>
            <p:nvPr/>
          </p:nvGraphicFramePr>
          <p:xfrm>
            <a:off x="6095880" y="3429000"/>
            <a:ext cx="220680" cy="22860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759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095880" y="3429000"/>
                      <a:ext cx="220680" cy="22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0" name=""/>
            <p:cNvGraphicFramePr/>
            <p:nvPr/>
          </p:nvGraphicFramePr>
          <p:xfrm>
            <a:off x="5791320" y="3505320"/>
            <a:ext cx="220680" cy="22860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761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5791320" y="3505320"/>
                      <a:ext cx="220680" cy="22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2" name=""/>
            <p:cNvGraphicFramePr/>
            <p:nvPr/>
          </p:nvGraphicFramePr>
          <p:xfrm>
            <a:off x="5951520" y="3809880"/>
            <a:ext cx="220680" cy="22860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763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5951520" y="3809880"/>
                      <a:ext cx="220680" cy="22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4" name=""/>
            <p:cNvGraphicFramePr/>
            <p:nvPr/>
          </p:nvGraphicFramePr>
          <p:xfrm>
            <a:off x="5791320" y="3733920"/>
            <a:ext cx="220680" cy="2286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765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5791320" y="3733920"/>
                      <a:ext cx="220680" cy="22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6" name=""/>
            <p:cNvGraphicFramePr/>
            <p:nvPr/>
          </p:nvGraphicFramePr>
          <p:xfrm>
            <a:off x="5943600" y="3352680"/>
            <a:ext cx="220680" cy="22860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767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5943600" y="3352680"/>
                      <a:ext cx="220680" cy="22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68" name=""/>
          <p:cNvGrpSpPr/>
          <p:nvPr/>
        </p:nvGrpSpPr>
        <p:grpSpPr>
          <a:xfrm>
            <a:off x="4876920" y="2819520"/>
            <a:ext cx="914400" cy="914400"/>
            <a:chOff x="4876920" y="2819520"/>
            <a:chExt cx="914400" cy="914400"/>
          </a:xfrm>
        </p:grpSpPr>
        <p:sp>
          <p:nvSpPr>
            <p:cNvPr id="769" name=""/>
            <p:cNvSpPr/>
            <p:nvPr/>
          </p:nvSpPr>
          <p:spPr>
            <a:xfrm>
              <a:off x="5232240" y="2819520"/>
              <a:ext cx="559080" cy="914400"/>
            </a:xfrm>
            <a:custGeom>
              <a:avLst/>
              <a:gdLst/>
              <a:ahLst/>
              <a:rect l="l" t="t" r="r" b="b"/>
              <a:pathLst>
                <a:path w="352" h="576">
                  <a:moveTo>
                    <a:pt x="16" y="576"/>
                  </a:moveTo>
                  <a:cubicBezTo>
                    <a:pt x="8" y="472"/>
                    <a:pt x="0" y="368"/>
                    <a:pt x="16" y="288"/>
                  </a:cubicBezTo>
                  <a:cubicBezTo>
                    <a:pt x="32" y="208"/>
                    <a:pt x="56" y="144"/>
                    <a:pt x="112" y="96"/>
                  </a:cubicBezTo>
                  <a:cubicBezTo>
                    <a:pt x="168" y="48"/>
                    <a:pt x="312" y="16"/>
                    <a:pt x="35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sm" type="stealth" w="lg"/>
              <a:tailEnd len="sm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876920" y="287964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1" name=""/>
          <p:cNvSpPr/>
          <p:nvPr/>
        </p:nvSpPr>
        <p:spPr>
          <a:xfrm>
            <a:off x="76320" y="-76320"/>
            <a:ext cx="51051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00"/>
                </a:solidFill>
                <a:latin typeface="Arial Narrow"/>
              </a:rPr>
              <a:t>Bead-Stack mach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 Narrow"/>
              </a:rPr>
              <a:t>The “tilt”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9966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/>
          <p:nvPr/>
        </p:nvSpPr>
        <p:spPr>
          <a:xfrm>
            <a:off x="76320" y="60480"/>
            <a:ext cx="51051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00"/>
                </a:solidFill>
                <a:latin typeface="Arial Narrow"/>
              </a:rPr>
              <a:t>Bead-Stack mach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 Narrow"/>
              </a:rPr>
              <a:t>Reading the out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3" name=""/>
          <p:cNvGrpSpPr/>
          <p:nvPr/>
        </p:nvGrpSpPr>
        <p:grpSpPr>
          <a:xfrm>
            <a:off x="5181480" y="3809880"/>
            <a:ext cx="3276720" cy="870840"/>
            <a:chOff x="5181480" y="3809880"/>
            <a:chExt cx="3276720" cy="870840"/>
          </a:xfrm>
        </p:grpSpPr>
        <p:sp>
          <p:nvSpPr>
            <p:cNvPr id="774" name=""/>
            <p:cNvSpPr/>
            <p:nvPr/>
          </p:nvSpPr>
          <p:spPr>
            <a:xfrm>
              <a:off x="5181480" y="3951360"/>
              <a:ext cx="838440" cy="380880"/>
            </a:xfrm>
            <a:prstGeom prst="leftArrow">
              <a:avLst>
                <a:gd name="adj1" fmla="val 50000"/>
                <a:gd name="adj2" fmla="val 5503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75" name="" descr=""/>
            <p:cNvPicPr/>
            <p:nvPr/>
          </p:nvPicPr>
          <p:blipFill>
            <a:blip r:embed="rId1"/>
            <a:stretch/>
          </p:blipFill>
          <p:spPr>
            <a:xfrm>
              <a:off x="6095880" y="3809880"/>
              <a:ext cx="914400" cy="4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6" name=""/>
            <p:cNvSpPr/>
            <p:nvPr/>
          </p:nvSpPr>
          <p:spPr>
            <a:xfrm>
              <a:off x="5334120" y="4343400"/>
              <a:ext cx="3124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nly label ‘3’ is se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7" name=""/>
          <p:cNvGrpSpPr/>
          <p:nvPr/>
        </p:nvGrpSpPr>
        <p:grpSpPr>
          <a:xfrm>
            <a:off x="76320" y="1432080"/>
            <a:ext cx="8610480" cy="4177800"/>
            <a:chOff x="76320" y="1432080"/>
            <a:chExt cx="8610480" cy="4177800"/>
          </a:xfrm>
        </p:grpSpPr>
        <p:grpSp>
          <p:nvGrpSpPr>
            <p:cNvPr id="778" name=""/>
            <p:cNvGrpSpPr/>
            <p:nvPr/>
          </p:nvGrpSpPr>
          <p:grpSpPr>
            <a:xfrm>
              <a:off x="1523880" y="2057400"/>
              <a:ext cx="3657600" cy="3552480"/>
              <a:chOff x="1523880" y="2057400"/>
              <a:chExt cx="3657600" cy="3552480"/>
            </a:xfrm>
          </p:grpSpPr>
          <p:sp>
            <p:nvSpPr>
              <p:cNvPr id="779" name=""/>
              <p:cNvSpPr/>
              <p:nvPr/>
            </p:nvSpPr>
            <p:spPr>
              <a:xfrm>
                <a:off x="4267080" y="2057400"/>
                <a:ext cx="0" cy="30481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3733920" y="2057400"/>
                <a:ext cx="0" cy="30481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3200400" y="2057400"/>
                <a:ext cx="0" cy="30481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782" name=""/>
              <p:cNvGraphicFramePr/>
              <p:nvPr/>
            </p:nvGraphicFramePr>
            <p:xfrm>
              <a:off x="2987640" y="4343400"/>
              <a:ext cx="441360" cy="45720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783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2987640" y="4343400"/>
                        <a:ext cx="441360" cy="457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784" name=""/>
              <p:cNvGraphicFramePr/>
              <p:nvPr/>
            </p:nvGraphicFramePr>
            <p:xfrm>
              <a:off x="3505320" y="3429000"/>
              <a:ext cx="441360" cy="45720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785" name="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3505320" y="3429000"/>
                        <a:ext cx="441360" cy="457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786" name=""/>
              <p:cNvGraphicFramePr/>
              <p:nvPr/>
            </p:nvGraphicFramePr>
            <p:xfrm>
              <a:off x="3505320" y="3886200"/>
              <a:ext cx="441360" cy="45720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787" name="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3505320" y="3886200"/>
                        <a:ext cx="441360" cy="457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788" name=""/>
              <p:cNvGraphicFramePr/>
              <p:nvPr/>
            </p:nvGraphicFramePr>
            <p:xfrm>
              <a:off x="2971800" y="3429000"/>
              <a:ext cx="441360" cy="457200"/>
            </p:xfrm>
            <a:graphic>
              <a:graphicData uri="http://schemas.openxmlformats.org/presentationml/2006/ole">
                <p:oleObj r:id="rId8" spid="">
                  <p:embed/>
                  <p:pic>
                    <p:nvPicPr>
                      <p:cNvPr id="789" name="" descr=""/>
                      <p:cNvPicPr/>
                      <p:nvPr/>
                    </p:nvPicPr>
                    <p:blipFill>
                      <a:blip r:embed="rId9"/>
                      <a:stretch/>
                    </p:blipFill>
                    <p:spPr>
                      <a:xfrm>
                        <a:off x="2971800" y="3429000"/>
                        <a:ext cx="441360" cy="457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790" name=""/>
              <p:cNvGraphicFramePr/>
              <p:nvPr/>
            </p:nvGraphicFramePr>
            <p:xfrm>
              <a:off x="2987640" y="3886200"/>
              <a:ext cx="441360" cy="457200"/>
            </p:xfrm>
            <a:graphic>
              <a:graphicData uri="http://schemas.openxmlformats.org/presentationml/2006/ole">
                <p:oleObj r:id="rId10" spid="">
                  <p:embed/>
                  <p:pic>
                    <p:nvPicPr>
                      <p:cNvPr id="791" name="" descr=""/>
                      <p:cNvPicPr/>
                      <p:nvPr/>
                    </p:nvPicPr>
                    <p:blipFill>
                      <a:blip r:embed="rId11"/>
                      <a:stretch/>
                    </p:blipFill>
                    <p:spPr>
                      <a:xfrm>
                        <a:off x="2987640" y="3886200"/>
                        <a:ext cx="441360" cy="457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92" name=""/>
              <p:cNvSpPr/>
              <p:nvPr/>
            </p:nvSpPr>
            <p:spPr>
              <a:xfrm>
                <a:off x="4800600" y="2057400"/>
                <a:ext cx="0" cy="30481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793" name=""/>
              <p:cNvGraphicFramePr/>
              <p:nvPr/>
            </p:nvGraphicFramePr>
            <p:xfrm>
              <a:off x="2971800" y="2971800"/>
              <a:ext cx="441360" cy="457200"/>
            </p:xfrm>
            <a:graphic>
              <a:graphicData uri="http://schemas.openxmlformats.org/presentationml/2006/ole">
                <p:oleObj r:id="rId12" spid="">
                  <p:embed/>
                  <p:pic>
                    <p:nvPicPr>
                      <p:cNvPr id="794" name="" descr=""/>
                      <p:cNvPicPr/>
                      <p:nvPr/>
                    </p:nvPicPr>
                    <p:blipFill>
                      <a:blip r:embed="rId13"/>
                      <a:stretch/>
                    </p:blipFill>
                    <p:spPr>
                      <a:xfrm>
                        <a:off x="2971800" y="2971800"/>
                        <a:ext cx="441360" cy="457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795" name=""/>
              <p:cNvGraphicFramePr/>
              <p:nvPr/>
            </p:nvGraphicFramePr>
            <p:xfrm>
              <a:off x="3505320" y="4343400"/>
              <a:ext cx="441360" cy="457200"/>
            </p:xfrm>
            <a:graphic>
              <a:graphicData uri="http://schemas.openxmlformats.org/presentationml/2006/ole">
                <p:oleObj r:id="rId14" spid="">
                  <p:embed/>
                  <p:pic>
                    <p:nvPicPr>
                      <p:cNvPr id="796" name="" descr=""/>
                      <p:cNvPicPr/>
                      <p:nvPr/>
                    </p:nvPicPr>
                    <p:blipFill>
                      <a:blip r:embed="rId15"/>
                      <a:stretch/>
                    </p:blipFill>
                    <p:spPr>
                      <a:xfrm>
                        <a:off x="3505320" y="4343400"/>
                        <a:ext cx="441360" cy="457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797" name=""/>
              <p:cNvGraphicFramePr/>
              <p:nvPr/>
            </p:nvGraphicFramePr>
            <p:xfrm>
              <a:off x="4070520" y="3886200"/>
              <a:ext cx="441000" cy="457200"/>
            </p:xfrm>
            <a:graphic>
              <a:graphicData uri="http://schemas.openxmlformats.org/presentationml/2006/ole">
                <p:oleObj r:id="rId16" spid="">
                  <p:embed/>
                  <p:pic>
                    <p:nvPicPr>
                      <p:cNvPr id="798" name="" descr=""/>
                      <p:cNvPicPr/>
                      <p:nvPr/>
                    </p:nvPicPr>
                    <p:blipFill>
                      <a:blip r:embed="rId17"/>
                      <a:stretch/>
                    </p:blipFill>
                    <p:spPr>
                      <a:xfrm>
                        <a:off x="4070520" y="3886200"/>
                        <a:ext cx="441000" cy="457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799" name=""/>
              <p:cNvGraphicFramePr/>
              <p:nvPr/>
            </p:nvGraphicFramePr>
            <p:xfrm>
              <a:off x="4038480" y="4343400"/>
              <a:ext cx="441360" cy="457200"/>
            </p:xfrm>
            <a:graphic>
              <a:graphicData uri="http://schemas.openxmlformats.org/presentationml/2006/ole">
                <p:oleObj r:id="rId18" spid="">
                  <p:embed/>
                  <p:pic>
                    <p:nvPicPr>
                      <p:cNvPr id="800" name="" descr=""/>
                      <p:cNvPicPr/>
                      <p:nvPr/>
                    </p:nvPicPr>
                    <p:blipFill>
                      <a:blip r:embed="rId19"/>
                      <a:stretch/>
                    </p:blipFill>
                    <p:spPr>
                      <a:xfrm>
                        <a:off x="4038480" y="4343400"/>
                        <a:ext cx="441360" cy="457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801" name=""/>
              <p:cNvGraphicFramePr/>
              <p:nvPr/>
            </p:nvGraphicFramePr>
            <p:xfrm>
              <a:off x="4572000" y="4343400"/>
              <a:ext cx="441360" cy="457200"/>
            </p:xfrm>
            <a:graphic>
              <a:graphicData uri="http://schemas.openxmlformats.org/presentationml/2006/ole">
                <p:oleObj r:id="rId20" spid="">
                  <p:embed/>
                  <p:pic>
                    <p:nvPicPr>
                      <p:cNvPr id="802" name="" descr=""/>
                      <p:cNvPicPr/>
                      <p:nvPr/>
                    </p:nvPicPr>
                    <p:blipFill>
                      <a:blip r:embed="rId21"/>
                      <a:stretch/>
                    </p:blipFill>
                    <p:spPr>
                      <a:xfrm>
                        <a:off x="4572000" y="4343400"/>
                        <a:ext cx="441360" cy="457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03" name=""/>
              <p:cNvSpPr/>
              <p:nvPr/>
            </p:nvSpPr>
            <p:spPr>
              <a:xfrm>
                <a:off x="3200400" y="388620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800000"/>
                    </a:solidFill>
                    <a:latin typeface="Arial Narrow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3657600" y="388620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800000"/>
                    </a:solidFill>
                    <a:latin typeface="Arial Narrow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4267080" y="388620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800000"/>
                    </a:solidFill>
                    <a:latin typeface="Arial Narrow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3200400" y="434340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800000"/>
                    </a:solidFill>
                    <a:latin typeface="Arial Narrow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3657600" y="434340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800000"/>
                    </a:solidFill>
                    <a:latin typeface="Arial Narrow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4191120" y="434340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800000"/>
                    </a:solidFill>
                    <a:latin typeface="Arial Narrow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4724280" y="434340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800000"/>
                    </a:solidFill>
                    <a:latin typeface="Arial Narrow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200400" y="342900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800000"/>
                    </a:solidFill>
                    <a:latin typeface="Arial Narrow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3657600" y="342900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800000"/>
                    </a:solidFill>
                    <a:latin typeface="Arial Narrow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3200400" y="297180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800000"/>
                    </a:solidFill>
                    <a:latin typeface="Arial Narrow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13" name=""/>
              <p:cNvGrpSpPr/>
              <p:nvPr/>
            </p:nvGrpSpPr>
            <p:grpSpPr>
              <a:xfrm>
                <a:off x="2971800" y="3886200"/>
                <a:ext cx="2209680" cy="457200"/>
                <a:chOff x="2971800" y="3886200"/>
                <a:chExt cx="2209680" cy="457200"/>
              </a:xfrm>
            </p:grpSpPr>
            <p:sp>
              <p:nvSpPr>
                <p:cNvPr id="814" name=""/>
                <p:cNvSpPr/>
                <p:nvPr/>
              </p:nvSpPr>
              <p:spPr>
                <a:xfrm>
                  <a:off x="2971800" y="3886200"/>
                  <a:ext cx="2209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2971800" y="4343400"/>
                  <a:ext cx="2209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 flipV="1">
                  <a:off x="2971800" y="38862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7" name=""/>
              <p:cNvGrpSpPr/>
              <p:nvPr/>
            </p:nvGrpSpPr>
            <p:grpSpPr>
              <a:xfrm>
                <a:off x="2362320" y="4648320"/>
                <a:ext cx="1447560" cy="457200"/>
                <a:chOff x="2362320" y="4648320"/>
                <a:chExt cx="1447560" cy="457200"/>
              </a:xfrm>
            </p:grpSpPr>
            <p:sp>
              <p:nvSpPr>
                <p:cNvPr id="818" name=""/>
                <p:cNvSpPr/>
                <p:nvPr/>
              </p:nvSpPr>
              <p:spPr>
                <a:xfrm flipV="1">
                  <a:off x="2362320" y="4648320"/>
                  <a:ext cx="990360" cy="45720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 flipV="1">
                  <a:off x="2362320" y="4648320"/>
                  <a:ext cx="1447560" cy="45720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0" name=""/>
              <p:cNvSpPr/>
              <p:nvPr/>
            </p:nvSpPr>
            <p:spPr>
              <a:xfrm>
                <a:off x="1523880" y="5029200"/>
                <a:ext cx="22860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labels stuck on the sides (of the beads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1" name=""/>
              <p:cNvGrpSpPr/>
              <p:nvPr/>
            </p:nvGrpSpPr>
            <p:grpSpPr>
              <a:xfrm>
                <a:off x="2971800" y="4343400"/>
                <a:ext cx="2209680" cy="457200"/>
                <a:chOff x="2971800" y="4343400"/>
                <a:chExt cx="2209680" cy="457200"/>
              </a:xfrm>
            </p:grpSpPr>
            <p:sp>
              <p:nvSpPr>
                <p:cNvPr id="822" name=""/>
                <p:cNvSpPr/>
                <p:nvPr/>
              </p:nvSpPr>
              <p:spPr>
                <a:xfrm>
                  <a:off x="2971800" y="4343400"/>
                  <a:ext cx="2209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2971800" y="4800600"/>
                  <a:ext cx="2209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 flipV="1">
                  <a:off x="2971800" y="4343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5" name=""/>
              <p:cNvGrpSpPr/>
              <p:nvPr/>
            </p:nvGrpSpPr>
            <p:grpSpPr>
              <a:xfrm>
                <a:off x="2971800" y="2971800"/>
                <a:ext cx="2209680" cy="457200"/>
                <a:chOff x="2971800" y="2971800"/>
                <a:chExt cx="2209680" cy="457200"/>
              </a:xfrm>
            </p:grpSpPr>
            <p:sp>
              <p:nvSpPr>
                <p:cNvPr id="826" name=""/>
                <p:cNvSpPr/>
                <p:nvPr/>
              </p:nvSpPr>
              <p:spPr>
                <a:xfrm>
                  <a:off x="2971800" y="2971800"/>
                  <a:ext cx="2209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2971800" y="3429000"/>
                  <a:ext cx="2209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 flipV="1">
                  <a:off x="2971800" y="29718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9" name=""/>
              <p:cNvGrpSpPr/>
              <p:nvPr/>
            </p:nvGrpSpPr>
            <p:grpSpPr>
              <a:xfrm>
                <a:off x="2971800" y="3429000"/>
                <a:ext cx="2209680" cy="457200"/>
                <a:chOff x="2971800" y="3429000"/>
                <a:chExt cx="2209680" cy="457200"/>
              </a:xfrm>
            </p:grpSpPr>
            <p:sp>
              <p:nvSpPr>
                <p:cNvPr id="830" name=""/>
                <p:cNvSpPr/>
                <p:nvPr/>
              </p:nvSpPr>
              <p:spPr>
                <a:xfrm>
                  <a:off x="2971800" y="3429000"/>
                  <a:ext cx="2209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2971800" y="3886200"/>
                  <a:ext cx="2209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 flipV="1">
                  <a:off x="2971800" y="34290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33" name=""/>
            <p:cNvSpPr/>
            <p:nvPr/>
          </p:nvSpPr>
          <p:spPr>
            <a:xfrm>
              <a:off x="76320" y="1432080"/>
              <a:ext cx="8610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Beads rolled down along rod-1 will have the label “1”, those rolled down along rod-2 will have “2”, and so on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oshua Arulanandham</cp:lastModifiedBy>
  <dcterms:modified xsi:type="dcterms:W3CDTF">2004-03-14T22:09:19Z</dcterms:modified>
  <cp:revision>36</cp:revision>
  <dc:subject/>
  <dc:title>PowerPoint Presentation</dc:title>
</cp:coreProperties>
</file>