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3805200" y="-36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2"/>
          </p:nvPr>
        </p:nvSpPr>
        <p:spPr>
          <a:xfrm>
            <a:off x="-360" y="936108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3"/>
          </p:nvPr>
        </p:nvSpPr>
        <p:spPr>
          <a:xfrm>
            <a:off x="3805200" y="936108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4DAE-424A-4F14-A425-593AEC435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such “inverting” problems are solved traditionally (using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etho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deterministic machines can avoid exhaustive search and long explorations (unlike deterministic machines) by making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ight cho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t ALL “decision point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, in general, sequential machines can’t be modelled by Boolean circuits (alone), trajectories (of such sequential machines) of a given length can be modelled using boolean circuits: each (distinct) trajectory will then correspond to an “input combination” of 0s and 1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0" y="0"/>
          <a:ext cx="1600200" cy="123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60020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" name=""/>
          <p:cNvGraphicFramePr/>
          <p:nvPr/>
        </p:nvGraphicFramePr>
        <p:xfrm>
          <a:off x="0" y="1066680"/>
          <a:ext cx="1600200" cy="1235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066680"/>
                    <a:ext cx="160020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" name=""/>
          <p:cNvGraphicFramePr/>
          <p:nvPr/>
        </p:nvGraphicFramePr>
        <p:xfrm>
          <a:off x="0" y="2209680"/>
          <a:ext cx="1600200" cy="1235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2209680"/>
                    <a:ext cx="160020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" name=""/>
          <p:cNvGraphicFramePr/>
          <p:nvPr/>
        </p:nvGraphicFramePr>
        <p:xfrm>
          <a:off x="0" y="3352680"/>
          <a:ext cx="1600200" cy="1235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3352680"/>
                    <a:ext cx="160020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" name=""/>
          <p:cNvGraphicFramePr/>
          <p:nvPr/>
        </p:nvGraphicFramePr>
        <p:xfrm>
          <a:off x="0" y="4495680"/>
          <a:ext cx="1600200" cy="1235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4495680"/>
                    <a:ext cx="160020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" name=""/>
          <p:cNvGraphicFramePr/>
          <p:nvPr/>
        </p:nvGraphicFramePr>
        <p:xfrm>
          <a:off x="0" y="5638680"/>
          <a:ext cx="1600200" cy="1235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0" y="5638680"/>
                    <a:ext cx="160020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733920" y="28954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olving S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523880" y="76320"/>
            <a:ext cx="7391520" cy="9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Bilateral computing de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- NOT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971800" y="1581840"/>
            <a:ext cx="4800600" cy="1924920"/>
            <a:chOff x="2971800" y="1581840"/>
            <a:chExt cx="4800600" cy="1924920"/>
          </a:xfrm>
        </p:grpSpPr>
        <p:grpSp>
          <p:nvGrpSpPr>
            <p:cNvPr id="495" name=""/>
            <p:cNvGrpSpPr/>
            <p:nvPr/>
          </p:nvGrpSpPr>
          <p:grpSpPr>
            <a:xfrm>
              <a:off x="2971800" y="1581840"/>
              <a:ext cx="3047760" cy="1924920"/>
              <a:chOff x="2971800" y="1581840"/>
              <a:chExt cx="3047760" cy="192492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4952880" y="2147760"/>
                <a:ext cx="380880" cy="762120"/>
                <a:chOff x="4952880" y="2147760"/>
                <a:chExt cx="380880" cy="76212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4952880" y="2833560"/>
                  <a:ext cx="380880" cy="76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105160" y="2147760"/>
                  <a:ext cx="76320" cy="685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3276360" y="2071800"/>
                <a:ext cx="380880" cy="761400"/>
                <a:chOff x="3276360" y="2071800"/>
                <a:chExt cx="380880" cy="76140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3276360" y="2757240"/>
                  <a:ext cx="380880" cy="75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428640" y="2071800"/>
                  <a:ext cx="76320" cy="685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"/>
              <p:cNvSpPr/>
              <p:nvPr/>
            </p:nvSpPr>
            <p:spPr>
              <a:xfrm rot="16200000">
                <a:off x="3429000" y="1995480"/>
                <a:ext cx="914400" cy="1371600"/>
              </a:xfrm>
              <a:custGeom>
                <a:avLst/>
                <a:gdLst>
                  <a:gd name="textAreaLeft" fmla="*/ 268920 w 914400"/>
                  <a:gd name="textAreaRight" fmla="*/ 914760 w 914400"/>
                  <a:gd name="textAreaTop" fmla="*/ 56880 h 1371600"/>
                  <a:gd name="textAreaBottom" fmla="*/ 1314720 h 137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16200000">
                <a:off x="3619080" y="2185920"/>
                <a:ext cx="533520" cy="609480"/>
              </a:xfrm>
              <a:custGeom>
                <a:avLst/>
                <a:gdLst>
                  <a:gd name="textAreaLeft" fmla="*/ 156600 w 533520"/>
                  <a:gd name="textAreaRight" fmla="*/ 533880 w 533520"/>
                  <a:gd name="textAreaTop" fmla="*/ 25200 h 609480"/>
                  <a:gd name="textAreaBottom" fmla="*/ 58428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200400" y="2147760"/>
                <a:ext cx="380880" cy="152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4190760" y="1690560"/>
                <a:ext cx="380880" cy="762120"/>
                <a:chOff x="4190760" y="1690560"/>
                <a:chExt cx="380880" cy="76212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4190760" y="2376360"/>
                  <a:ext cx="380880" cy="76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4343040" y="1690560"/>
                  <a:ext cx="76320" cy="685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8" name=""/>
              <p:cNvSpPr/>
              <p:nvPr/>
            </p:nvSpPr>
            <p:spPr>
              <a:xfrm>
                <a:off x="4190760" y="2147760"/>
                <a:ext cx="381240" cy="152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952880" y="2224080"/>
                <a:ext cx="380880" cy="914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0" name=""/>
              <p:cNvGrpSpPr/>
              <p:nvPr/>
            </p:nvGrpSpPr>
            <p:grpSpPr>
              <a:xfrm>
                <a:off x="4401360" y="1581840"/>
                <a:ext cx="874800" cy="598320"/>
                <a:chOff x="4401360" y="1581840"/>
                <a:chExt cx="874800" cy="598320"/>
              </a:xfrm>
            </p:grpSpPr>
            <p:sp>
              <p:nvSpPr>
                <p:cNvPr id="511" name=""/>
                <p:cNvSpPr/>
                <p:nvPr/>
              </p:nvSpPr>
              <p:spPr>
                <a:xfrm rot="18159000">
                  <a:off x="4800600" y="1385640"/>
                  <a:ext cx="75960" cy="9903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724280" y="1919160"/>
                  <a:ext cx="152280" cy="228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3276360" y="2909880"/>
                <a:ext cx="12193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352680" y="3062160"/>
                <a:ext cx="11430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190760" y="2604960"/>
                <a:ext cx="3812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190760" y="2757600"/>
                <a:ext cx="3812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581280" y="313848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Narrow"/>
                  </a:rPr>
                  <a:t>NOT g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800600" y="160020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“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see-saw” joi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971800" y="266688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5333400" y="266688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6858000" y="1981080"/>
              <a:ext cx="91440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 Narrow"/>
                  <a:ea typeface="Arial"/>
                </a:rPr>
                <a:t>a    ~a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 Narrow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0      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1      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3657600" y="4683240"/>
            <a:ext cx="1371240" cy="1142640"/>
            <a:chOff x="3657600" y="4683240"/>
            <a:chExt cx="1371240" cy="1142640"/>
          </a:xfrm>
        </p:grpSpPr>
        <p:grpSp>
          <p:nvGrpSpPr>
            <p:cNvPr id="523" name=""/>
            <p:cNvGrpSpPr/>
            <p:nvPr/>
          </p:nvGrpSpPr>
          <p:grpSpPr>
            <a:xfrm>
              <a:off x="4647960" y="5064480"/>
              <a:ext cx="380880" cy="761400"/>
              <a:chOff x="4647960" y="5064480"/>
              <a:chExt cx="380880" cy="761400"/>
            </a:xfrm>
          </p:grpSpPr>
          <p:sp>
            <p:nvSpPr>
              <p:cNvPr id="524" name=""/>
              <p:cNvSpPr/>
              <p:nvPr/>
            </p:nvSpPr>
            <p:spPr>
              <a:xfrm>
                <a:off x="4647960" y="5749920"/>
                <a:ext cx="380880" cy="759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00240" y="5064480"/>
                <a:ext cx="76320" cy="6854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3657600" y="4759560"/>
              <a:ext cx="380880" cy="762120"/>
              <a:chOff x="3657600" y="4759560"/>
              <a:chExt cx="380880" cy="762120"/>
            </a:xfrm>
          </p:grpSpPr>
          <p:sp>
            <p:nvSpPr>
              <p:cNvPr id="527" name=""/>
              <p:cNvSpPr/>
              <p:nvPr/>
            </p:nvSpPr>
            <p:spPr>
              <a:xfrm>
                <a:off x="3657600" y="5445360"/>
                <a:ext cx="38088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809880" y="4759560"/>
                <a:ext cx="76320" cy="6858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3809880" y="4683240"/>
              <a:ext cx="1143000" cy="381240"/>
              <a:chOff x="3809880" y="4683240"/>
              <a:chExt cx="1143000" cy="381240"/>
            </a:xfrm>
          </p:grpSpPr>
          <p:sp>
            <p:nvSpPr>
              <p:cNvPr id="530" name=""/>
              <p:cNvSpPr/>
              <p:nvPr/>
            </p:nvSpPr>
            <p:spPr>
              <a:xfrm>
                <a:off x="4190760" y="4835880"/>
                <a:ext cx="15264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809880" y="4683240"/>
                <a:ext cx="1143000" cy="3812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2" name=""/>
          <p:cNvGrpSpPr/>
          <p:nvPr/>
        </p:nvGrpSpPr>
        <p:grpSpPr>
          <a:xfrm>
            <a:off x="5487840" y="1295280"/>
            <a:ext cx="380880" cy="762120"/>
            <a:chOff x="5487840" y="1295280"/>
            <a:chExt cx="380880" cy="762120"/>
          </a:xfrm>
        </p:grpSpPr>
        <p:sp>
          <p:nvSpPr>
            <p:cNvPr id="533" name=""/>
            <p:cNvSpPr/>
            <p:nvPr/>
          </p:nvSpPr>
          <p:spPr>
            <a:xfrm>
              <a:off x="5487840" y="1981080"/>
              <a:ext cx="380880" cy="76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640120" y="1295280"/>
              <a:ext cx="76320" cy="685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5869080" y="1905120"/>
            <a:ext cx="380880" cy="761400"/>
            <a:chOff x="5869080" y="1905120"/>
            <a:chExt cx="380880" cy="761400"/>
          </a:xfrm>
        </p:grpSpPr>
        <p:sp>
          <p:nvSpPr>
            <p:cNvPr id="536" name=""/>
            <p:cNvSpPr/>
            <p:nvPr/>
          </p:nvSpPr>
          <p:spPr>
            <a:xfrm>
              <a:off x="5869080" y="2590560"/>
              <a:ext cx="380880" cy="75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21360" y="1905120"/>
              <a:ext cx="76320" cy="685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276720" y="4073400"/>
            <a:ext cx="2819160" cy="762120"/>
            <a:chOff x="3276720" y="4073400"/>
            <a:chExt cx="2819160" cy="762120"/>
          </a:xfrm>
        </p:grpSpPr>
        <p:grpSp>
          <p:nvGrpSpPr>
            <p:cNvPr id="539" name=""/>
            <p:cNvGrpSpPr/>
            <p:nvPr/>
          </p:nvGrpSpPr>
          <p:grpSpPr>
            <a:xfrm>
              <a:off x="5715000" y="4073400"/>
              <a:ext cx="380880" cy="762120"/>
              <a:chOff x="5715000" y="4073400"/>
              <a:chExt cx="380880" cy="762120"/>
            </a:xfrm>
          </p:grpSpPr>
          <p:sp>
            <p:nvSpPr>
              <p:cNvPr id="540" name=""/>
              <p:cNvSpPr/>
              <p:nvPr/>
            </p:nvSpPr>
            <p:spPr>
              <a:xfrm>
                <a:off x="5715000" y="4759200"/>
                <a:ext cx="38088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867280" y="4073400"/>
                <a:ext cx="76320" cy="6858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3276720" y="4073400"/>
              <a:ext cx="380880" cy="762120"/>
              <a:chOff x="3276720" y="4073400"/>
              <a:chExt cx="380880" cy="762120"/>
            </a:xfrm>
          </p:grpSpPr>
          <p:sp>
            <p:nvSpPr>
              <p:cNvPr id="543" name=""/>
              <p:cNvSpPr/>
              <p:nvPr/>
            </p:nvSpPr>
            <p:spPr>
              <a:xfrm>
                <a:off x="3276720" y="4759200"/>
                <a:ext cx="38088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429000" y="4073400"/>
                <a:ext cx="76320" cy="6858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4344840" y="1905120"/>
            <a:ext cx="380880" cy="761400"/>
            <a:chOff x="4344840" y="1905120"/>
            <a:chExt cx="380880" cy="761400"/>
          </a:xfrm>
        </p:grpSpPr>
        <p:sp>
          <p:nvSpPr>
            <p:cNvPr id="546" name=""/>
            <p:cNvSpPr/>
            <p:nvPr/>
          </p:nvSpPr>
          <p:spPr>
            <a:xfrm>
              <a:off x="4344840" y="2590560"/>
              <a:ext cx="380880" cy="75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97120" y="1905120"/>
              <a:ext cx="76320" cy="685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3581280" y="4682880"/>
            <a:ext cx="1371600" cy="1143000"/>
            <a:chOff x="3581280" y="4682880"/>
            <a:chExt cx="1371600" cy="1143000"/>
          </a:xfrm>
        </p:grpSpPr>
        <p:grpSp>
          <p:nvGrpSpPr>
            <p:cNvPr id="549" name=""/>
            <p:cNvGrpSpPr/>
            <p:nvPr/>
          </p:nvGrpSpPr>
          <p:grpSpPr>
            <a:xfrm>
              <a:off x="3581280" y="5064480"/>
              <a:ext cx="380880" cy="761400"/>
              <a:chOff x="3581280" y="5064480"/>
              <a:chExt cx="380880" cy="761400"/>
            </a:xfrm>
          </p:grpSpPr>
          <p:sp>
            <p:nvSpPr>
              <p:cNvPr id="550" name=""/>
              <p:cNvSpPr/>
              <p:nvPr/>
            </p:nvSpPr>
            <p:spPr>
              <a:xfrm>
                <a:off x="3581280" y="5749920"/>
                <a:ext cx="380880" cy="759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733560" y="5064480"/>
                <a:ext cx="76320" cy="6854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4572000" y="4759560"/>
              <a:ext cx="380880" cy="762120"/>
              <a:chOff x="4572000" y="4759560"/>
              <a:chExt cx="380880" cy="762120"/>
            </a:xfrm>
          </p:grpSpPr>
          <p:sp>
            <p:nvSpPr>
              <p:cNvPr id="553" name=""/>
              <p:cNvSpPr/>
              <p:nvPr/>
            </p:nvSpPr>
            <p:spPr>
              <a:xfrm>
                <a:off x="4572000" y="5445360"/>
                <a:ext cx="38088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724280" y="4759560"/>
                <a:ext cx="76320" cy="6858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3733560" y="4682880"/>
              <a:ext cx="1067040" cy="457560"/>
              <a:chOff x="3733560" y="4682880"/>
              <a:chExt cx="1067040" cy="457560"/>
            </a:xfrm>
          </p:grpSpPr>
          <p:sp>
            <p:nvSpPr>
              <p:cNvPr id="556" name=""/>
              <p:cNvSpPr/>
              <p:nvPr/>
            </p:nvSpPr>
            <p:spPr>
              <a:xfrm>
                <a:off x="4038480" y="4911840"/>
                <a:ext cx="15228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3733560" y="4682880"/>
                <a:ext cx="1067040" cy="38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"/>
          <p:cNvGrpSpPr/>
          <p:nvPr/>
        </p:nvGrpSpPr>
        <p:grpSpPr>
          <a:xfrm>
            <a:off x="2133720" y="4606560"/>
            <a:ext cx="4343040" cy="914760"/>
            <a:chOff x="2133720" y="4606560"/>
            <a:chExt cx="4343040" cy="914760"/>
          </a:xfrm>
        </p:grpSpPr>
        <p:grpSp>
          <p:nvGrpSpPr>
            <p:cNvPr id="559" name=""/>
            <p:cNvGrpSpPr/>
            <p:nvPr/>
          </p:nvGrpSpPr>
          <p:grpSpPr>
            <a:xfrm>
              <a:off x="6095880" y="4759200"/>
              <a:ext cx="380880" cy="762120"/>
              <a:chOff x="6095880" y="4759200"/>
              <a:chExt cx="380880" cy="762120"/>
            </a:xfrm>
          </p:grpSpPr>
          <p:sp>
            <p:nvSpPr>
              <p:cNvPr id="560" name=""/>
              <p:cNvSpPr/>
              <p:nvPr/>
            </p:nvSpPr>
            <p:spPr>
              <a:xfrm>
                <a:off x="6095880" y="5445000"/>
                <a:ext cx="38088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248160" y="4759200"/>
                <a:ext cx="76320" cy="6858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2133720" y="4759200"/>
              <a:ext cx="380880" cy="762120"/>
              <a:chOff x="2133720" y="4759200"/>
              <a:chExt cx="380880" cy="762120"/>
            </a:xfrm>
          </p:grpSpPr>
          <p:sp>
            <p:nvSpPr>
              <p:cNvPr id="563" name=""/>
              <p:cNvSpPr/>
              <p:nvPr/>
            </p:nvSpPr>
            <p:spPr>
              <a:xfrm>
                <a:off x="2133720" y="5445000"/>
                <a:ext cx="38088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286000" y="4759200"/>
                <a:ext cx="76320" cy="6858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2286000" y="4606560"/>
              <a:ext cx="3962520" cy="152640"/>
              <a:chOff x="2286000" y="4606560"/>
              <a:chExt cx="3962520" cy="152640"/>
            </a:xfrm>
          </p:grpSpPr>
          <p:sp>
            <p:nvSpPr>
              <p:cNvPr id="566" name=""/>
              <p:cNvSpPr/>
              <p:nvPr/>
            </p:nvSpPr>
            <p:spPr>
              <a:xfrm>
                <a:off x="2438280" y="4606920"/>
                <a:ext cx="3657600" cy="0"/>
              </a:xfrm>
              <a:prstGeom prst="line">
                <a:avLst/>
              </a:prstGeom>
              <a:ln cap="rnd" w="19080">
                <a:solidFill>
                  <a:srgbClr val="cc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>
                <a:off x="2286000" y="4606560"/>
                <a:ext cx="152280" cy="15228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019920" y="4606920"/>
                <a:ext cx="228600" cy="15228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"/>
          <p:cNvSpPr/>
          <p:nvPr/>
        </p:nvSpPr>
        <p:spPr>
          <a:xfrm>
            <a:off x="1676520" y="76320"/>
            <a:ext cx="74674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olving an instance of S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676520" y="7621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~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atisfi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781680" y="5105520"/>
            <a:ext cx="228600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a    b  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(~</a:t>
            </a: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a + b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) (</a:t>
            </a: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a + b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  <a:ea typeface="Arial"/>
              </a:rPr>
              <a:t>0    0 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  <a:ea typeface="Arial"/>
              </a:rPr>
              <a:t>1    0 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  <a:ea typeface="Arial"/>
              </a:rPr>
              <a:t>0    1        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  <a:ea typeface="Arial"/>
              </a:rPr>
              <a:t>1    1        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505320" y="1905120"/>
            <a:ext cx="2590560" cy="2209680"/>
            <a:chOff x="3505320" y="1905120"/>
            <a:chExt cx="2590560" cy="2209680"/>
          </a:xfrm>
        </p:grpSpPr>
        <p:grpSp>
          <p:nvGrpSpPr>
            <p:cNvPr id="573" name=""/>
            <p:cNvGrpSpPr/>
            <p:nvPr/>
          </p:nvGrpSpPr>
          <p:grpSpPr>
            <a:xfrm>
              <a:off x="5867280" y="1905120"/>
              <a:ext cx="228600" cy="2209680"/>
              <a:chOff x="5867280" y="1905120"/>
              <a:chExt cx="228600" cy="2209680"/>
            </a:xfrm>
          </p:grpSpPr>
          <p:sp>
            <p:nvSpPr>
              <p:cNvPr id="574" name=""/>
              <p:cNvSpPr/>
              <p:nvPr/>
            </p:nvSpPr>
            <p:spPr>
              <a:xfrm>
                <a:off x="5867280" y="3505320"/>
                <a:ext cx="228600" cy="3045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fefefe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5943600" y="1905120"/>
                <a:ext cx="76320" cy="22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3505320" y="1905120"/>
              <a:ext cx="1066680" cy="2209680"/>
              <a:chOff x="3505320" y="1905120"/>
              <a:chExt cx="1066680" cy="2209680"/>
            </a:xfrm>
          </p:grpSpPr>
          <p:sp>
            <p:nvSpPr>
              <p:cNvPr id="577" name=""/>
              <p:cNvSpPr/>
              <p:nvPr/>
            </p:nvSpPr>
            <p:spPr>
              <a:xfrm>
                <a:off x="3657600" y="3429000"/>
                <a:ext cx="228600" cy="304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fefefe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3505320" y="1905120"/>
                <a:ext cx="1066680" cy="22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9" name=""/>
          <p:cNvGrpSpPr/>
          <p:nvPr/>
        </p:nvGrpSpPr>
        <p:grpSpPr>
          <a:xfrm>
            <a:off x="4114800" y="1371600"/>
            <a:ext cx="3278160" cy="1828800"/>
            <a:chOff x="4114800" y="1371600"/>
            <a:chExt cx="3278160" cy="1828800"/>
          </a:xfrm>
        </p:grpSpPr>
        <p:grpSp>
          <p:nvGrpSpPr>
            <p:cNvPr id="580" name=""/>
            <p:cNvGrpSpPr/>
            <p:nvPr/>
          </p:nvGrpSpPr>
          <p:grpSpPr>
            <a:xfrm>
              <a:off x="4344840" y="1371600"/>
              <a:ext cx="1904760" cy="1828800"/>
              <a:chOff x="4344840" y="1371600"/>
              <a:chExt cx="1904760" cy="1828800"/>
            </a:xfrm>
          </p:grpSpPr>
          <p:sp>
            <p:nvSpPr>
              <p:cNvPr id="581" name=""/>
              <p:cNvSpPr/>
              <p:nvPr/>
            </p:nvSpPr>
            <p:spPr>
              <a:xfrm>
                <a:off x="5487840" y="1371600"/>
                <a:ext cx="380880" cy="914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16200000">
                <a:off x="4839840" y="1790640"/>
                <a:ext cx="914400" cy="1904760"/>
              </a:xfrm>
              <a:custGeom>
                <a:avLst/>
                <a:gdLst>
                  <a:gd name="textAreaLeft" fmla="*/ 268920 w 914400"/>
                  <a:gd name="textAreaRight" fmla="*/ 914760 w 914400"/>
                  <a:gd name="textAreaTop" fmla="*/ 79200 h 1904760"/>
                  <a:gd name="textAreaBottom" fmla="*/ 182556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6200000">
                <a:off x="5030280" y="1981080"/>
                <a:ext cx="533520" cy="1143000"/>
              </a:xfrm>
              <a:custGeom>
                <a:avLst/>
                <a:gdLst>
                  <a:gd name="textAreaLeft" fmla="*/ 156600 w 533520"/>
                  <a:gd name="textAreaRight" fmla="*/ 533880 w 533520"/>
                  <a:gd name="textAreaTop" fmla="*/ 47520 h 1143000"/>
                  <a:gd name="textAreaBottom" fmla="*/ 109548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344840" y="2209680"/>
                <a:ext cx="380880" cy="152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868720" y="2209680"/>
                <a:ext cx="380880" cy="152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5182920" y="2209680"/>
                <a:ext cx="30492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5640120" y="2209680"/>
                <a:ext cx="22860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6021360" y="15238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~a + b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 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 + b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4114800" y="1752480"/>
              <a:ext cx="2361960" cy="1067040"/>
              <a:chOff x="4114800" y="1752480"/>
              <a:chExt cx="2361960" cy="1067040"/>
            </a:xfrm>
          </p:grpSpPr>
          <p:sp>
            <p:nvSpPr>
              <p:cNvPr id="590" name=""/>
              <p:cNvSpPr/>
              <p:nvPr/>
            </p:nvSpPr>
            <p:spPr>
              <a:xfrm>
                <a:off x="4114800" y="281952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248160" y="281952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5866920" y="175248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3" name=""/>
          <p:cNvGrpSpPr/>
          <p:nvPr/>
        </p:nvGrpSpPr>
        <p:grpSpPr>
          <a:xfrm>
            <a:off x="4343400" y="4226040"/>
            <a:ext cx="2361960" cy="2135880"/>
            <a:chOff x="4343400" y="4226040"/>
            <a:chExt cx="2361960" cy="2135880"/>
          </a:xfrm>
        </p:grpSpPr>
        <p:sp>
          <p:nvSpPr>
            <p:cNvPr id="594" name=""/>
            <p:cNvSpPr/>
            <p:nvPr/>
          </p:nvSpPr>
          <p:spPr>
            <a:xfrm>
              <a:off x="4572000" y="605484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095880" y="605484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4343400" y="4226040"/>
              <a:ext cx="2361960" cy="1828800"/>
              <a:chOff x="4343400" y="4226040"/>
              <a:chExt cx="2361960" cy="1828800"/>
            </a:xfrm>
          </p:grpSpPr>
          <p:grpSp>
            <p:nvGrpSpPr>
              <p:cNvPr id="597" name=""/>
              <p:cNvGrpSpPr/>
              <p:nvPr/>
            </p:nvGrpSpPr>
            <p:grpSpPr>
              <a:xfrm>
                <a:off x="4572000" y="4226040"/>
                <a:ext cx="1904760" cy="1828800"/>
                <a:chOff x="4572000" y="4226040"/>
                <a:chExt cx="1904760" cy="182880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5715000" y="4226040"/>
                  <a:ext cx="380880" cy="914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5067000" y="4645080"/>
                  <a:ext cx="914400" cy="1904760"/>
                </a:xfrm>
                <a:custGeom>
                  <a:avLst/>
                  <a:gdLst>
                    <a:gd name="textAreaLeft" fmla="*/ 268920 w 914400"/>
                    <a:gd name="textAreaRight" fmla="*/ 914760 w 914400"/>
                    <a:gd name="textAreaTop" fmla="*/ 79200 h 1904760"/>
                    <a:gd name="textAreaBottom" fmla="*/ 1825560 h 1904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5257440" y="4835520"/>
                  <a:ext cx="533520" cy="1143000"/>
                </a:xfrm>
                <a:custGeom>
                  <a:avLst/>
                  <a:gdLst>
                    <a:gd name="textAreaLeft" fmla="*/ 156600 w 533520"/>
                    <a:gd name="textAreaRight" fmla="*/ 533880 w 533520"/>
                    <a:gd name="textAreaTop" fmla="*/ 47520 h 1143000"/>
                    <a:gd name="textAreaBottom" fmla="*/ 1095480 h 1143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4572000" y="5064480"/>
                  <a:ext cx="380880" cy="1522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6095880" y="5064480"/>
                  <a:ext cx="380880" cy="1522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V="1">
                  <a:off x="5410080" y="5064120"/>
                  <a:ext cx="30492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V="1">
                  <a:off x="5867280" y="5064120"/>
                  <a:ext cx="22860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5" name=""/>
              <p:cNvSpPr/>
              <p:nvPr/>
            </p:nvSpPr>
            <p:spPr>
              <a:xfrm>
                <a:off x="5029200" y="424008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 + b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" name=""/>
              <p:cNvGrpSpPr/>
              <p:nvPr/>
            </p:nvGrpSpPr>
            <p:grpSpPr>
              <a:xfrm>
                <a:off x="4343400" y="4572000"/>
                <a:ext cx="2361960" cy="990720"/>
                <a:chOff x="4343400" y="4572000"/>
                <a:chExt cx="2361960" cy="99072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4343400" y="5562720"/>
                  <a:ext cx="228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H="1">
                  <a:off x="6476760" y="5562720"/>
                  <a:ext cx="228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H="1">
                  <a:off x="6095520" y="4572000"/>
                  <a:ext cx="228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10" name=""/>
          <p:cNvGrpSpPr/>
          <p:nvPr/>
        </p:nvGrpSpPr>
        <p:grpSpPr>
          <a:xfrm>
            <a:off x="1905120" y="4226040"/>
            <a:ext cx="2361600" cy="2135880"/>
            <a:chOff x="1905120" y="4226040"/>
            <a:chExt cx="2361600" cy="2135880"/>
          </a:xfrm>
        </p:grpSpPr>
        <p:sp>
          <p:nvSpPr>
            <p:cNvPr id="611" name=""/>
            <p:cNvSpPr/>
            <p:nvPr/>
          </p:nvSpPr>
          <p:spPr>
            <a:xfrm>
              <a:off x="3581280" y="605484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~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209680" y="605484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1905120" y="4226040"/>
              <a:ext cx="2361600" cy="1828800"/>
              <a:chOff x="1905120" y="4226040"/>
              <a:chExt cx="2361600" cy="182880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1905120" y="4226040"/>
                <a:ext cx="2361600" cy="1828800"/>
                <a:chOff x="1905120" y="4226040"/>
                <a:chExt cx="2361600" cy="182880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2438280" y="4226040"/>
                  <a:ext cx="914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~a + b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6" name=""/>
                <p:cNvGrpSpPr/>
                <p:nvPr/>
              </p:nvGrpSpPr>
              <p:grpSpPr>
                <a:xfrm>
                  <a:off x="1905120" y="4226040"/>
                  <a:ext cx="2361600" cy="1828800"/>
                  <a:chOff x="1905120" y="4226040"/>
                  <a:chExt cx="2361600" cy="1828800"/>
                </a:xfrm>
              </p:grpSpPr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2133720" y="4226040"/>
                    <a:ext cx="1904760" cy="1828800"/>
                    <a:chOff x="2133720" y="4226040"/>
                    <a:chExt cx="1904760" cy="182880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>
                      <a:off x="3276360" y="4226040"/>
                      <a:ext cx="380880" cy="914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 rot="16200000">
                      <a:off x="2628720" y="4645080"/>
                      <a:ext cx="914400" cy="1904760"/>
                    </a:xfrm>
                    <a:custGeom>
                      <a:avLst/>
                      <a:gdLst>
                        <a:gd name="textAreaLeft" fmla="*/ 268920 w 914400"/>
                        <a:gd name="textAreaRight" fmla="*/ 914760 w 914400"/>
                        <a:gd name="textAreaTop" fmla="*/ 79200 h 1904760"/>
                        <a:gd name="textAreaBottom" fmla="*/ 1825560 h 19047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0800" y="0"/>
                            <a:pt x="0" y="900"/>
                            <a:pt x="0" y="1800"/>
                          </a:cubicBezTo>
                          <a:lnTo>
                            <a:pt x="0" y="19800"/>
                          </a:lnTo>
                          <a:cubicBezTo>
                            <a:pt x="0" y="20700"/>
                            <a:pt x="10800" y="21600"/>
                            <a:pt x="21600" y="2160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"/>
                    <p:cNvSpPr/>
                    <p:nvPr/>
                  </p:nvSpPr>
                  <p:spPr>
                    <a:xfrm rot="16200000">
                      <a:off x="2819160" y="4835880"/>
                      <a:ext cx="533520" cy="1142640"/>
                    </a:xfrm>
                    <a:custGeom>
                      <a:avLst/>
                      <a:gdLst>
                        <a:gd name="textAreaLeft" fmla="*/ 156600 w 533520"/>
                        <a:gd name="textAreaRight" fmla="*/ 533880 w 533520"/>
                        <a:gd name="textAreaTop" fmla="*/ 47520 h 1142640"/>
                        <a:gd name="textAreaBottom" fmla="*/ 1095120 h 11426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0800" y="0"/>
                            <a:pt x="0" y="900"/>
                            <a:pt x="0" y="1800"/>
                          </a:cubicBezTo>
                          <a:lnTo>
                            <a:pt x="0" y="19800"/>
                          </a:lnTo>
                          <a:cubicBezTo>
                            <a:pt x="0" y="20700"/>
                            <a:pt x="10800" y="21600"/>
                            <a:pt x="21600" y="2160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"/>
                    <p:cNvSpPr/>
                    <p:nvPr/>
                  </p:nvSpPr>
                  <p:spPr>
                    <a:xfrm>
                      <a:off x="2133720" y="5064480"/>
                      <a:ext cx="380880" cy="1522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>
                      <a:off x="3657600" y="5064480"/>
                      <a:ext cx="380520" cy="15228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 flipV="1">
                      <a:off x="2971800" y="5064120"/>
                      <a:ext cx="304200" cy="609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" name=""/>
                    <p:cNvSpPr/>
                    <p:nvPr/>
                  </p:nvSpPr>
                  <p:spPr>
                    <a:xfrm flipV="1">
                      <a:off x="3429000" y="5064120"/>
                      <a:ext cx="228240" cy="609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5" name=""/>
                  <p:cNvSpPr/>
                  <p:nvPr/>
                </p:nvSpPr>
                <p:spPr>
                  <a:xfrm>
                    <a:off x="1905120" y="5562720"/>
                    <a:ext cx="228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flipH="1">
                    <a:off x="4038120" y="5562720"/>
                    <a:ext cx="228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27" name=""/>
              <p:cNvSpPr/>
              <p:nvPr/>
            </p:nvSpPr>
            <p:spPr>
              <a:xfrm flipH="1">
                <a:off x="3657240" y="457200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4.44444E-006 L 1.11022E-016 -0.04444 E">
                                      <p:cBhvr>
                                        <p:cTn id="171" dur="2000" fill="hold"/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3.33333E-006 0.05556 E">
                                      <p:cBhvr>
                                        <p:cTn id="176" dur="2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3.33333E-006 L 0.00399 0.05556 E">
                                      <p:cBhvr>
                                        <p:cTn id="178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0051 L 0.00417 -0.06065 E">
                                      <p:cBhvr>
                                        <p:cTn id="182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-0.0051 L -0.00416 0.05046 E">
                                      <p:cBhvr>
                                        <p:cTn id="186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5" dur="1" fill="hold"/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1523880" y="76320"/>
            <a:ext cx="7391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Assum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676520" y="1600200"/>
            <a:ext cx="74674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. The seesaw always keeps pistons one up and the other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. Push inputs are “restrained”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one can use standard weights to give the exact “push” required rather than actually pushing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. There is a stop-cock in the apparatus (the weakest spot in the whole machinery) ready to be released if pressure exceeds a certain lim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1676520" y="76320"/>
            <a:ext cx="5029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A generic “SAT solver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676520" y="990720"/>
            <a:ext cx="70866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. 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-ary OR g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. 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inary OR gates in a tree fashion to implement a (disjunctive) claus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1523880" y="76320"/>
            <a:ext cx="7391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Time compl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248520" y="4097160"/>
            <a:ext cx="2819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peed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stance travelled / time t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676520" y="4800600"/>
            <a:ext cx="6781680" cy="21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/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ime taken for the impulse to reach the pis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ime taken for the pistons to react (due to fri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rows linearly with no. of gat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peed of sound in water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1600200" y="762120"/>
            <a:ext cx="5410080" cy="3886200"/>
            <a:chOff x="1600200" y="762120"/>
            <a:chExt cx="5410080" cy="3886200"/>
          </a:xfrm>
        </p:grpSpPr>
        <p:grpSp>
          <p:nvGrpSpPr>
            <p:cNvPr id="636" name=""/>
            <p:cNvGrpSpPr/>
            <p:nvPr/>
          </p:nvGrpSpPr>
          <p:grpSpPr>
            <a:xfrm>
              <a:off x="2895480" y="762120"/>
              <a:ext cx="4114800" cy="3886200"/>
              <a:chOff x="2895480" y="762120"/>
              <a:chExt cx="4114800" cy="3886200"/>
            </a:xfrm>
          </p:grpSpPr>
          <p:sp>
            <p:nvSpPr>
              <p:cNvPr id="637" name=""/>
              <p:cNvSpPr/>
              <p:nvPr/>
            </p:nvSpPr>
            <p:spPr>
              <a:xfrm>
                <a:off x="4800600" y="251460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895480" y="762120"/>
                <a:ext cx="4114800" cy="3886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9" name=""/>
              <p:cNvGrpSpPr/>
              <p:nvPr/>
            </p:nvGrpSpPr>
            <p:grpSpPr>
              <a:xfrm>
                <a:off x="2971800" y="2895480"/>
                <a:ext cx="3962520" cy="1752480"/>
                <a:chOff x="2971800" y="2895480"/>
                <a:chExt cx="3962520" cy="175248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2971800" y="3047760"/>
                  <a:ext cx="228600" cy="304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353040" y="3657240"/>
                  <a:ext cx="228600" cy="304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962520" y="4114440"/>
                  <a:ext cx="228600" cy="304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876920" y="4343040"/>
                  <a:ext cx="228600" cy="304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867640" y="4038480"/>
                  <a:ext cx="228600" cy="3045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400800" y="3504960"/>
                  <a:ext cx="228600" cy="304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6705720" y="2895480"/>
                  <a:ext cx="228600" cy="3045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3200040" y="2743200"/>
                <a:ext cx="3505680" cy="1600200"/>
                <a:chOff x="3200040" y="2743200"/>
                <a:chExt cx="3505680" cy="160020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4953240" y="2743200"/>
                  <a:ext cx="0" cy="160020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4953240" y="2743200"/>
                  <a:ext cx="914400" cy="129564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953240" y="2743200"/>
                  <a:ext cx="1371600" cy="83844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953240" y="2743200"/>
                  <a:ext cx="1752480" cy="30492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H="1">
                  <a:off x="4190760" y="2743200"/>
                  <a:ext cx="685800" cy="137160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>
                  <a:off x="3581640" y="2743200"/>
                  <a:ext cx="1295280" cy="91440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flipH="1">
                  <a:off x="3200040" y="2743200"/>
                  <a:ext cx="1676520" cy="45720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5" name=""/>
              <p:cNvSpPr/>
              <p:nvPr/>
            </p:nvSpPr>
            <p:spPr>
              <a:xfrm rot="685800">
                <a:off x="3581280" y="2514600"/>
                <a:ext cx="939960" cy="558720"/>
              </a:xfrm>
              <a:custGeom>
                <a:avLst/>
                <a:gdLst/>
                <a:ahLst/>
                <a:rect l="l" t="t" r="r" b="b"/>
                <a:pathLst>
                  <a:path w="592" h="352">
                    <a:moveTo>
                      <a:pt x="16" y="344"/>
                    </a:moveTo>
                    <a:cubicBezTo>
                      <a:pt x="8" y="296"/>
                      <a:pt x="0" y="248"/>
                      <a:pt x="16" y="248"/>
                    </a:cubicBezTo>
                    <a:cubicBezTo>
                      <a:pt x="32" y="248"/>
                      <a:pt x="96" y="352"/>
                      <a:pt x="112" y="344"/>
                    </a:cubicBezTo>
                    <a:cubicBezTo>
                      <a:pt x="128" y="336"/>
                      <a:pt x="96" y="208"/>
                      <a:pt x="112" y="200"/>
                    </a:cubicBezTo>
                    <a:cubicBezTo>
                      <a:pt x="128" y="192"/>
                      <a:pt x="192" y="304"/>
                      <a:pt x="208" y="296"/>
                    </a:cubicBezTo>
                    <a:cubicBezTo>
                      <a:pt x="224" y="288"/>
                      <a:pt x="192" y="160"/>
                      <a:pt x="208" y="152"/>
                    </a:cubicBezTo>
                    <a:cubicBezTo>
                      <a:pt x="224" y="144"/>
                      <a:pt x="288" y="256"/>
                      <a:pt x="304" y="248"/>
                    </a:cubicBezTo>
                    <a:cubicBezTo>
                      <a:pt x="320" y="240"/>
                      <a:pt x="288" y="112"/>
                      <a:pt x="304" y="104"/>
                    </a:cubicBezTo>
                    <a:cubicBezTo>
                      <a:pt x="320" y="96"/>
                      <a:pt x="384" y="208"/>
                      <a:pt x="400" y="200"/>
                    </a:cubicBezTo>
                    <a:cubicBezTo>
                      <a:pt x="416" y="192"/>
                      <a:pt x="384" y="64"/>
                      <a:pt x="400" y="56"/>
                    </a:cubicBezTo>
                    <a:cubicBezTo>
                      <a:pt x="416" y="48"/>
                      <a:pt x="480" y="160"/>
                      <a:pt x="496" y="152"/>
                    </a:cubicBezTo>
                    <a:cubicBezTo>
                      <a:pt x="512" y="144"/>
                      <a:pt x="480" y="16"/>
                      <a:pt x="496" y="8"/>
                    </a:cubicBezTo>
                    <a:cubicBezTo>
                      <a:pt x="512" y="0"/>
                      <a:pt x="552" y="52"/>
                      <a:pt x="592" y="10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952880" y="335268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733920" y="2438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4495680" y="22096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AND g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600200" y="25909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OR g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438280" y="2819520"/>
              <a:ext cx="8384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1523880" y="76320"/>
            <a:ext cx="7391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Bilateral compu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2184480" y="1891800"/>
            <a:ext cx="1104480" cy="290880"/>
            <a:chOff x="2184480" y="1891800"/>
            <a:chExt cx="1104480" cy="290880"/>
          </a:xfrm>
        </p:grpSpPr>
        <p:sp>
          <p:nvSpPr>
            <p:cNvPr id="663" name=""/>
            <p:cNvSpPr/>
            <p:nvPr/>
          </p:nvSpPr>
          <p:spPr>
            <a:xfrm flipH="1">
              <a:off x="3082320" y="2008080"/>
              <a:ext cx="68760" cy="1742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2944080" y="1891800"/>
              <a:ext cx="137880" cy="2905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840400" y="1892160"/>
              <a:ext cx="103320" cy="2905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2736720" y="1891800"/>
              <a:ext cx="103320" cy="2905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2633400" y="1892160"/>
              <a:ext cx="103320" cy="2905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2184480" y="2008080"/>
              <a:ext cx="13788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3151080" y="2008080"/>
              <a:ext cx="13788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2529720" y="1891800"/>
              <a:ext cx="103320" cy="2905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2426040" y="1892160"/>
              <a:ext cx="103320" cy="2905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323080" y="2008080"/>
              <a:ext cx="103320" cy="1742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198108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27672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5334120" y="1905120"/>
            <a:ext cx="1447560" cy="228600"/>
            <a:chOff x="5334120" y="1905120"/>
            <a:chExt cx="1447560" cy="228600"/>
          </a:xfrm>
        </p:grpSpPr>
        <p:sp>
          <p:nvSpPr>
            <p:cNvPr id="676" name=""/>
            <p:cNvSpPr/>
            <p:nvPr/>
          </p:nvSpPr>
          <p:spPr>
            <a:xfrm rot="5400000">
              <a:off x="5943240" y="1828800"/>
              <a:ext cx="228600" cy="381240"/>
            </a:xfrm>
            <a:prstGeom prst="flowChartExtra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248520" y="1905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34120" y="20574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248520" y="19810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5334120" y="1905120"/>
            <a:ext cx="1523880" cy="0"/>
            <a:chOff x="5334120" y="1905120"/>
            <a:chExt cx="1523880" cy="0"/>
          </a:xfrm>
        </p:grpSpPr>
        <p:sp>
          <p:nvSpPr>
            <p:cNvPr id="681" name=""/>
            <p:cNvSpPr/>
            <p:nvPr/>
          </p:nvSpPr>
          <p:spPr>
            <a:xfrm>
              <a:off x="5334120" y="1905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629400" y="1905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1676520" y="13716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lateral circuit 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181480" y="13716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lateral circuit 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505320" y="2743200"/>
            <a:ext cx="1295280" cy="220968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2743200" y="3048120"/>
            <a:ext cx="2895480" cy="1218240"/>
            <a:chOff x="2743200" y="3048120"/>
            <a:chExt cx="2895480" cy="1218240"/>
          </a:xfrm>
        </p:grpSpPr>
        <p:sp>
          <p:nvSpPr>
            <p:cNvPr id="687" name=""/>
            <p:cNvSpPr/>
            <p:nvPr/>
          </p:nvSpPr>
          <p:spPr>
            <a:xfrm>
              <a:off x="2743200" y="3048120"/>
              <a:ext cx="6094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2743200" y="3885840"/>
              <a:ext cx="685800" cy="38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00600" y="373356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2743200" y="2895480"/>
            <a:ext cx="2895480" cy="1523880"/>
            <a:chOff x="2743200" y="2895480"/>
            <a:chExt cx="2895480" cy="1523880"/>
          </a:xfrm>
        </p:grpSpPr>
        <p:sp>
          <p:nvSpPr>
            <p:cNvPr id="691" name=""/>
            <p:cNvSpPr/>
            <p:nvPr/>
          </p:nvSpPr>
          <p:spPr>
            <a:xfrm flipV="1">
              <a:off x="2819160" y="403848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743200" y="2895480"/>
              <a:ext cx="6094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800600" y="38862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2590920" y="3124080"/>
            <a:ext cx="3429000" cy="1069200"/>
            <a:chOff x="2590920" y="3124080"/>
            <a:chExt cx="3429000" cy="1069200"/>
          </a:xfrm>
        </p:grpSpPr>
        <p:sp>
          <p:nvSpPr>
            <p:cNvPr id="695" name=""/>
            <p:cNvSpPr/>
            <p:nvPr/>
          </p:nvSpPr>
          <p:spPr>
            <a:xfrm>
              <a:off x="2590920" y="3124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5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590920" y="38862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8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953240" y="335268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5007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2057400" y="51814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erent “asymmetry” in traditional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019920" y="327492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ateral element computes “both ways” at the same c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1523880" y="76320"/>
            <a:ext cx="7391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676520" y="1143000"/>
            <a:ext cx="73152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Joshua J. Arulanandham, Cristian S. Calude, Michael J. Dinneen. Solving SAT with bilateral computing,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Romanian Journal of Information Science and Technology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6, 1-2 (2003), 9-1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ephen A. Cook. The complexity of theorem proving procedures,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Proceedings of the 3rd Annual ACM Symposium on Theory of Computing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1971), 151—1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00200" y="76320"/>
            <a:ext cx="7543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AT = </a:t>
            </a:r>
            <a:r>
              <a:rPr b="0" i="1" lang="en-US" sz="4000" spc="-1" strike="noStrike">
                <a:solidFill>
                  <a:srgbClr val="000000"/>
                </a:solidFill>
                <a:latin typeface="Arial Narrow"/>
              </a:rPr>
              <a:t>satisfiability 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of Boolean formul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335560"/>
            <a:ext cx="7467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A Boolean formula such a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+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’+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Question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there an assignment (of 0s and 1s) to the variables (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 such that the formula evaluates to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05120" y="2971800"/>
            <a:ext cx="3886200" cy="1830240"/>
            <a:chOff x="1905120" y="2971800"/>
            <a:chExt cx="3886200" cy="1830240"/>
          </a:xfrm>
        </p:grpSpPr>
        <p:grpSp>
          <p:nvGrpSpPr>
            <p:cNvPr id="61" name=""/>
            <p:cNvGrpSpPr/>
            <p:nvPr/>
          </p:nvGrpSpPr>
          <p:grpSpPr>
            <a:xfrm>
              <a:off x="2743200" y="3124080"/>
              <a:ext cx="762120" cy="609840"/>
              <a:chOff x="2743200" y="3124080"/>
              <a:chExt cx="762120" cy="609840"/>
            </a:xfrm>
          </p:grpSpPr>
          <p:sp>
            <p:nvSpPr>
              <p:cNvPr id="62" name=""/>
              <p:cNvSpPr/>
              <p:nvPr/>
            </p:nvSpPr>
            <p:spPr>
              <a:xfrm>
                <a:off x="2743200" y="3124080"/>
                <a:ext cx="47520" cy="609840"/>
              </a:xfrm>
              <a:custGeom>
                <a:avLst/>
                <a:gdLst/>
                <a:ahLst/>
                <a:rect l="l" t="t" r="r" b="b"/>
                <a:pathLst>
                  <a:path w="48" h="576">
                    <a:moveTo>
                      <a:pt x="0" y="0"/>
                    </a:moveTo>
                    <a:cubicBezTo>
                      <a:pt x="24" y="96"/>
                      <a:pt x="48" y="192"/>
                      <a:pt x="48" y="288"/>
                    </a:cubicBezTo>
                    <a:cubicBezTo>
                      <a:pt x="48" y="384"/>
                      <a:pt x="8" y="536"/>
                      <a:pt x="0" y="57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743200" y="3124080"/>
                <a:ext cx="762120" cy="304920"/>
              </a:xfrm>
              <a:custGeom>
                <a:avLst/>
                <a:gdLst/>
                <a:ahLst/>
                <a:rect l="l" t="t" r="r" b="b"/>
                <a:pathLst>
                  <a:path w="816" h="336">
                    <a:moveTo>
                      <a:pt x="0" y="0"/>
                    </a:moveTo>
                    <a:cubicBezTo>
                      <a:pt x="244" y="44"/>
                      <a:pt x="488" y="88"/>
                      <a:pt x="624" y="144"/>
                    </a:cubicBezTo>
                    <a:cubicBezTo>
                      <a:pt x="760" y="200"/>
                      <a:pt x="788" y="268"/>
                      <a:pt x="816" y="33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2743200" y="3428280"/>
                <a:ext cx="762120" cy="304920"/>
              </a:xfrm>
              <a:custGeom>
                <a:avLst/>
                <a:gdLst/>
                <a:ahLst/>
                <a:rect l="l" t="t" r="r" b="b"/>
                <a:pathLst>
                  <a:path w="816" h="336">
                    <a:moveTo>
                      <a:pt x="0" y="0"/>
                    </a:moveTo>
                    <a:cubicBezTo>
                      <a:pt x="244" y="44"/>
                      <a:pt x="488" y="88"/>
                      <a:pt x="624" y="144"/>
                    </a:cubicBezTo>
                    <a:cubicBezTo>
                      <a:pt x="760" y="200"/>
                      <a:pt x="788" y="268"/>
                      <a:pt x="816" y="33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4419720" y="3505320"/>
              <a:ext cx="685800" cy="533160"/>
            </a:xfrm>
            <a:prstGeom prst="flowChartDelay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2743200" y="3809880"/>
              <a:ext cx="762120" cy="609840"/>
              <a:chOff x="2743200" y="3809880"/>
              <a:chExt cx="762120" cy="609840"/>
            </a:xfrm>
          </p:grpSpPr>
          <p:sp>
            <p:nvSpPr>
              <p:cNvPr id="67" name=""/>
              <p:cNvSpPr/>
              <p:nvPr/>
            </p:nvSpPr>
            <p:spPr>
              <a:xfrm>
                <a:off x="2743200" y="3809880"/>
                <a:ext cx="47520" cy="609840"/>
              </a:xfrm>
              <a:custGeom>
                <a:avLst/>
                <a:gdLst/>
                <a:ahLst/>
                <a:rect l="l" t="t" r="r" b="b"/>
                <a:pathLst>
                  <a:path w="48" h="576">
                    <a:moveTo>
                      <a:pt x="0" y="0"/>
                    </a:moveTo>
                    <a:cubicBezTo>
                      <a:pt x="24" y="96"/>
                      <a:pt x="48" y="192"/>
                      <a:pt x="48" y="288"/>
                    </a:cubicBezTo>
                    <a:cubicBezTo>
                      <a:pt x="48" y="384"/>
                      <a:pt x="8" y="536"/>
                      <a:pt x="0" y="57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743200" y="3809880"/>
                <a:ext cx="762120" cy="304920"/>
              </a:xfrm>
              <a:custGeom>
                <a:avLst/>
                <a:gdLst/>
                <a:ahLst/>
                <a:rect l="l" t="t" r="r" b="b"/>
                <a:pathLst>
                  <a:path w="816" h="336">
                    <a:moveTo>
                      <a:pt x="0" y="0"/>
                    </a:moveTo>
                    <a:cubicBezTo>
                      <a:pt x="244" y="44"/>
                      <a:pt x="488" y="88"/>
                      <a:pt x="624" y="144"/>
                    </a:cubicBezTo>
                    <a:cubicBezTo>
                      <a:pt x="760" y="200"/>
                      <a:pt x="788" y="268"/>
                      <a:pt x="816" y="33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2743200" y="4114080"/>
                <a:ext cx="762120" cy="304920"/>
              </a:xfrm>
              <a:custGeom>
                <a:avLst/>
                <a:gdLst/>
                <a:ahLst/>
                <a:rect l="l" t="t" r="r" b="b"/>
                <a:pathLst>
                  <a:path w="816" h="336">
                    <a:moveTo>
                      <a:pt x="0" y="0"/>
                    </a:moveTo>
                    <a:cubicBezTo>
                      <a:pt x="244" y="44"/>
                      <a:pt x="488" y="88"/>
                      <a:pt x="624" y="144"/>
                    </a:cubicBezTo>
                    <a:cubicBezTo>
                      <a:pt x="760" y="200"/>
                      <a:pt x="788" y="268"/>
                      <a:pt x="816" y="33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2133720" y="3276720"/>
              <a:ext cx="609480" cy="304560"/>
              <a:chOff x="2133720" y="3276720"/>
              <a:chExt cx="609480" cy="30456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2767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133720" y="35812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2133720" y="3962520"/>
              <a:ext cx="609480" cy="304560"/>
              <a:chOff x="2133720" y="3962520"/>
              <a:chExt cx="609480" cy="304560"/>
            </a:xfrm>
          </p:grpSpPr>
          <p:sp>
            <p:nvSpPr>
              <p:cNvPr id="74" name=""/>
              <p:cNvSpPr/>
              <p:nvPr/>
            </p:nvSpPr>
            <p:spPr>
              <a:xfrm>
                <a:off x="2133720" y="3962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133720" y="42670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3505320" y="3428640"/>
              <a:ext cx="914400" cy="228960"/>
              <a:chOff x="3505320" y="3428640"/>
              <a:chExt cx="914400" cy="228960"/>
            </a:xfrm>
          </p:grpSpPr>
          <p:sp>
            <p:nvSpPr>
              <p:cNvPr id="77" name=""/>
              <p:cNvSpPr/>
              <p:nvPr/>
            </p:nvSpPr>
            <p:spPr>
              <a:xfrm>
                <a:off x="3505320" y="3429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3962520" y="34286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962520" y="3657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3505320" y="3885840"/>
              <a:ext cx="914400" cy="228960"/>
              <a:chOff x="3505320" y="3885840"/>
              <a:chExt cx="914400" cy="228960"/>
            </a:xfrm>
          </p:grpSpPr>
          <p:sp>
            <p:nvSpPr>
              <p:cNvPr id="81" name=""/>
              <p:cNvSpPr/>
              <p:nvPr/>
            </p:nvSpPr>
            <p:spPr>
              <a:xfrm>
                <a:off x="3505320" y="41148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3962520" y="38858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962520" y="38862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5105520" y="3733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0512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05120" y="33670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05120" y="36720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05120" y="40528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62320" y="29718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62320" y="32907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62320" y="36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362320" y="39765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86400" y="3429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6000" y="4433760"/>
              <a:ext cx="31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3300"/>
                  </a:solidFill>
                  <a:latin typeface="Arial Narrow"/>
                </a:rPr>
                <a:t>Inverting a Boolean 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905120" y="914400"/>
            <a:ext cx="3886200" cy="1892160"/>
            <a:chOff x="1905120" y="914400"/>
            <a:chExt cx="3886200" cy="1892160"/>
          </a:xfrm>
        </p:grpSpPr>
        <p:grpSp>
          <p:nvGrpSpPr>
            <p:cNvPr id="96" name=""/>
            <p:cNvGrpSpPr/>
            <p:nvPr/>
          </p:nvGrpSpPr>
          <p:grpSpPr>
            <a:xfrm>
              <a:off x="2133720" y="1219320"/>
              <a:ext cx="609480" cy="304560"/>
              <a:chOff x="2133720" y="1219320"/>
              <a:chExt cx="609480" cy="304560"/>
            </a:xfrm>
          </p:grpSpPr>
          <p:sp>
            <p:nvSpPr>
              <p:cNvPr id="97" name=""/>
              <p:cNvSpPr/>
              <p:nvPr/>
            </p:nvSpPr>
            <p:spPr>
              <a:xfrm>
                <a:off x="2133720" y="12193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133720" y="15238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133720" y="1905120"/>
              <a:ext cx="609480" cy="304560"/>
              <a:chOff x="2133720" y="1905120"/>
              <a:chExt cx="609480" cy="304560"/>
            </a:xfrm>
          </p:grpSpPr>
          <p:sp>
            <p:nvSpPr>
              <p:cNvPr id="100" name=""/>
              <p:cNvSpPr/>
              <p:nvPr/>
            </p:nvSpPr>
            <p:spPr>
              <a:xfrm>
                <a:off x="2133720" y="19051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133720" y="22096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3505320" y="1371240"/>
              <a:ext cx="914400" cy="228960"/>
              <a:chOff x="3505320" y="1371240"/>
              <a:chExt cx="914400" cy="228960"/>
            </a:xfrm>
          </p:grpSpPr>
          <p:sp>
            <p:nvSpPr>
              <p:cNvPr id="103" name=""/>
              <p:cNvSpPr/>
              <p:nvPr/>
            </p:nvSpPr>
            <p:spPr>
              <a:xfrm>
                <a:off x="3505320" y="1371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3962520" y="13712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962520" y="16002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3505320" y="1828440"/>
              <a:ext cx="914400" cy="228960"/>
              <a:chOff x="3505320" y="1828440"/>
              <a:chExt cx="914400" cy="228960"/>
            </a:xfrm>
          </p:grpSpPr>
          <p:sp>
            <p:nvSpPr>
              <p:cNvPr id="107" name=""/>
              <p:cNvSpPr/>
              <p:nvPr/>
            </p:nvSpPr>
            <p:spPr>
              <a:xfrm>
                <a:off x="3505320" y="2057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3962520" y="1828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62520" y="18288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5105520" y="1676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05120" y="9907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05120" y="13096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05120" y="1614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05120" y="19954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62320" y="9144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62320" y="123336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62320" y="16146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2320" y="191916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86400" y="13716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6000" y="2438280"/>
              <a:ext cx="312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3300"/>
                  </a:solidFill>
                  <a:latin typeface="Arial Narrow"/>
                </a:rPr>
                <a:t>Evaluating a Boolean 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743200" y="1066680"/>
              <a:ext cx="762120" cy="609840"/>
              <a:chOff x="2743200" y="1066680"/>
              <a:chExt cx="762120" cy="60984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2743200" y="1066680"/>
                <a:ext cx="762120" cy="609840"/>
                <a:chOff x="2743200" y="1066680"/>
                <a:chExt cx="762120" cy="6098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2743200" y="1066680"/>
                  <a:ext cx="47520" cy="609840"/>
                </a:xfrm>
                <a:custGeom>
                  <a:avLst/>
                  <a:gdLst/>
                  <a:ahLst/>
                  <a:rect l="l" t="t" r="r" b="b"/>
                  <a:pathLst>
                    <a:path w="48" h="576">
                      <a:moveTo>
                        <a:pt x="0" y="0"/>
                      </a:moveTo>
                      <a:cubicBezTo>
                        <a:pt x="24" y="96"/>
                        <a:pt x="48" y="192"/>
                        <a:pt x="48" y="288"/>
                      </a:cubicBezTo>
                      <a:cubicBezTo>
                        <a:pt x="48" y="384"/>
                        <a:pt x="8" y="536"/>
                        <a:pt x="0" y="57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743200" y="1066680"/>
                  <a:ext cx="762120" cy="304920"/>
                </a:xfrm>
                <a:custGeom>
                  <a:avLst/>
                  <a:gdLst/>
                  <a:ahLst/>
                  <a:rect l="l" t="t" r="r" b="b"/>
                  <a:pathLst>
                    <a:path w="816" h="336">
                      <a:moveTo>
                        <a:pt x="0" y="0"/>
                      </a:moveTo>
                      <a:cubicBezTo>
                        <a:pt x="244" y="44"/>
                        <a:pt x="488" y="88"/>
                        <a:pt x="624" y="144"/>
                      </a:cubicBezTo>
                      <a:cubicBezTo>
                        <a:pt x="760" y="200"/>
                        <a:pt x="788" y="268"/>
                        <a:pt x="816" y="33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V="1">
                  <a:off x="2743200" y="1370880"/>
                  <a:ext cx="762120" cy="304920"/>
                </a:xfrm>
                <a:custGeom>
                  <a:avLst/>
                  <a:gdLst/>
                  <a:ahLst/>
                  <a:rect l="l" t="t" r="r" b="b"/>
                  <a:pathLst>
                    <a:path w="816" h="336">
                      <a:moveTo>
                        <a:pt x="0" y="0"/>
                      </a:moveTo>
                      <a:cubicBezTo>
                        <a:pt x="244" y="44"/>
                        <a:pt x="488" y="88"/>
                        <a:pt x="624" y="144"/>
                      </a:cubicBezTo>
                      <a:cubicBezTo>
                        <a:pt x="760" y="200"/>
                        <a:pt x="788" y="268"/>
                        <a:pt x="816" y="33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" name=""/>
              <p:cNvSpPr/>
              <p:nvPr/>
            </p:nvSpPr>
            <p:spPr>
              <a:xfrm>
                <a:off x="2895480" y="121932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O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2743200" y="1752480"/>
              <a:ext cx="762120" cy="609840"/>
              <a:chOff x="2743200" y="1752480"/>
              <a:chExt cx="762120" cy="60984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2743200" y="1752480"/>
                <a:ext cx="762120" cy="609840"/>
                <a:chOff x="2743200" y="1752480"/>
                <a:chExt cx="762120" cy="6098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743200" y="1752480"/>
                  <a:ext cx="47520" cy="609840"/>
                </a:xfrm>
                <a:custGeom>
                  <a:avLst/>
                  <a:gdLst/>
                  <a:ahLst/>
                  <a:rect l="l" t="t" r="r" b="b"/>
                  <a:pathLst>
                    <a:path w="48" h="576">
                      <a:moveTo>
                        <a:pt x="0" y="0"/>
                      </a:moveTo>
                      <a:cubicBezTo>
                        <a:pt x="24" y="96"/>
                        <a:pt x="48" y="192"/>
                        <a:pt x="48" y="288"/>
                      </a:cubicBezTo>
                      <a:cubicBezTo>
                        <a:pt x="48" y="384"/>
                        <a:pt x="8" y="536"/>
                        <a:pt x="0" y="57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743200" y="1752480"/>
                  <a:ext cx="762120" cy="304920"/>
                </a:xfrm>
                <a:custGeom>
                  <a:avLst/>
                  <a:gdLst/>
                  <a:ahLst/>
                  <a:rect l="l" t="t" r="r" b="b"/>
                  <a:pathLst>
                    <a:path w="816" h="336">
                      <a:moveTo>
                        <a:pt x="0" y="0"/>
                      </a:moveTo>
                      <a:cubicBezTo>
                        <a:pt x="244" y="44"/>
                        <a:pt x="488" y="88"/>
                        <a:pt x="624" y="144"/>
                      </a:cubicBezTo>
                      <a:cubicBezTo>
                        <a:pt x="760" y="200"/>
                        <a:pt x="788" y="268"/>
                        <a:pt x="816" y="33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V="1">
                  <a:off x="2743200" y="2056680"/>
                  <a:ext cx="762120" cy="304920"/>
                </a:xfrm>
                <a:custGeom>
                  <a:avLst/>
                  <a:gdLst/>
                  <a:ahLst/>
                  <a:rect l="l" t="t" r="r" b="b"/>
                  <a:pathLst>
                    <a:path w="816" h="336">
                      <a:moveTo>
                        <a:pt x="0" y="0"/>
                      </a:moveTo>
                      <a:cubicBezTo>
                        <a:pt x="244" y="44"/>
                        <a:pt x="488" y="88"/>
                        <a:pt x="624" y="144"/>
                      </a:cubicBezTo>
                      <a:cubicBezTo>
                        <a:pt x="760" y="200"/>
                        <a:pt x="788" y="268"/>
                        <a:pt x="816" y="33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2895480" y="190512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O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419720" y="1447920"/>
              <a:ext cx="685800" cy="533160"/>
              <a:chOff x="4419720" y="1447920"/>
              <a:chExt cx="685800" cy="533160"/>
            </a:xfrm>
          </p:grpSpPr>
          <p:sp>
            <p:nvSpPr>
              <p:cNvPr id="134" name=""/>
              <p:cNvSpPr/>
              <p:nvPr/>
            </p:nvSpPr>
            <p:spPr>
              <a:xfrm>
                <a:off x="4419720" y="1447920"/>
                <a:ext cx="685800" cy="533160"/>
              </a:xfrm>
              <a:prstGeom prst="flowChartDelay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95680" y="152388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A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04800" cy="1138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flipH="1">
            <a:off x="5943600" y="3124080"/>
            <a:ext cx="60480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00200" y="76320"/>
            <a:ext cx="7543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AT = </a:t>
            </a:r>
            <a:r>
              <a:rPr b="0" i="1" lang="en-US" sz="4000" spc="-1" strike="noStrike">
                <a:solidFill>
                  <a:srgbClr val="000000"/>
                </a:solidFill>
                <a:latin typeface="Arial Narrow"/>
              </a:rPr>
              <a:t>satisfiability 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of Boolean formul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1447920"/>
            <a:ext cx="7010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satisfiab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+ c+ e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 + c + d +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’ +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n be satisfied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3643200"/>
            <a:ext cx="701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un-satisfiab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’ +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’ + 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 +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00200" y="76320"/>
            <a:ext cx="7543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A similar “inverting”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286000" y="1052640"/>
            <a:ext cx="3048120" cy="1677960"/>
            <a:chOff x="2286000" y="1052640"/>
            <a:chExt cx="3048120" cy="1677960"/>
          </a:xfrm>
        </p:grpSpPr>
        <p:sp>
          <p:nvSpPr>
            <p:cNvPr id="143" name=""/>
            <p:cNvSpPr/>
            <p:nvPr/>
          </p:nvSpPr>
          <p:spPr>
            <a:xfrm>
              <a:off x="3429000" y="1509840"/>
              <a:ext cx="838080" cy="990360"/>
            </a:xfrm>
            <a:prstGeom prst="rect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multip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86000" y="10526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9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86000" y="23623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83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76920" y="1433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590920" y="19670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66880" y="1433520"/>
              <a:ext cx="6098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67080" y="18907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286000" y="3262320"/>
            <a:ext cx="3546000" cy="1769400"/>
            <a:chOff x="2286000" y="3262320"/>
            <a:chExt cx="3546000" cy="1769400"/>
          </a:xfrm>
        </p:grpSpPr>
        <p:sp>
          <p:nvSpPr>
            <p:cNvPr id="151" name=""/>
            <p:cNvSpPr/>
            <p:nvPr/>
          </p:nvSpPr>
          <p:spPr>
            <a:xfrm>
              <a:off x="3429000" y="3719520"/>
              <a:ext cx="838080" cy="990720"/>
            </a:xfrm>
            <a:prstGeom prst="rect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fac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86000" y="32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86000" y="4572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590920" y="417672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66880" y="3643200"/>
              <a:ext cx="6098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67080" y="410040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75240" y="3643200"/>
              <a:ext cx="125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623904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600200" y="5486400"/>
            <a:ext cx="7543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ly, these “inverting” problems are solved by viewing them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600200" y="76320"/>
            <a:ext cx="7086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AT is NP-compl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600200" y="838080"/>
            <a:ext cx="7467480" cy="2852640"/>
            <a:chOff x="1600200" y="838080"/>
            <a:chExt cx="7467480" cy="2852640"/>
          </a:xfrm>
        </p:grpSpPr>
        <p:sp>
          <p:nvSpPr>
            <p:cNvPr id="161" name=""/>
            <p:cNvSpPr/>
            <p:nvPr/>
          </p:nvSpPr>
          <p:spPr>
            <a:xfrm>
              <a:off x="2743200" y="1066680"/>
              <a:ext cx="320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 + 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’ + 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4800600" y="1219320"/>
              <a:ext cx="990360" cy="457200"/>
              <a:chOff x="4800600" y="1219320"/>
              <a:chExt cx="990360" cy="457200"/>
            </a:xfrm>
          </p:grpSpPr>
          <p:sp>
            <p:nvSpPr>
              <p:cNvPr id="163" name=""/>
              <p:cNvSpPr/>
              <p:nvPr/>
            </p:nvSpPr>
            <p:spPr>
              <a:xfrm flipH="1">
                <a:off x="4800600" y="1219320"/>
                <a:ext cx="4953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295960" y="1219320"/>
                <a:ext cx="4950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4952880" y="838080"/>
              <a:ext cx="7621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4114800" y="2057400"/>
              <a:ext cx="1066680" cy="533520"/>
              <a:chOff x="4114800" y="2057400"/>
              <a:chExt cx="1066680" cy="533520"/>
            </a:xfrm>
          </p:grpSpPr>
          <p:sp>
            <p:nvSpPr>
              <p:cNvPr id="167" name=""/>
              <p:cNvSpPr/>
              <p:nvPr/>
            </p:nvSpPr>
            <p:spPr>
              <a:xfrm flipH="1">
                <a:off x="4114800" y="205740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648320" y="2057400"/>
                <a:ext cx="53316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5486400" y="2057400"/>
              <a:ext cx="1066680" cy="533520"/>
              <a:chOff x="5486400" y="2057400"/>
              <a:chExt cx="1066680" cy="533520"/>
            </a:xfrm>
          </p:grpSpPr>
          <p:sp>
            <p:nvSpPr>
              <p:cNvPr id="170" name=""/>
              <p:cNvSpPr/>
              <p:nvPr/>
            </p:nvSpPr>
            <p:spPr>
              <a:xfrm flipH="1">
                <a:off x="5486400" y="205740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019920" y="2057400"/>
                <a:ext cx="53316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3352680" y="2625840"/>
              <a:ext cx="8384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 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38680" y="1711440"/>
              <a:ext cx="91440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67080" y="1676520"/>
              <a:ext cx="91440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 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19720" y="2625840"/>
              <a:ext cx="838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10080" y="2625840"/>
              <a:ext cx="8384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 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77120" y="2625840"/>
              <a:ext cx="838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00200" y="3048120"/>
              <a:ext cx="746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arch tree for a SAT instance; a path (leading to a leaf) might correspond to a “solution”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600200" y="4191120"/>
            <a:ext cx="73915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bel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eterministic computer’s vers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bel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bel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on-deterministic computer’s vers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76520" y="586584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Non-deterministic machines can avoid exhaustive search and long explorations (unlike deterministic machines) by making the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right guess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at ALL “decision point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600200" y="76320"/>
            <a:ext cx="7086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Expressing “anything” with S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990360" y="1828800"/>
            <a:ext cx="4419360" cy="3048120"/>
            <a:chOff x="990360" y="1828800"/>
            <a:chExt cx="4419360" cy="3048120"/>
          </a:xfrm>
        </p:grpSpPr>
        <p:grpSp>
          <p:nvGrpSpPr>
            <p:cNvPr id="183" name=""/>
            <p:cNvGrpSpPr/>
            <p:nvPr/>
          </p:nvGrpSpPr>
          <p:grpSpPr>
            <a:xfrm>
              <a:off x="990360" y="1828800"/>
              <a:ext cx="4419360" cy="3048120"/>
              <a:chOff x="990360" y="1828800"/>
              <a:chExt cx="4419360" cy="3048120"/>
            </a:xfrm>
          </p:grpSpPr>
          <p:sp>
            <p:nvSpPr>
              <p:cNvPr id="184" name=""/>
              <p:cNvSpPr/>
              <p:nvPr/>
            </p:nvSpPr>
            <p:spPr>
              <a:xfrm>
                <a:off x="2286000" y="2057400"/>
                <a:ext cx="2133720" cy="152424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057400" y="1828800"/>
                <a:ext cx="2590920" cy="198144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flipV="1">
                <a:off x="3200400" y="3810240"/>
                <a:ext cx="380880" cy="457200"/>
              </a:xfrm>
              <a:custGeom>
                <a:avLst/>
                <a:gdLst>
                  <a:gd name="textAreaLeft" fmla="*/ 83520 w 380880"/>
                  <a:gd name="textAreaRight" fmla="*/ 297360 w 3808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990360" y="4267440"/>
                <a:ext cx="4419360" cy="609480"/>
                <a:chOff x="990360" y="4267440"/>
                <a:chExt cx="4419360" cy="6094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600200" y="4267440"/>
                  <a:ext cx="380952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>
                  <a:off x="990360" y="4267440"/>
                  <a:ext cx="609480" cy="6094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990720" y="4876920"/>
                  <a:ext cx="380988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>
                  <a:off x="4800600" y="4267440"/>
                  <a:ext cx="609120" cy="60948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"/>
            <p:cNvGrpSpPr/>
            <p:nvPr/>
          </p:nvGrpSpPr>
          <p:grpSpPr>
            <a:xfrm>
              <a:off x="2514600" y="2133720"/>
              <a:ext cx="1752480" cy="1365840"/>
              <a:chOff x="2514600" y="2133720"/>
              <a:chExt cx="1752480" cy="136584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2514600" y="2133720"/>
                <a:ext cx="1752480" cy="604080"/>
                <a:chOff x="2514600" y="2133720"/>
                <a:chExt cx="1752480" cy="60408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2514600" y="2204640"/>
                  <a:ext cx="298440" cy="141120"/>
                  <a:chOff x="2514600" y="2204640"/>
                  <a:chExt cx="298440" cy="14112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2514600" y="2204640"/>
                    <a:ext cx="29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514600" y="2345760"/>
                    <a:ext cx="29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2514600" y="2525400"/>
                  <a:ext cx="298440" cy="141120"/>
                  <a:chOff x="2514600" y="2525400"/>
                  <a:chExt cx="298440" cy="14112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2514600" y="2525400"/>
                    <a:ext cx="29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2514600" y="2666520"/>
                    <a:ext cx="29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3186000" y="2276280"/>
                  <a:ext cx="447840" cy="105840"/>
                  <a:chOff x="3186000" y="2276280"/>
                  <a:chExt cx="447840" cy="10584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3186000" y="2276280"/>
                    <a:ext cx="223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V="1">
                    <a:off x="3409920" y="2276280"/>
                    <a:ext cx="0" cy="105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409920" y="2382120"/>
                    <a:ext cx="223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3186000" y="2489040"/>
                  <a:ext cx="447840" cy="105840"/>
                  <a:chOff x="3186000" y="2489040"/>
                  <a:chExt cx="447840" cy="10584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3186000" y="2594880"/>
                    <a:ext cx="223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V="1">
                    <a:off x="3409920" y="2489040"/>
                    <a:ext cx="0" cy="105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3409920" y="2489040"/>
                    <a:ext cx="223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8" name=""/>
                <p:cNvSpPr/>
                <p:nvPr/>
              </p:nvSpPr>
              <p:spPr>
                <a:xfrm>
                  <a:off x="3968640" y="2417400"/>
                  <a:ext cx="298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9" name=""/>
                <p:cNvGrpSpPr/>
                <p:nvPr/>
              </p:nvGrpSpPr>
              <p:grpSpPr>
                <a:xfrm>
                  <a:off x="2813040" y="2133720"/>
                  <a:ext cx="372960" cy="283680"/>
                  <a:chOff x="2813040" y="2133720"/>
                  <a:chExt cx="372960" cy="28368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2813040" y="2133720"/>
                    <a:ext cx="23040" cy="283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76">
                        <a:moveTo>
                          <a:pt x="0" y="0"/>
                        </a:moveTo>
                        <a:cubicBezTo>
                          <a:pt x="24" y="96"/>
                          <a:pt x="48" y="192"/>
                          <a:pt x="48" y="288"/>
                        </a:cubicBezTo>
                        <a:cubicBezTo>
                          <a:pt x="48" y="384"/>
                          <a:pt x="8" y="536"/>
                          <a:pt x="0" y="57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813040" y="2133720"/>
                    <a:ext cx="37296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816" h="336">
                        <a:moveTo>
                          <a:pt x="0" y="0"/>
                        </a:moveTo>
                        <a:cubicBezTo>
                          <a:pt x="244" y="44"/>
                          <a:pt x="488" y="88"/>
                          <a:pt x="624" y="144"/>
                        </a:cubicBezTo>
                        <a:cubicBezTo>
                          <a:pt x="760" y="200"/>
                          <a:pt x="788" y="268"/>
                          <a:pt x="816" y="3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flipV="1">
                    <a:off x="2813040" y="2275560"/>
                    <a:ext cx="37296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816" h="336">
                        <a:moveTo>
                          <a:pt x="0" y="0"/>
                        </a:moveTo>
                        <a:cubicBezTo>
                          <a:pt x="244" y="44"/>
                          <a:pt x="488" y="88"/>
                          <a:pt x="624" y="144"/>
                        </a:cubicBezTo>
                        <a:cubicBezTo>
                          <a:pt x="760" y="200"/>
                          <a:pt x="788" y="268"/>
                          <a:pt x="816" y="3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2813040" y="2454120"/>
                  <a:ext cx="372960" cy="283680"/>
                  <a:chOff x="2813040" y="2454120"/>
                  <a:chExt cx="372960" cy="28368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2813040" y="2454120"/>
                    <a:ext cx="23040" cy="283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76">
                        <a:moveTo>
                          <a:pt x="0" y="0"/>
                        </a:moveTo>
                        <a:cubicBezTo>
                          <a:pt x="24" y="96"/>
                          <a:pt x="48" y="192"/>
                          <a:pt x="48" y="288"/>
                        </a:cubicBezTo>
                        <a:cubicBezTo>
                          <a:pt x="48" y="384"/>
                          <a:pt x="8" y="536"/>
                          <a:pt x="0" y="57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2813040" y="2454120"/>
                    <a:ext cx="37296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816" h="336">
                        <a:moveTo>
                          <a:pt x="0" y="0"/>
                        </a:moveTo>
                        <a:cubicBezTo>
                          <a:pt x="244" y="44"/>
                          <a:pt x="488" y="88"/>
                          <a:pt x="624" y="144"/>
                        </a:cubicBezTo>
                        <a:cubicBezTo>
                          <a:pt x="760" y="200"/>
                          <a:pt x="788" y="268"/>
                          <a:pt x="816" y="3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V="1">
                    <a:off x="2813040" y="2595960"/>
                    <a:ext cx="37296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816" h="336">
                        <a:moveTo>
                          <a:pt x="0" y="0"/>
                        </a:moveTo>
                        <a:cubicBezTo>
                          <a:pt x="244" y="44"/>
                          <a:pt x="488" y="88"/>
                          <a:pt x="624" y="144"/>
                        </a:cubicBezTo>
                        <a:cubicBezTo>
                          <a:pt x="760" y="200"/>
                          <a:pt x="788" y="268"/>
                          <a:pt x="816" y="3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"/>
                <p:cNvSpPr/>
                <p:nvPr/>
              </p:nvSpPr>
              <p:spPr>
                <a:xfrm>
                  <a:off x="3633840" y="2311200"/>
                  <a:ext cx="334800" cy="248760"/>
                </a:xfrm>
                <a:prstGeom prst="flowChartDelay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2514600" y="2895480"/>
                <a:ext cx="1752480" cy="604080"/>
                <a:chOff x="2514600" y="2895480"/>
                <a:chExt cx="1752480" cy="60408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2514600" y="2966400"/>
                  <a:ext cx="298440" cy="141120"/>
                  <a:chOff x="2514600" y="2966400"/>
                  <a:chExt cx="298440" cy="14112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2514600" y="2966400"/>
                    <a:ext cx="29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2514600" y="3107520"/>
                    <a:ext cx="29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"/>
                <p:cNvGrpSpPr/>
                <p:nvPr/>
              </p:nvGrpSpPr>
              <p:grpSpPr>
                <a:xfrm>
                  <a:off x="2514600" y="3287160"/>
                  <a:ext cx="298440" cy="141120"/>
                  <a:chOff x="2514600" y="3287160"/>
                  <a:chExt cx="298440" cy="14112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2514600" y="3287160"/>
                    <a:ext cx="29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2514600" y="3428280"/>
                    <a:ext cx="29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3186000" y="3038040"/>
                  <a:ext cx="447840" cy="105840"/>
                  <a:chOff x="3186000" y="3038040"/>
                  <a:chExt cx="447840" cy="10584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3186000" y="3038040"/>
                    <a:ext cx="223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flipV="1">
                    <a:off x="3409920" y="3038040"/>
                    <a:ext cx="0" cy="105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3409920" y="3143880"/>
                    <a:ext cx="223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3186000" y="3250800"/>
                  <a:ext cx="447840" cy="105840"/>
                  <a:chOff x="3186000" y="3250800"/>
                  <a:chExt cx="447840" cy="10584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3186000" y="3356640"/>
                    <a:ext cx="223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V="1">
                    <a:off x="3409920" y="3250800"/>
                    <a:ext cx="0" cy="105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3409920" y="3250800"/>
                    <a:ext cx="223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3" name=""/>
                <p:cNvSpPr/>
                <p:nvPr/>
              </p:nvSpPr>
              <p:spPr>
                <a:xfrm>
                  <a:off x="3968640" y="3179160"/>
                  <a:ext cx="298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4" name=""/>
                <p:cNvGrpSpPr/>
                <p:nvPr/>
              </p:nvGrpSpPr>
              <p:grpSpPr>
                <a:xfrm>
                  <a:off x="2813040" y="2895480"/>
                  <a:ext cx="372960" cy="283680"/>
                  <a:chOff x="2813040" y="2895480"/>
                  <a:chExt cx="372960" cy="28368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2813040" y="2895480"/>
                    <a:ext cx="23040" cy="283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76">
                        <a:moveTo>
                          <a:pt x="0" y="0"/>
                        </a:moveTo>
                        <a:cubicBezTo>
                          <a:pt x="24" y="96"/>
                          <a:pt x="48" y="192"/>
                          <a:pt x="48" y="288"/>
                        </a:cubicBezTo>
                        <a:cubicBezTo>
                          <a:pt x="48" y="384"/>
                          <a:pt x="8" y="536"/>
                          <a:pt x="0" y="57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2813040" y="2895480"/>
                    <a:ext cx="37296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816" h="336">
                        <a:moveTo>
                          <a:pt x="0" y="0"/>
                        </a:moveTo>
                        <a:cubicBezTo>
                          <a:pt x="244" y="44"/>
                          <a:pt x="488" y="88"/>
                          <a:pt x="624" y="144"/>
                        </a:cubicBezTo>
                        <a:cubicBezTo>
                          <a:pt x="760" y="200"/>
                          <a:pt x="788" y="268"/>
                          <a:pt x="816" y="3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V="1">
                    <a:off x="2813040" y="3037320"/>
                    <a:ext cx="37296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816" h="336">
                        <a:moveTo>
                          <a:pt x="0" y="0"/>
                        </a:moveTo>
                        <a:cubicBezTo>
                          <a:pt x="244" y="44"/>
                          <a:pt x="488" y="88"/>
                          <a:pt x="624" y="144"/>
                        </a:cubicBezTo>
                        <a:cubicBezTo>
                          <a:pt x="760" y="200"/>
                          <a:pt x="788" y="268"/>
                          <a:pt x="816" y="3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2813040" y="3215880"/>
                  <a:ext cx="372960" cy="283680"/>
                  <a:chOff x="2813040" y="3215880"/>
                  <a:chExt cx="372960" cy="28368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2813040" y="3215880"/>
                    <a:ext cx="23040" cy="283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76">
                        <a:moveTo>
                          <a:pt x="0" y="0"/>
                        </a:moveTo>
                        <a:cubicBezTo>
                          <a:pt x="24" y="96"/>
                          <a:pt x="48" y="192"/>
                          <a:pt x="48" y="288"/>
                        </a:cubicBezTo>
                        <a:cubicBezTo>
                          <a:pt x="48" y="384"/>
                          <a:pt x="8" y="536"/>
                          <a:pt x="0" y="57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813040" y="3215880"/>
                    <a:ext cx="37296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816" h="336">
                        <a:moveTo>
                          <a:pt x="0" y="0"/>
                        </a:moveTo>
                        <a:cubicBezTo>
                          <a:pt x="244" y="44"/>
                          <a:pt x="488" y="88"/>
                          <a:pt x="624" y="144"/>
                        </a:cubicBezTo>
                        <a:cubicBezTo>
                          <a:pt x="760" y="200"/>
                          <a:pt x="788" y="268"/>
                          <a:pt x="816" y="3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flipV="1">
                    <a:off x="2813040" y="3357720"/>
                    <a:ext cx="37296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816" h="336">
                        <a:moveTo>
                          <a:pt x="0" y="0"/>
                        </a:moveTo>
                        <a:cubicBezTo>
                          <a:pt x="244" y="44"/>
                          <a:pt x="488" y="88"/>
                          <a:pt x="624" y="144"/>
                        </a:cubicBezTo>
                        <a:cubicBezTo>
                          <a:pt x="760" y="200"/>
                          <a:pt x="788" y="268"/>
                          <a:pt x="816" y="3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2" name=""/>
                <p:cNvSpPr/>
                <p:nvPr/>
              </p:nvSpPr>
              <p:spPr>
                <a:xfrm>
                  <a:off x="3633840" y="3072960"/>
                  <a:ext cx="334800" cy="248760"/>
                </a:xfrm>
                <a:prstGeom prst="flowChartDelay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3" name=""/>
          <p:cNvGrpSpPr/>
          <p:nvPr/>
        </p:nvGrpSpPr>
        <p:grpSpPr>
          <a:xfrm>
            <a:off x="4419720" y="2209680"/>
            <a:ext cx="1752480" cy="1366560"/>
            <a:chOff x="4419720" y="2209680"/>
            <a:chExt cx="1752480" cy="1366560"/>
          </a:xfrm>
        </p:grpSpPr>
        <p:grpSp>
          <p:nvGrpSpPr>
            <p:cNvPr id="244" name=""/>
            <p:cNvGrpSpPr/>
            <p:nvPr/>
          </p:nvGrpSpPr>
          <p:grpSpPr>
            <a:xfrm>
              <a:off x="4419720" y="2209680"/>
              <a:ext cx="1752480" cy="604800"/>
              <a:chOff x="4419720" y="2209680"/>
              <a:chExt cx="1752480" cy="604800"/>
            </a:xfrm>
          </p:grpSpPr>
          <p:grpSp>
            <p:nvGrpSpPr>
              <p:cNvPr id="245" name=""/>
              <p:cNvGrpSpPr/>
              <p:nvPr/>
            </p:nvGrpSpPr>
            <p:grpSpPr>
              <a:xfrm>
                <a:off x="4419720" y="2280960"/>
                <a:ext cx="298440" cy="141480"/>
                <a:chOff x="4419720" y="2280960"/>
                <a:chExt cx="298440" cy="14148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419720" y="2280960"/>
                  <a:ext cx="29844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419720" y="2422440"/>
                  <a:ext cx="29844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4419720" y="2601720"/>
                <a:ext cx="298440" cy="141480"/>
                <a:chOff x="4419720" y="2601720"/>
                <a:chExt cx="298440" cy="14148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4419720" y="2601720"/>
                  <a:ext cx="29844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419720" y="2743200"/>
                  <a:ext cx="29844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5091120" y="2352240"/>
                <a:ext cx="447840" cy="106560"/>
                <a:chOff x="5091120" y="2352240"/>
                <a:chExt cx="447840" cy="1065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5091120" y="2352600"/>
                  <a:ext cx="22392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V="1">
                  <a:off x="5315040" y="2352240"/>
                  <a:ext cx="0" cy="10620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315040" y="2458800"/>
                  <a:ext cx="22392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5091120" y="2565000"/>
                <a:ext cx="447840" cy="106560"/>
                <a:chOff x="5091120" y="2565000"/>
                <a:chExt cx="447840" cy="1065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5091120" y="2671560"/>
                  <a:ext cx="22392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V="1">
                  <a:off x="5315040" y="2565000"/>
                  <a:ext cx="0" cy="10620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315040" y="2565360"/>
                  <a:ext cx="22392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5873760" y="2493720"/>
                <a:ext cx="29844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4718160" y="2209680"/>
                <a:ext cx="372960" cy="284040"/>
                <a:chOff x="4718160" y="2209680"/>
                <a:chExt cx="372960" cy="2840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4718160" y="2209680"/>
                  <a:ext cx="23040" cy="284040"/>
                </a:xfrm>
                <a:custGeom>
                  <a:avLst/>
                  <a:gdLst/>
                  <a:ahLst/>
                  <a:rect l="l" t="t" r="r" b="b"/>
                  <a:pathLst>
                    <a:path w="48" h="576">
                      <a:moveTo>
                        <a:pt x="0" y="0"/>
                      </a:moveTo>
                      <a:cubicBezTo>
                        <a:pt x="24" y="96"/>
                        <a:pt x="48" y="192"/>
                        <a:pt x="48" y="288"/>
                      </a:cubicBezTo>
                      <a:cubicBezTo>
                        <a:pt x="48" y="384"/>
                        <a:pt x="8" y="536"/>
                        <a:pt x="0" y="576"/>
                      </a:cubicBez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718160" y="2209680"/>
                  <a:ext cx="372960" cy="141840"/>
                </a:xfrm>
                <a:custGeom>
                  <a:avLst/>
                  <a:gdLst/>
                  <a:ahLst/>
                  <a:rect l="l" t="t" r="r" b="b"/>
                  <a:pathLst>
                    <a:path w="816" h="336">
                      <a:moveTo>
                        <a:pt x="0" y="0"/>
                      </a:moveTo>
                      <a:cubicBezTo>
                        <a:pt x="244" y="44"/>
                        <a:pt x="488" y="88"/>
                        <a:pt x="624" y="144"/>
                      </a:cubicBezTo>
                      <a:cubicBezTo>
                        <a:pt x="760" y="200"/>
                        <a:pt x="788" y="268"/>
                        <a:pt x="816" y="336"/>
                      </a:cubicBez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V="1">
                  <a:off x="4718160" y="2351520"/>
                  <a:ext cx="372960" cy="141840"/>
                </a:xfrm>
                <a:custGeom>
                  <a:avLst/>
                  <a:gdLst/>
                  <a:ahLst/>
                  <a:rect l="l" t="t" r="r" b="b"/>
                  <a:pathLst>
                    <a:path w="816" h="336">
                      <a:moveTo>
                        <a:pt x="0" y="0"/>
                      </a:moveTo>
                      <a:cubicBezTo>
                        <a:pt x="244" y="44"/>
                        <a:pt x="488" y="88"/>
                        <a:pt x="624" y="144"/>
                      </a:cubicBezTo>
                      <a:cubicBezTo>
                        <a:pt x="760" y="200"/>
                        <a:pt x="788" y="268"/>
                        <a:pt x="816" y="336"/>
                      </a:cubicBez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4718160" y="2530440"/>
                <a:ext cx="372960" cy="284040"/>
                <a:chOff x="4718160" y="2530440"/>
                <a:chExt cx="372960" cy="2840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4718160" y="2530440"/>
                  <a:ext cx="23040" cy="284040"/>
                </a:xfrm>
                <a:custGeom>
                  <a:avLst/>
                  <a:gdLst/>
                  <a:ahLst/>
                  <a:rect l="l" t="t" r="r" b="b"/>
                  <a:pathLst>
                    <a:path w="48" h="576">
                      <a:moveTo>
                        <a:pt x="0" y="0"/>
                      </a:moveTo>
                      <a:cubicBezTo>
                        <a:pt x="24" y="96"/>
                        <a:pt x="48" y="192"/>
                        <a:pt x="48" y="288"/>
                      </a:cubicBezTo>
                      <a:cubicBezTo>
                        <a:pt x="48" y="384"/>
                        <a:pt x="8" y="536"/>
                        <a:pt x="0" y="576"/>
                      </a:cubicBez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718160" y="2530440"/>
                  <a:ext cx="372960" cy="141840"/>
                </a:xfrm>
                <a:custGeom>
                  <a:avLst/>
                  <a:gdLst/>
                  <a:ahLst/>
                  <a:rect l="l" t="t" r="r" b="b"/>
                  <a:pathLst>
                    <a:path w="816" h="336">
                      <a:moveTo>
                        <a:pt x="0" y="0"/>
                      </a:moveTo>
                      <a:cubicBezTo>
                        <a:pt x="244" y="44"/>
                        <a:pt x="488" y="88"/>
                        <a:pt x="624" y="144"/>
                      </a:cubicBezTo>
                      <a:cubicBezTo>
                        <a:pt x="760" y="200"/>
                        <a:pt x="788" y="268"/>
                        <a:pt x="816" y="336"/>
                      </a:cubicBez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V="1">
                  <a:off x="4718160" y="2672280"/>
                  <a:ext cx="372960" cy="141840"/>
                </a:xfrm>
                <a:custGeom>
                  <a:avLst/>
                  <a:gdLst/>
                  <a:ahLst/>
                  <a:rect l="l" t="t" r="r" b="b"/>
                  <a:pathLst>
                    <a:path w="816" h="336">
                      <a:moveTo>
                        <a:pt x="0" y="0"/>
                      </a:moveTo>
                      <a:cubicBezTo>
                        <a:pt x="244" y="44"/>
                        <a:pt x="488" y="88"/>
                        <a:pt x="624" y="144"/>
                      </a:cubicBezTo>
                      <a:cubicBezTo>
                        <a:pt x="760" y="200"/>
                        <a:pt x="788" y="268"/>
                        <a:pt x="816" y="336"/>
                      </a:cubicBez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"/>
              <p:cNvSpPr/>
              <p:nvPr/>
            </p:nvSpPr>
            <p:spPr>
              <a:xfrm>
                <a:off x="5538960" y="2387520"/>
                <a:ext cx="334800" cy="249120"/>
              </a:xfrm>
              <a:prstGeom prst="flowChartDelay">
                <a:avLst/>
              </a:prstGeom>
              <a:noFill/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419720" y="2971440"/>
              <a:ext cx="1752480" cy="604800"/>
              <a:chOff x="4419720" y="2971440"/>
              <a:chExt cx="1752480" cy="60480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4419720" y="3042720"/>
                <a:ext cx="298440" cy="141480"/>
                <a:chOff x="4419720" y="3042720"/>
                <a:chExt cx="298440" cy="1414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4419720" y="3042720"/>
                  <a:ext cx="29844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419720" y="3184200"/>
                  <a:ext cx="29844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419720" y="3363480"/>
                <a:ext cx="298440" cy="141480"/>
                <a:chOff x="4419720" y="3363480"/>
                <a:chExt cx="298440" cy="1414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419720" y="3363480"/>
                  <a:ext cx="29844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419720" y="3504960"/>
                  <a:ext cx="29844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091120" y="3114000"/>
                <a:ext cx="447840" cy="106560"/>
                <a:chOff x="5091120" y="3114000"/>
                <a:chExt cx="447840" cy="10656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91120" y="3114360"/>
                  <a:ext cx="22392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V="1">
                  <a:off x="5315040" y="3114000"/>
                  <a:ext cx="0" cy="10620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315040" y="3220560"/>
                  <a:ext cx="22392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091120" y="3326760"/>
                <a:ext cx="447840" cy="106560"/>
                <a:chOff x="5091120" y="3326760"/>
                <a:chExt cx="447840" cy="10656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5091120" y="3433320"/>
                  <a:ext cx="22392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5315040" y="3326760"/>
                  <a:ext cx="0" cy="10620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315040" y="3327120"/>
                  <a:ext cx="22392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4" name=""/>
              <p:cNvSpPr/>
              <p:nvPr/>
            </p:nvSpPr>
            <p:spPr>
              <a:xfrm>
                <a:off x="5873760" y="3255480"/>
                <a:ext cx="29844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5" name=""/>
              <p:cNvGrpSpPr/>
              <p:nvPr/>
            </p:nvGrpSpPr>
            <p:grpSpPr>
              <a:xfrm>
                <a:off x="4718160" y="2971440"/>
                <a:ext cx="372960" cy="284040"/>
                <a:chOff x="4718160" y="2971440"/>
                <a:chExt cx="372960" cy="2840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4718160" y="2971440"/>
                  <a:ext cx="23040" cy="284040"/>
                </a:xfrm>
                <a:custGeom>
                  <a:avLst/>
                  <a:gdLst/>
                  <a:ahLst/>
                  <a:rect l="l" t="t" r="r" b="b"/>
                  <a:pathLst>
                    <a:path w="48" h="576">
                      <a:moveTo>
                        <a:pt x="0" y="0"/>
                      </a:moveTo>
                      <a:cubicBezTo>
                        <a:pt x="24" y="96"/>
                        <a:pt x="48" y="192"/>
                        <a:pt x="48" y="288"/>
                      </a:cubicBezTo>
                      <a:cubicBezTo>
                        <a:pt x="48" y="384"/>
                        <a:pt x="8" y="536"/>
                        <a:pt x="0" y="576"/>
                      </a:cubicBez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718160" y="2971440"/>
                  <a:ext cx="372960" cy="141840"/>
                </a:xfrm>
                <a:custGeom>
                  <a:avLst/>
                  <a:gdLst/>
                  <a:ahLst/>
                  <a:rect l="l" t="t" r="r" b="b"/>
                  <a:pathLst>
                    <a:path w="816" h="336">
                      <a:moveTo>
                        <a:pt x="0" y="0"/>
                      </a:moveTo>
                      <a:cubicBezTo>
                        <a:pt x="244" y="44"/>
                        <a:pt x="488" y="88"/>
                        <a:pt x="624" y="144"/>
                      </a:cubicBezTo>
                      <a:cubicBezTo>
                        <a:pt x="760" y="200"/>
                        <a:pt x="788" y="268"/>
                        <a:pt x="816" y="336"/>
                      </a:cubicBez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V="1">
                  <a:off x="4718160" y="3113280"/>
                  <a:ext cx="372960" cy="141840"/>
                </a:xfrm>
                <a:custGeom>
                  <a:avLst/>
                  <a:gdLst/>
                  <a:ahLst/>
                  <a:rect l="l" t="t" r="r" b="b"/>
                  <a:pathLst>
                    <a:path w="816" h="336">
                      <a:moveTo>
                        <a:pt x="0" y="0"/>
                      </a:moveTo>
                      <a:cubicBezTo>
                        <a:pt x="244" y="44"/>
                        <a:pt x="488" y="88"/>
                        <a:pt x="624" y="144"/>
                      </a:cubicBezTo>
                      <a:cubicBezTo>
                        <a:pt x="760" y="200"/>
                        <a:pt x="788" y="268"/>
                        <a:pt x="816" y="336"/>
                      </a:cubicBez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718160" y="3292200"/>
                <a:ext cx="372960" cy="284040"/>
                <a:chOff x="4718160" y="3292200"/>
                <a:chExt cx="372960" cy="28404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4718160" y="3292200"/>
                  <a:ext cx="23040" cy="284040"/>
                </a:xfrm>
                <a:custGeom>
                  <a:avLst/>
                  <a:gdLst/>
                  <a:ahLst/>
                  <a:rect l="l" t="t" r="r" b="b"/>
                  <a:pathLst>
                    <a:path w="48" h="576">
                      <a:moveTo>
                        <a:pt x="0" y="0"/>
                      </a:moveTo>
                      <a:cubicBezTo>
                        <a:pt x="24" y="96"/>
                        <a:pt x="48" y="192"/>
                        <a:pt x="48" y="288"/>
                      </a:cubicBezTo>
                      <a:cubicBezTo>
                        <a:pt x="48" y="384"/>
                        <a:pt x="8" y="536"/>
                        <a:pt x="0" y="576"/>
                      </a:cubicBez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718160" y="3292200"/>
                  <a:ext cx="372960" cy="141840"/>
                </a:xfrm>
                <a:custGeom>
                  <a:avLst/>
                  <a:gdLst/>
                  <a:ahLst/>
                  <a:rect l="l" t="t" r="r" b="b"/>
                  <a:pathLst>
                    <a:path w="816" h="336">
                      <a:moveTo>
                        <a:pt x="0" y="0"/>
                      </a:moveTo>
                      <a:cubicBezTo>
                        <a:pt x="244" y="44"/>
                        <a:pt x="488" y="88"/>
                        <a:pt x="624" y="144"/>
                      </a:cubicBezTo>
                      <a:cubicBezTo>
                        <a:pt x="760" y="200"/>
                        <a:pt x="788" y="268"/>
                        <a:pt x="816" y="336"/>
                      </a:cubicBez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4718160" y="3434040"/>
                  <a:ext cx="372960" cy="141840"/>
                </a:xfrm>
                <a:custGeom>
                  <a:avLst/>
                  <a:gdLst/>
                  <a:ahLst/>
                  <a:rect l="l" t="t" r="r" b="b"/>
                  <a:pathLst>
                    <a:path w="816" h="336">
                      <a:moveTo>
                        <a:pt x="0" y="0"/>
                      </a:moveTo>
                      <a:cubicBezTo>
                        <a:pt x="244" y="44"/>
                        <a:pt x="488" y="88"/>
                        <a:pt x="624" y="144"/>
                      </a:cubicBezTo>
                      <a:cubicBezTo>
                        <a:pt x="760" y="200"/>
                        <a:pt x="788" y="268"/>
                        <a:pt x="816" y="336"/>
                      </a:cubicBez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5538960" y="3149280"/>
                <a:ext cx="334800" cy="249120"/>
              </a:xfrm>
              <a:prstGeom prst="flowChartDelay">
                <a:avLst/>
              </a:prstGeom>
              <a:noFill/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6095880" y="2209680"/>
            <a:ext cx="1752480" cy="1366560"/>
            <a:chOff x="6095880" y="2209680"/>
            <a:chExt cx="1752480" cy="1366560"/>
          </a:xfrm>
        </p:grpSpPr>
        <p:grpSp>
          <p:nvGrpSpPr>
            <p:cNvPr id="295" name=""/>
            <p:cNvGrpSpPr/>
            <p:nvPr/>
          </p:nvGrpSpPr>
          <p:grpSpPr>
            <a:xfrm>
              <a:off x="6095880" y="2209680"/>
              <a:ext cx="1752480" cy="604800"/>
              <a:chOff x="6095880" y="2209680"/>
              <a:chExt cx="1752480" cy="60480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6095880" y="2280960"/>
                <a:ext cx="298440" cy="141480"/>
                <a:chOff x="6095880" y="2280960"/>
                <a:chExt cx="298440" cy="14148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6095880" y="2280960"/>
                  <a:ext cx="29844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095880" y="2422440"/>
                  <a:ext cx="29844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095880" y="2601720"/>
                <a:ext cx="298440" cy="141480"/>
                <a:chOff x="6095880" y="2601720"/>
                <a:chExt cx="298440" cy="14148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095880" y="2601720"/>
                  <a:ext cx="29844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5880" y="2743200"/>
                  <a:ext cx="29844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6767280" y="2352240"/>
                <a:ext cx="447840" cy="106560"/>
                <a:chOff x="6767280" y="2352240"/>
                <a:chExt cx="447840" cy="1065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6767280" y="2352600"/>
                  <a:ext cx="22392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V="1">
                  <a:off x="6991200" y="2352240"/>
                  <a:ext cx="0" cy="10620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91200" y="2458800"/>
                  <a:ext cx="22392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67280" y="2565000"/>
                <a:ext cx="447840" cy="106560"/>
                <a:chOff x="6767280" y="2565000"/>
                <a:chExt cx="447840" cy="10656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67280" y="2671560"/>
                  <a:ext cx="22392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V="1">
                  <a:off x="6991200" y="2565000"/>
                  <a:ext cx="0" cy="10620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991200" y="2565360"/>
                  <a:ext cx="22392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7549920" y="2493720"/>
                <a:ext cx="29844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6394320" y="2209680"/>
                <a:ext cx="372960" cy="284040"/>
                <a:chOff x="6394320" y="2209680"/>
                <a:chExt cx="372960" cy="2840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6394320" y="2209680"/>
                  <a:ext cx="23040" cy="284040"/>
                </a:xfrm>
                <a:custGeom>
                  <a:avLst/>
                  <a:gdLst/>
                  <a:ahLst/>
                  <a:rect l="l" t="t" r="r" b="b"/>
                  <a:pathLst>
                    <a:path w="48" h="576">
                      <a:moveTo>
                        <a:pt x="0" y="0"/>
                      </a:moveTo>
                      <a:cubicBezTo>
                        <a:pt x="24" y="96"/>
                        <a:pt x="48" y="192"/>
                        <a:pt x="48" y="288"/>
                      </a:cubicBezTo>
                      <a:cubicBezTo>
                        <a:pt x="48" y="384"/>
                        <a:pt x="8" y="536"/>
                        <a:pt x="0" y="576"/>
                      </a:cubicBez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394320" y="2209680"/>
                  <a:ext cx="372960" cy="141840"/>
                </a:xfrm>
                <a:custGeom>
                  <a:avLst/>
                  <a:gdLst/>
                  <a:ahLst/>
                  <a:rect l="l" t="t" r="r" b="b"/>
                  <a:pathLst>
                    <a:path w="816" h="336">
                      <a:moveTo>
                        <a:pt x="0" y="0"/>
                      </a:moveTo>
                      <a:cubicBezTo>
                        <a:pt x="244" y="44"/>
                        <a:pt x="488" y="88"/>
                        <a:pt x="624" y="144"/>
                      </a:cubicBezTo>
                      <a:cubicBezTo>
                        <a:pt x="760" y="200"/>
                        <a:pt x="788" y="268"/>
                        <a:pt x="816" y="336"/>
                      </a:cubicBez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6394320" y="2351520"/>
                  <a:ext cx="372960" cy="141840"/>
                </a:xfrm>
                <a:custGeom>
                  <a:avLst/>
                  <a:gdLst/>
                  <a:ahLst/>
                  <a:rect l="l" t="t" r="r" b="b"/>
                  <a:pathLst>
                    <a:path w="816" h="336">
                      <a:moveTo>
                        <a:pt x="0" y="0"/>
                      </a:moveTo>
                      <a:cubicBezTo>
                        <a:pt x="244" y="44"/>
                        <a:pt x="488" y="88"/>
                        <a:pt x="624" y="144"/>
                      </a:cubicBezTo>
                      <a:cubicBezTo>
                        <a:pt x="760" y="200"/>
                        <a:pt x="788" y="268"/>
                        <a:pt x="816" y="336"/>
                      </a:cubicBez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394320" y="2530440"/>
                <a:ext cx="372960" cy="284040"/>
                <a:chOff x="6394320" y="2530440"/>
                <a:chExt cx="372960" cy="28404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394320" y="2530440"/>
                  <a:ext cx="23040" cy="284040"/>
                </a:xfrm>
                <a:custGeom>
                  <a:avLst/>
                  <a:gdLst/>
                  <a:ahLst/>
                  <a:rect l="l" t="t" r="r" b="b"/>
                  <a:pathLst>
                    <a:path w="48" h="576">
                      <a:moveTo>
                        <a:pt x="0" y="0"/>
                      </a:moveTo>
                      <a:cubicBezTo>
                        <a:pt x="24" y="96"/>
                        <a:pt x="48" y="192"/>
                        <a:pt x="48" y="288"/>
                      </a:cubicBezTo>
                      <a:cubicBezTo>
                        <a:pt x="48" y="384"/>
                        <a:pt x="8" y="536"/>
                        <a:pt x="0" y="576"/>
                      </a:cubicBez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394320" y="2530440"/>
                  <a:ext cx="372960" cy="141840"/>
                </a:xfrm>
                <a:custGeom>
                  <a:avLst/>
                  <a:gdLst/>
                  <a:ahLst/>
                  <a:rect l="l" t="t" r="r" b="b"/>
                  <a:pathLst>
                    <a:path w="816" h="336">
                      <a:moveTo>
                        <a:pt x="0" y="0"/>
                      </a:moveTo>
                      <a:cubicBezTo>
                        <a:pt x="244" y="44"/>
                        <a:pt x="488" y="88"/>
                        <a:pt x="624" y="144"/>
                      </a:cubicBezTo>
                      <a:cubicBezTo>
                        <a:pt x="760" y="200"/>
                        <a:pt x="788" y="268"/>
                        <a:pt x="816" y="336"/>
                      </a:cubicBez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6394320" y="2672280"/>
                  <a:ext cx="372960" cy="141840"/>
                </a:xfrm>
                <a:custGeom>
                  <a:avLst/>
                  <a:gdLst/>
                  <a:ahLst/>
                  <a:rect l="l" t="t" r="r" b="b"/>
                  <a:pathLst>
                    <a:path w="816" h="336">
                      <a:moveTo>
                        <a:pt x="0" y="0"/>
                      </a:moveTo>
                      <a:cubicBezTo>
                        <a:pt x="244" y="44"/>
                        <a:pt x="488" y="88"/>
                        <a:pt x="624" y="144"/>
                      </a:cubicBezTo>
                      <a:cubicBezTo>
                        <a:pt x="760" y="200"/>
                        <a:pt x="788" y="268"/>
                        <a:pt x="816" y="336"/>
                      </a:cubicBez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>
                <a:off x="7215120" y="2387520"/>
                <a:ext cx="334800" cy="249120"/>
              </a:xfrm>
              <a:prstGeom prst="flowChartDelay">
                <a:avLst/>
              </a:prstGeom>
              <a:noFill/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6095880" y="2971440"/>
              <a:ext cx="1752480" cy="604800"/>
              <a:chOff x="6095880" y="2971440"/>
              <a:chExt cx="1752480" cy="60480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6095880" y="3042720"/>
                <a:ext cx="298440" cy="141480"/>
                <a:chOff x="6095880" y="3042720"/>
                <a:chExt cx="298440" cy="1414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6095880" y="3042720"/>
                  <a:ext cx="29844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095880" y="3184200"/>
                  <a:ext cx="29844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6095880" y="3363480"/>
                <a:ext cx="298440" cy="141480"/>
                <a:chOff x="6095880" y="3363480"/>
                <a:chExt cx="298440" cy="1414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6095880" y="3363480"/>
                  <a:ext cx="29844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095880" y="3504960"/>
                  <a:ext cx="29844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6767280" y="3114000"/>
                <a:ext cx="447840" cy="106560"/>
                <a:chOff x="6767280" y="3114000"/>
                <a:chExt cx="447840" cy="1065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6767280" y="3114360"/>
                  <a:ext cx="22392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V="1">
                  <a:off x="6991200" y="3114000"/>
                  <a:ext cx="0" cy="10620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991200" y="3220560"/>
                  <a:ext cx="22392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67280" y="3326760"/>
                <a:ext cx="447840" cy="106560"/>
                <a:chOff x="6767280" y="3326760"/>
                <a:chExt cx="447840" cy="1065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6767280" y="3433320"/>
                  <a:ext cx="22392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V="1">
                  <a:off x="6991200" y="3326760"/>
                  <a:ext cx="0" cy="10620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991200" y="3327120"/>
                  <a:ext cx="22392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7549920" y="3255480"/>
                <a:ext cx="29844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6394320" y="2971440"/>
                <a:ext cx="372960" cy="284040"/>
                <a:chOff x="6394320" y="2971440"/>
                <a:chExt cx="372960" cy="2840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6394320" y="2971440"/>
                  <a:ext cx="23040" cy="284040"/>
                </a:xfrm>
                <a:custGeom>
                  <a:avLst/>
                  <a:gdLst/>
                  <a:ahLst/>
                  <a:rect l="l" t="t" r="r" b="b"/>
                  <a:pathLst>
                    <a:path w="48" h="576">
                      <a:moveTo>
                        <a:pt x="0" y="0"/>
                      </a:moveTo>
                      <a:cubicBezTo>
                        <a:pt x="24" y="96"/>
                        <a:pt x="48" y="192"/>
                        <a:pt x="48" y="288"/>
                      </a:cubicBezTo>
                      <a:cubicBezTo>
                        <a:pt x="48" y="384"/>
                        <a:pt x="8" y="536"/>
                        <a:pt x="0" y="576"/>
                      </a:cubicBez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394320" y="2971440"/>
                  <a:ext cx="372960" cy="141840"/>
                </a:xfrm>
                <a:custGeom>
                  <a:avLst/>
                  <a:gdLst/>
                  <a:ahLst/>
                  <a:rect l="l" t="t" r="r" b="b"/>
                  <a:pathLst>
                    <a:path w="816" h="336">
                      <a:moveTo>
                        <a:pt x="0" y="0"/>
                      </a:moveTo>
                      <a:cubicBezTo>
                        <a:pt x="244" y="44"/>
                        <a:pt x="488" y="88"/>
                        <a:pt x="624" y="144"/>
                      </a:cubicBezTo>
                      <a:cubicBezTo>
                        <a:pt x="760" y="200"/>
                        <a:pt x="788" y="268"/>
                        <a:pt x="816" y="336"/>
                      </a:cubicBez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V="1">
                  <a:off x="6394320" y="3113280"/>
                  <a:ext cx="372960" cy="141840"/>
                </a:xfrm>
                <a:custGeom>
                  <a:avLst/>
                  <a:gdLst/>
                  <a:ahLst/>
                  <a:rect l="l" t="t" r="r" b="b"/>
                  <a:pathLst>
                    <a:path w="816" h="336">
                      <a:moveTo>
                        <a:pt x="0" y="0"/>
                      </a:moveTo>
                      <a:cubicBezTo>
                        <a:pt x="244" y="44"/>
                        <a:pt x="488" y="88"/>
                        <a:pt x="624" y="144"/>
                      </a:cubicBezTo>
                      <a:cubicBezTo>
                        <a:pt x="760" y="200"/>
                        <a:pt x="788" y="268"/>
                        <a:pt x="816" y="336"/>
                      </a:cubicBez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6394320" y="3292200"/>
                <a:ext cx="372960" cy="284040"/>
                <a:chOff x="6394320" y="3292200"/>
                <a:chExt cx="372960" cy="28404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6394320" y="3292200"/>
                  <a:ext cx="23040" cy="284040"/>
                </a:xfrm>
                <a:custGeom>
                  <a:avLst/>
                  <a:gdLst/>
                  <a:ahLst/>
                  <a:rect l="l" t="t" r="r" b="b"/>
                  <a:pathLst>
                    <a:path w="48" h="576">
                      <a:moveTo>
                        <a:pt x="0" y="0"/>
                      </a:moveTo>
                      <a:cubicBezTo>
                        <a:pt x="24" y="96"/>
                        <a:pt x="48" y="192"/>
                        <a:pt x="48" y="288"/>
                      </a:cubicBezTo>
                      <a:cubicBezTo>
                        <a:pt x="48" y="384"/>
                        <a:pt x="8" y="536"/>
                        <a:pt x="0" y="576"/>
                      </a:cubicBez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394320" y="3292200"/>
                  <a:ext cx="372960" cy="141840"/>
                </a:xfrm>
                <a:custGeom>
                  <a:avLst/>
                  <a:gdLst/>
                  <a:ahLst/>
                  <a:rect l="l" t="t" r="r" b="b"/>
                  <a:pathLst>
                    <a:path w="816" h="336">
                      <a:moveTo>
                        <a:pt x="0" y="0"/>
                      </a:moveTo>
                      <a:cubicBezTo>
                        <a:pt x="244" y="44"/>
                        <a:pt x="488" y="88"/>
                        <a:pt x="624" y="144"/>
                      </a:cubicBezTo>
                      <a:cubicBezTo>
                        <a:pt x="760" y="200"/>
                        <a:pt x="788" y="268"/>
                        <a:pt x="816" y="336"/>
                      </a:cubicBez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V="1">
                  <a:off x="6394320" y="3434040"/>
                  <a:ext cx="372960" cy="141840"/>
                </a:xfrm>
                <a:custGeom>
                  <a:avLst/>
                  <a:gdLst/>
                  <a:ahLst/>
                  <a:rect l="l" t="t" r="r" b="b"/>
                  <a:pathLst>
                    <a:path w="816" h="336">
                      <a:moveTo>
                        <a:pt x="0" y="0"/>
                      </a:moveTo>
                      <a:cubicBezTo>
                        <a:pt x="244" y="44"/>
                        <a:pt x="488" y="88"/>
                        <a:pt x="624" y="144"/>
                      </a:cubicBezTo>
                      <a:cubicBezTo>
                        <a:pt x="760" y="200"/>
                        <a:pt x="788" y="268"/>
                        <a:pt x="816" y="336"/>
                      </a:cubicBez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4" name=""/>
              <p:cNvSpPr/>
              <p:nvPr/>
            </p:nvSpPr>
            <p:spPr>
              <a:xfrm>
                <a:off x="7215120" y="3149280"/>
                <a:ext cx="334800" cy="249120"/>
              </a:xfrm>
              <a:prstGeom prst="flowChartDelay">
                <a:avLst/>
              </a:prstGeom>
              <a:noFill/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5" name=""/>
          <p:cNvSpPr/>
          <p:nvPr/>
        </p:nvSpPr>
        <p:spPr>
          <a:xfrm>
            <a:off x="1600200" y="5334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oolean circuit can simulate an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tep computation of a digital computer (a Turing machi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1600200" y="914400"/>
            <a:ext cx="5950080" cy="1297800"/>
            <a:chOff x="1600200" y="914400"/>
            <a:chExt cx="5950080" cy="1297800"/>
          </a:xfrm>
        </p:grpSpPr>
        <p:sp>
          <p:nvSpPr>
            <p:cNvPr id="347" name=""/>
            <p:cNvSpPr/>
            <p:nvPr/>
          </p:nvSpPr>
          <p:spPr>
            <a:xfrm>
              <a:off x="1600200" y="1335240"/>
              <a:ext cx="379440" cy="417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932120" y="1125360"/>
              <a:ext cx="898560" cy="260640"/>
            </a:xfrm>
            <a:custGeom>
              <a:avLst/>
              <a:gdLst/>
              <a:ahLst/>
              <a:rect l="l" t="t" r="r" b="b"/>
              <a:pathLst>
                <a:path w="912" h="240">
                  <a:moveTo>
                    <a:pt x="0" y="240"/>
                  </a:moveTo>
                  <a:cubicBezTo>
                    <a:pt x="140" y="120"/>
                    <a:pt x="280" y="0"/>
                    <a:pt x="432" y="0"/>
                  </a:cubicBezTo>
                  <a:cubicBezTo>
                    <a:pt x="584" y="0"/>
                    <a:pt x="832" y="200"/>
                    <a:pt x="912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84600" y="1335240"/>
              <a:ext cx="377640" cy="417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14720" y="1125360"/>
              <a:ext cx="898560" cy="260640"/>
            </a:xfrm>
            <a:custGeom>
              <a:avLst/>
              <a:gdLst/>
              <a:ahLst/>
              <a:rect l="l" t="t" r="r" b="b"/>
              <a:pathLst>
                <a:path w="912" h="240">
                  <a:moveTo>
                    <a:pt x="0" y="240"/>
                  </a:moveTo>
                  <a:cubicBezTo>
                    <a:pt x="140" y="120"/>
                    <a:pt x="280" y="0"/>
                    <a:pt x="432" y="0"/>
                  </a:cubicBezTo>
                  <a:cubicBezTo>
                    <a:pt x="584" y="0"/>
                    <a:pt x="832" y="200"/>
                    <a:pt x="912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965400" y="1335240"/>
              <a:ext cx="379440" cy="417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34320" y="1219320"/>
              <a:ext cx="6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 . 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68640" y="927000"/>
              <a:ext cx="46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49800" y="1125360"/>
              <a:ext cx="900000" cy="260640"/>
            </a:xfrm>
            <a:custGeom>
              <a:avLst/>
              <a:gdLst/>
              <a:ahLst/>
              <a:rect l="l" t="t" r="r" b="b"/>
              <a:pathLst>
                <a:path w="912" h="240">
                  <a:moveTo>
                    <a:pt x="0" y="240"/>
                  </a:moveTo>
                  <a:cubicBezTo>
                    <a:pt x="140" y="120"/>
                    <a:pt x="280" y="0"/>
                    <a:pt x="432" y="0"/>
                  </a:cubicBezTo>
                  <a:cubicBezTo>
                    <a:pt x="584" y="0"/>
                    <a:pt x="832" y="200"/>
                    <a:pt x="912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02280" y="1335240"/>
              <a:ext cx="377640" cy="417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348000" y="914400"/>
              <a:ext cx="46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452840" y="914400"/>
              <a:ext cx="46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28800" y="1752480"/>
              <a:ext cx="2286000" cy="457200"/>
            </a:xfrm>
            <a:custGeom>
              <a:avLst/>
              <a:gdLst/>
              <a:ahLst/>
              <a:rect l="l" t="t" r="r" b="b"/>
              <a:pathLst>
                <a:path w="1440" h="288">
                  <a:moveTo>
                    <a:pt x="0" y="0"/>
                  </a:moveTo>
                  <a:cubicBezTo>
                    <a:pt x="312" y="144"/>
                    <a:pt x="624" y="288"/>
                    <a:pt x="864" y="288"/>
                  </a:cubicBezTo>
                  <a:cubicBezTo>
                    <a:pt x="1104" y="288"/>
                    <a:pt x="1272" y="144"/>
                    <a:pt x="1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48120" y="190512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$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86400" y="1187280"/>
              <a:ext cx="900000" cy="260640"/>
            </a:xfrm>
            <a:custGeom>
              <a:avLst/>
              <a:gdLst/>
              <a:ahLst/>
              <a:rect l="l" t="t" r="r" b="b"/>
              <a:pathLst>
                <a:path w="912" h="240">
                  <a:moveTo>
                    <a:pt x="0" y="240"/>
                  </a:moveTo>
                  <a:cubicBezTo>
                    <a:pt x="140" y="120"/>
                    <a:pt x="280" y="0"/>
                    <a:pt x="432" y="0"/>
                  </a:cubicBezTo>
                  <a:cubicBezTo>
                    <a:pt x="584" y="0"/>
                    <a:pt x="832" y="200"/>
                    <a:pt x="912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689440" y="976320"/>
              <a:ext cx="46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00800" y="1335240"/>
              <a:ext cx="378000" cy="417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1600200" y="76320"/>
            <a:ext cx="7086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Expressing “anything” with S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600200" y="2133720"/>
            <a:ext cx="7315200" cy="1600200"/>
            <a:chOff x="1600200" y="2133720"/>
            <a:chExt cx="7315200" cy="1600200"/>
          </a:xfrm>
        </p:grpSpPr>
        <p:grpSp>
          <p:nvGrpSpPr>
            <p:cNvPr id="365" name=""/>
            <p:cNvGrpSpPr/>
            <p:nvPr/>
          </p:nvGrpSpPr>
          <p:grpSpPr>
            <a:xfrm>
              <a:off x="1600200" y="2133720"/>
              <a:ext cx="7315200" cy="1600200"/>
              <a:chOff x="1600200" y="2133720"/>
              <a:chExt cx="7315200" cy="160020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1600200" y="2438280"/>
                <a:ext cx="4495320" cy="838080"/>
                <a:chOff x="1600200" y="2438280"/>
                <a:chExt cx="4495320" cy="83808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1600200" y="2858760"/>
                  <a:ext cx="379080" cy="417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931400" y="2649600"/>
                  <a:ext cx="898200" cy="260280"/>
                </a:xfrm>
                <a:custGeom>
                  <a:avLst/>
                  <a:gdLst/>
                  <a:ahLst/>
                  <a:rect l="l" t="t" r="r" b="b"/>
                  <a:pathLst>
                    <a:path w="912" h="240">
                      <a:moveTo>
                        <a:pt x="0" y="240"/>
                      </a:moveTo>
                      <a:cubicBezTo>
                        <a:pt x="140" y="120"/>
                        <a:pt x="280" y="0"/>
                        <a:pt x="432" y="0"/>
                      </a:cubicBezTo>
                      <a:cubicBezTo>
                        <a:pt x="584" y="0"/>
                        <a:pt x="832" y="200"/>
                        <a:pt x="912" y="2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783880" y="2858760"/>
                  <a:ext cx="377280" cy="417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3114000" y="2649600"/>
                  <a:ext cx="899640" cy="260280"/>
                </a:xfrm>
                <a:custGeom>
                  <a:avLst/>
                  <a:gdLst/>
                  <a:ahLst/>
                  <a:rect l="l" t="t" r="r" b="b"/>
                  <a:pathLst>
                    <a:path w="912" h="240">
                      <a:moveTo>
                        <a:pt x="0" y="240"/>
                      </a:moveTo>
                      <a:cubicBezTo>
                        <a:pt x="140" y="120"/>
                        <a:pt x="280" y="0"/>
                        <a:pt x="432" y="0"/>
                      </a:cubicBezTo>
                      <a:cubicBezTo>
                        <a:pt x="584" y="0"/>
                        <a:pt x="832" y="200"/>
                        <a:pt x="912" y="2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3966120" y="2858760"/>
                  <a:ext cx="379080" cy="417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479920" y="2805840"/>
                  <a:ext cx="615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. . .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167920" y="2450880"/>
                  <a:ext cx="463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0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250160" y="2649600"/>
                  <a:ext cx="899640" cy="260280"/>
                </a:xfrm>
                <a:custGeom>
                  <a:avLst/>
                  <a:gdLst/>
                  <a:ahLst/>
                  <a:rect l="l" t="t" r="r" b="b"/>
                  <a:pathLst>
                    <a:path w="912" h="240">
                      <a:moveTo>
                        <a:pt x="0" y="240"/>
                      </a:moveTo>
                      <a:cubicBezTo>
                        <a:pt x="140" y="120"/>
                        <a:pt x="280" y="0"/>
                        <a:pt x="432" y="0"/>
                      </a:cubicBezTo>
                      <a:cubicBezTo>
                        <a:pt x="584" y="0"/>
                        <a:pt x="832" y="200"/>
                        <a:pt x="912" y="2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102280" y="2858760"/>
                  <a:ext cx="377640" cy="417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347280" y="2438280"/>
                  <a:ext cx="463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0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4452840" y="2438280"/>
                  <a:ext cx="463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0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6095880" y="2133720"/>
                <a:ext cx="2819520" cy="1600200"/>
                <a:chOff x="6095880" y="2133720"/>
                <a:chExt cx="2819520" cy="160020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7162560" y="2133720"/>
                  <a:ext cx="990720" cy="1600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Boolean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ircuit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(don’t hav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emory!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400800" y="2971800"/>
                  <a:ext cx="7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400800" y="3505320"/>
                  <a:ext cx="7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476760" y="2362320"/>
                  <a:ext cx="64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095880" y="2209680"/>
                  <a:ext cx="609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0</a:t>
                  </a: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8153280" y="2895480"/>
                  <a:ext cx="762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095880" y="2743200"/>
                  <a:ext cx="609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0</a:t>
                  </a: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095880" y="3276720"/>
                  <a:ext cx="609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0</a:t>
                  </a: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7" name=""/>
            <p:cNvSpPr/>
            <p:nvPr/>
          </p:nvSpPr>
          <p:spPr>
            <a:xfrm>
              <a:off x="6553080" y="213372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(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553080" y="274320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(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3080" y="327672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(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600200" y="3886200"/>
            <a:ext cx="7315200" cy="1676160"/>
            <a:chOff x="1600200" y="3886200"/>
            <a:chExt cx="7315200" cy="1676160"/>
          </a:xfrm>
        </p:grpSpPr>
        <p:grpSp>
          <p:nvGrpSpPr>
            <p:cNvPr id="391" name=""/>
            <p:cNvGrpSpPr/>
            <p:nvPr/>
          </p:nvGrpSpPr>
          <p:grpSpPr>
            <a:xfrm>
              <a:off x="1600200" y="3886200"/>
              <a:ext cx="7315200" cy="1676160"/>
              <a:chOff x="1600200" y="3886200"/>
              <a:chExt cx="7315200" cy="167616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6095880" y="3962160"/>
                <a:ext cx="2819520" cy="1600200"/>
                <a:chOff x="6095880" y="3962160"/>
                <a:chExt cx="2819520" cy="160020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7162560" y="3962160"/>
                  <a:ext cx="990720" cy="1600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Boolean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ircuits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(don’t hav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emory!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400800" y="4800240"/>
                  <a:ext cx="7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400800" y="5333760"/>
                  <a:ext cx="7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476760" y="4266720"/>
                  <a:ext cx="64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095880" y="4038120"/>
                  <a:ext cx="609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$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8153280" y="4723920"/>
                  <a:ext cx="762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095880" y="4571640"/>
                  <a:ext cx="609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0</a:t>
                  </a: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095880" y="5105160"/>
                  <a:ext cx="609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0</a:t>
                  </a: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1600200" y="3886200"/>
                <a:ext cx="4343400" cy="838080"/>
                <a:chOff x="1600200" y="3886200"/>
                <a:chExt cx="4343400" cy="83808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1600200" y="4306680"/>
                  <a:ext cx="379440" cy="417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973520" y="4084560"/>
                  <a:ext cx="898560" cy="260280"/>
                </a:xfrm>
                <a:custGeom>
                  <a:avLst/>
                  <a:gdLst/>
                  <a:ahLst/>
                  <a:rect l="l" t="t" r="r" b="b"/>
                  <a:pathLst>
                    <a:path w="912" h="240">
                      <a:moveTo>
                        <a:pt x="0" y="240"/>
                      </a:moveTo>
                      <a:cubicBezTo>
                        <a:pt x="140" y="120"/>
                        <a:pt x="280" y="0"/>
                        <a:pt x="432" y="0"/>
                      </a:cubicBezTo>
                      <a:cubicBezTo>
                        <a:pt x="584" y="0"/>
                        <a:pt x="832" y="200"/>
                        <a:pt x="912" y="2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819520" y="4306680"/>
                  <a:ext cx="379440" cy="417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327640" y="4190760"/>
                  <a:ext cx="615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. . .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210040" y="3886200"/>
                  <a:ext cx="4633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$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3103560" y="4097160"/>
                  <a:ext cx="900360" cy="260280"/>
                </a:xfrm>
                <a:custGeom>
                  <a:avLst/>
                  <a:gdLst/>
                  <a:ahLst/>
                  <a:rect l="l" t="t" r="r" b="b"/>
                  <a:pathLst>
                    <a:path w="912" h="240">
                      <a:moveTo>
                        <a:pt x="0" y="240"/>
                      </a:moveTo>
                      <a:cubicBezTo>
                        <a:pt x="140" y="120"/>
                        <a:pt x="280" y="0"/>
                        <a:pt x="432" y="0"/>
                      </a:cubicBezTo>
                      <a:cubicBezTo>
                        <a:pt x="584" y="0"/>
                        <a:pt x="832" y="200"/>
                        <a:pt x="912" y="2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956040" y="4306680"/>
                  <a:ext cx="378000" cy="417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3306960" y="3886200"/>
                  <a:ext cx="4633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0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179960" y="4097160"/>
                  <a:ext cx="900000" cy="260280"/>
                </a:xfrm>
                <a:custGeom>
                  <a:avLst/>
                  <a:gdLst/>
                  <a:ahLst/>
                  <a:rect l="l" t="t" r="r" b="b"/>
                  <a:pathLst>
                    <a:path w="912" h="240">
                      <a:moveTo>
                        <a:pt x="0" y="240"/>
                      </a:moveTo>
                      <a:cubicBezTo>
                        <a:pt x="140" y="120"/>
                        <a:pt x="280" y="0"/>
                        <a:pt x="432" y="0"/>
                      </a:cubicBezTo>
                      <a:cubicBezTo>
                        <a:pt x="584" y="0"/>
                        <a:pt x="832" y="200"/>
                        <a:pt x="912" y="2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5032440" y="4306680"/>
                  <a:ext cx="378000" cy="417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383360" y="3886200"/>
                  <a:ext cx="4633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0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3" name=""/>
            <p:cNvSpPr/>
            <p:nvPr/>
          </p:nvSpPr>
          <p:spPr>
            <a:xfrm>
              <a:off x="6553080" y="457200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(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53080" y="510552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(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53080" y="403848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1676520" y="5956200"/>
            <a:ext cx="723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Though, in general, sequential machines can’t be modelled by Boolean circuits (alone), trajectories (of such sequential machines) of a given length can be modelled using Boolean circuits: each (distinct) trajectory will then correspond to an “input combination” of 0s and 1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00200" y="49528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utomata modelling a vending machine with 50c and $1 inpu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600200" y="76320"/>
            <a:ext cx="7543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A different approach to invert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2666880" y="762120"/>
            <a:ext cx="6477120" cy="2730240"/>
            <a:chOff x="2666880" y="762120"/>
            <a:chExt cx="6477120" cy="2730240"/>
          </a:xfrm>
        </p:grpSpPr>
        <p:grpSp>
          <p:nvGrpSpPr>
            <p:cNvPr id="420" name=""/>
            <p:cNvGrpSpPr/>
            <p:nvPr/>
          </p:nvGrpSpPr>
          <p:grpSpPr>
            <a:xfrm>
              <a:off x="2666880" y="762120"/>
              <a:ext cx="4179960" cy="2324160"/>
              <a:chOff x="2666880" y="762120"/>
              <a:chExt cx="4179960" cy="2324160"/>
            </a:xfrm>
          </p:grpSpPr>
          <p:pic>
            <p:nvPicPr>
              <p:cNvPr id="42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666880" y="914400"/>
                <a:ext cx="3160800" cy="217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105520" y="762120"/>
                <a:ext cx="1741320" cy="2228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3" name=""/>
            <p:cNvSpPr/>
            <p:nvPr/>
          </p:nvSpPr>
          <p:spPr>
            <a:xfrm>
              <a:off x="4876920" y="3124080"/>
              <a:ext cx="42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Set up inputs and observe outpu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1600200" y="3295800"/>
            <a:ext cx="7543800" cy="3485880"/>
            <a:chOff x="1600200" y="3295800"/>
            <a:chExt cx="7543800" cy="3485880"/>
          </a:xfrm>
        </p:grpSpPr>
        <p:grpSp>
          <p:nvGrpSpPr>
            <p:cNvPr id="425" name=""/>
            <p:cNvGrpSpPr/>
            <p:nvPr/>
          </p:nvGrpSpPr>
          <p:grpSpPr>
            <a:xfrm>
              <a:off x="1600200" y="3295800"/>
              <a:ext cx="3835440" cy="3485880"/>
              <a:chOff x="1600200" y="3295800"/>
              <a:chExt cx="3835440" cy="3485880"/>
            </a:xfrm>
          </p:grpSpPr>
          <p:pic>
            <p:nvPicPr>
              <p:cNvPr id="42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00200" y="3295800"/>
                <a:ext cx="1741320" cy="222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274840" y="4610160"/>
                <a:ext cx="3160800" cy="2171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8" name=""/>
            <p:cNvSpPr/>
            <p:nvPr/>
          </p:nvSpPr>
          <p:spPr>
            <a:xfrm>
              <a:off x="3722760" y="4191120"/>
              <a:ext cx="54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Can we set up the “output” and maneuver “input” setting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1523880" y="76320"/>
            <a:ext cx="7391520" cy="9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Bilateral computing de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- AND, 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600200" y="5119560"/>
            <a:ext cx="7238880" cy="1282680"/>
            <a:chOff x="1600200" y="5119560"/>
            <a:chExt cx="7238880" cy="1282680"/>
          </a:xfrm>
        </p:grpSpPr>
        <p:sp>
          <p:nvSpPr>
            <p:cNvPr id="431" name=""/>
            <p:cNvSpPr/>
            <p:nvPr/>
          </p:nvSpPr>
          <p:spPr>
            <a:xfrm>
              <a:off x="1600200" y="5119560"/>
              <a:ext cx="5867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Inputs (us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 Narrow"/>
                </a:rPr>
                <a:t>weight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): “push” = 1; “no-push” =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Outputs (use flui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 Narrow"/>
                </a:rPr>
                <a:t>leve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): “up” = 1;  “down” =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00200" y="6033960"/>
              <a:ext cx="723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No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: AND gates use a higher threshold (liquid-level) for signaling a 1-outpu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057400" y="1081080"/>
            <a:ext cx="2361960" cy="3906360"/>
            <a:chOff x="2057400" y="1081080"/>
            <a:chExt cx="2361960" cy="3906360"/>
          </a:xfrm>
        </p:grpSpPr>
        <p:grpSp>
          <p:nvGrpSpPr>
            <p:cNvPr id="434" name=""/>
            <p:cNvGrpSpPr/>
            <p:nvPr/>
          </p:nvGrpSpPr>
          <p:grpSpPr>
            <a:xfrm>
              <a:off x="2057400" y="1081080"/>
              <a:ext cx="2361960" cy="2197080"/>
              <a:chOff x="2057400" y="1081080"/>
              <a:chExt cx="2361960" cy="2197080"/>
            </a:xfrm>
          </p:grpSpPr>
          <p:grpSp>
            <p:nvGrpSpPr>
              <p:cNvPr id="435" name=""/>
              <p:cNvGrpSpPr/>
              <p:nvPr/>
            </p:nvGrpSpPr>
            <p:grpSpPr>
              <a:xfrm>
                <a:off x="3733920" y="1843200"/>
                <a:ext cx="380880" cy="761400"/>
                <a:chOff x="3733920" y="1843200"/>
                <a:chExt cx="380880" cy="76140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3733920" y="2528640"/>
                  <a:ext cx="380880" cy="75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886200" y="1843200"/>
                  <a:ext cx="76320" cy="685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2286000" y="1538280"/>
                <a:ext cx="380880" cy="762120"/>
                <a:chOff x="2286000" y="1538280"/>
                <a:chExt cx="380880" cy="762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2286000" y="2224080"/>
                  <a:ext cx="380880" cy="76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438280" y="1538280"/>
                  <a:ext cx="76320" cy="685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"/>
              <p:cNvSpPr/>
              <p:nvPr/>
            </p:nvSpPr>
            <p:spPr>
              <a:xfrm>
                <a:off x="3352680" y="1081080"/>
                <a:ext cx="381240" cy="914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16200000">
                <a:off x="2781360" y="1500120"/>
                <a:ext cx="914400" cy="1905120"/>
              </a:xfrm>
              <a:custGeom>
                <a:avLst/>
                <a:gdLst>
                  <a:gd name="textAreaLeft" fmla="*/ 268920 w 914400"/>
                  <a:gd name="textAreaRight" fmla="*/ 914760 w 914400"/>
                  <a:gd name="textAreaTop" fmla="*/ 79200 h 1905120"/>
                  <a:gd name="textAreaBottom" fmla="*/ 182592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6200000">
                <a:off x="2971440" y="1690560"/>
                <a:ext cx="533520" cy="1143000"/>
              </a:xfrm>
              <a:custGeom>
                <a:avLst/>
                <a:gdLst>
                  <a:gd name="textAreaLeft" fmla="*/ 156600 w 533520"/>
                  <a:gd name="textAreaRight" fmla="*/ 533880 w 533520"/>
                  <a:gd name="textAreaTop" fmla="*/ 47520 h 1143000"/>
                  <a:gd name="textAreaBottom" fmla="*/ 109548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286000" y="1919160"/>
                <a:ext cx="380880" cy="152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809880" y="1919160"/>
                <a:ext cx="381240" cy="152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3048120" y="1919160"/>
                <a:ext cx="30456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3505320" y="1919160"/>
                <a:ext cx="22860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286000" y="2376360"/>
                <a:ext cx="3808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33920" y="2604960"/>
                <a:ext cx="3808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352680" y="1614600"/>
                <a:ext cx="3812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362320" y="2529000"/>
                <a:ext cx="3808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362320" y="2681280"/>
                <a:ext cx="17524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438280" y="2833560"/>
                <a:ext cx="16002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352680" y="1766880"/>
                <a:ext cx="3812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276720" y="2071800"/>
                <a:ext cx="3808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200400" y="2224080"/>
                <a:ext cx="3808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124080" y="2452680"/>
                <a:ext cx="3812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666880" y="2909880"/>
                <a:ext cx="129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Narrow"/>
                  </a:rPr>
                  <a:t>OR g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057400" y="237636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4190760" y="237636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3733560" y="169056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2743200" y="3352680"/>
              <a:ext cx="1447920" cy="16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Arial Narrow"/>
                  <a:ea typeface="Arial"/>
                </a:rPr>
                <a:t>a    b      a + 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0    0           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1    0          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0    1          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1    1          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5257800" y="1081080"/>
            <a:ext cx="2361960" cy="3849480"/>
            <a:chOff x="5257800" y="1081080"/>
            <a:chExt cx="2361960" cy="3849480"/>
          </a:xfrm>
        </p:grpSpPr>
        <p:grpSp>
          <p:nvGrpSpPr>
            <p:cNvPr id="464" name=""/>
            <p:cNvGrpSpPr/>
            <p:nvPr/>
          </p:nvGrpSpPr>
          <p:grpSpPr>
            <a:xfrm>
              <a:off x="5257800" y="1081080"/>
              <a:ext cx="2361960" cy="2197080"/>
              <a:chOff x="5257800" y="1081080"/>
              <a:chExt cx="2361960" cy="2197080"/>
            </a:xfrm>
          </p:grpSpPr>
          <p:grpSp>
            <p:nvGrpSpPr>
              <p:cNvPr id="465" name=""/>
              <p:cNvGrpSpPr/>
              <p:nvPr/>
            </p:nvGrpSpPr>
            <p:grpSpPr>
              <a:xfrm>
                <a:off x="6934320" y="1843200"/>
                <a:ext cx="380880" cy="761400"/>
                <a:chOff x="6934320" y="1843200"/>
                <a:chExt cx="380880" cy="76140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6934320" y="2528640"/>
                  <a:ext cx="380880" cy="75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086600" y="1843200"/>
                  <a:ext cx="76320" cy="685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5562720" y="1843200"/>
                <a:ext cx="380880" cy="761400"/>
                <a:chOff x="5562720" y="1843200"/>
                <a:chExt cx="380880" cy="76140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5562720" y="2528640"/>
                  <a:ext cx="380880" cy="75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715000" y="1843200"/>
                  <a:ext cx="76320" cy="685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"/>
              <p:cNvSpPr/>
              <p:nvPr/>
            </p:nvSpPr>
            <p:spPr>
              <a:xfrm>
                <a:off x="6553080" y="1081080"/>
                <a:ext cx="381240" cy="914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16200000">
                <a:off x="5981760" y="1500120"/>
                <a:ext cx="914400" cy="1905120"/>
              </a:xfrm>
              <a:custGeom>
                <a:avLst/>
                <a:gdLst>
                  <a:gd name="textAreaLeft" fmla="*/ 268920 w 914400"/>
                  <a:gd name="textAreaRight" fmla="*/ 914760 w 914400"/>
                  <a:gd name="textAreaTop" fmla="*/ 79200 h 1905120"/>
                  <a:gd name="textAreaBottom" fmla="*/ 182592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16200000">
                <a:off x="6171840" y="1690560"/>
                <a:ext cx="533520" cy="1143000"/>
              </a:xfrm>
              <a:custGeom>
                <a:avLst/>
                <a:gdLst>
                  <a:gd name="textAreaLeft" fmla="*/ 156600 w 533520"/>
                  <a:gd name="textAreaRight" fmla="*/ 533880 w 533520"/>
                  <a:gd name="textAreaTop" fmla="*/ 47520 h 1143000"/>
                  <a:gd name="textAreaBottom" fmla="*/ 109548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486400" y="1919160"/>
                <a:ext cx="380880" cy="152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010280" y="1919160"/>
                <a:ext cx="381240" cy="152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6248520" y="1919160"/>
                <a:ext cx="30456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6705720" y="1919160"/>
                <a:ext cx="22860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553080" y="1386000"/>
                <a:ext cx="3812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553080" y="1538280"/>
                <a:ext cx="3812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553080" y="1690560"/>
                <a:ext cx="3812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553080" y="1843200"/>
                <a:ext cx="3812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553080" y="1995480"/>
                <a:ext cx="3812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477120" y="2147760"/>
                <a:ext cx="3808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400800" y="2300400"/>
                <a:ext cx="3808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324480" y="2452680"/>
                <a:ext cx="3812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562720" y="2681280"/>
                <a:ext cx="17524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638680" y="2833560"/>
                <a:ext cx="16002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867280" y="2909880"/>
                <a:ext cx="129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Narrow"/>
                  </a:rPr>
                  <a:t>AND g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257800" y="237636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7391160" y="237636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6933960" y="146196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5867280" y="3295800"/>
              <a:ext cx="1219320" cy="16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Arial Narrow"/>
                  <a:ea typeface="Arial"/>
                </a:rPr>
                <a:t>a    b       a.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0    0           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1    0           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0    1           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1    1          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04:03:52Z</dcterms:created>
  <dc:creator>Joshua Arulanandham</dc:creator>
  <dc:description/>
  <dc:language>en-US</dc:language>
  <cp:lastModifiedBy>Joshua Arulanandham</cp:lastModifiedBy>
  <dcterms:modified xsi:type="dcterms:W3CDTF">2004-03-08T04:47:47Z</dcterms:modified>
  <cp:revision>86</cp:revision>
  <dc:subject/>
  <dc:title>Slide 1</dc:title>
</cp:coreProperties>
</file>